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42.png" ContentType="image/png"/>
  <Override PartName="/ppt/media/image28.png" ContentType="image/png"/>
  <Override PartName="/ppt/media/image3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41.png" ContentType="image/png"/>
  <Override PartName="/ppt/media/image48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4" y="0"/>
                </a:moveTo>
                <a:arcTo wR="4" hR="4" stAng="16200000" swAng="-5400000"/>
                <a:lnTo>
                  <a:pt x="0" y="31121"/>
                </a:lnTo>
                <a:arcTo wR="4" hR="4" stAng="10800000" swAng="-5400000"/>
                <a:lnTo>
                  <a:pt x="21596" y="3112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dt" idx="25"/>
          </p:nvPr>
        </p:nvSpPr>
        <p:spPr>
          <a:xfrm>
            <a:off x="40244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995040" y="768240"/>
            <a:ext cx="51116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152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6"/>
          </p:nvPr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95223-0B72-4B65-BC00-6000980C3F5E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DA958-B80F-4437-AB72-08973359DB9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entation slide for courses, classes, lectures et 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F41767-2356-48CD-8BCB-0B83F9E599F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EAB87-4AD1-42BF-B038-F33594283D9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718ADB-57D1-4D8D-AD70-D238EF9AB92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F6700-8F18-426A-8558-2C8FE3B1B72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5ED430-8BC8-4530-BF3E-1F7A5EB1774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55292-9CDC-4C54-ABE7-C1EACA738EF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B7BD78-D9A8-489E-9188-0CBBECB1CA3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12DBC-0E5B-46B8-95E6-1006C7D678D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5B6120-8E60-4DCC-893D-6829C24988B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A7A3D-592D-44A1-B70A-7481367B6F4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B597D8-5662-4C85-8210-5C41036DFB0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73E7B-BF3C-4F0D-BA34-144A4E865F7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1D40B-C74A-4CB4-82C8-7447B64E8F3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29A76-AFC2-4169-B894-10947FD5C4D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78A58-F545-4E5A-9FFB-9F0B0DD7CC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F524E-79E9-4B0A-9AE9-5A36D055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40F84-AD56-4F3E-BC60-BACDAC9F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CA4C3-3078-4E15-B118-FA19AE5A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78C2B-BBFD-48C2-839B-819B2161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C39B3-2C13-41F6-8323-9119EE81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A3A20-C853-465C-AA66-007A5356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0CFFC-E063-4A37-B4CF-B387D62F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05A97-F2F9-40E5-B1F7-7BB51BF6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A2C38-6629-4A15-A85F-F0E0EAC4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EA1B9-94A6-4EC8-9695-6A5D410FFE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57D59A-25F1-44C6-A451-DE8EB1C6B2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8099B-ACBD-4797-B612-F9AFCE42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F8361-A0CA-4443-9E47-B127E6FE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D9E9A2-B5E6-4BFD-A34E-0A8F40F2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A2BB87-C1D7-46F1-A9EB-A6CC1DB1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C6F339-230C-490E-BD9C-7C014975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8B6003-0D55-4E56-92E2-54D7B9DE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A85FDD-732D-47CF-8838-50C312EA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0680A-CDA5-4F86-9787-DDC83A20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47BEF6-A21D-458C-8BBE-F9E697BA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E42228-04E7-4D84-81B0-F0758A83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A3FBED-FA0E-4A9A-A72C-5A9E8257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4675B-ACB4-4B1C-A4B9-8F8B5728C1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0FB9A7-33F2-4B08-A0BC-8ABD7311C7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EC7A84-1FE6-4C50-85F9-AB5F5693AA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EBD13F-5632-4628-8C31-F0E480F2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FE4848-97DF-419F-BA4E-07C4FDE0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186938-EAC4-429A-A46B-C6467869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2348DC-4A75-4566-9451-7686FC01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A4A71D-D235-4EEF-A363-01999292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7F4CE7-E16B-4023-8702-05C374CD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43DE68-DC23-4384-A928-B7D44E53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07FE61-7C21-45C3-B067-D9C26E38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77675-E42B-4F64-951D-6E7724AB57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D2CF64-3F17-4B44-A37A-67188AA4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2D1015-44B9-46D1-A5ED-03F46B37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4B9671-3515-4BB1-99DD-C5CCFED4E9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9F3E8-CC44-4E46-AF64-4594E1459E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E2BB0-7D4D-4914-ABDC-C0FF21FF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8042E-D78C-4F2E-8522-866E6D13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44505-F0B9-48F0-8909-42976D37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B001C-1FCC-447B-94F1-8ED2BEAB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07367-85E5-46AD-97F3-06C0B487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062C8-EDED-4FE6-BD0C-EFF8739A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0261B-48D1-4689-939B-887217A0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58A34-A520-4522-B640-4A76F262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39303-8919-4E19-9314-35BB40CD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BB6A5-682D-451A-9DC5-F65E5C58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86727-BD26-404B-B092-7916104B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FDDC4-0158-493C-88AB-5BAB9D7A47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6E426-1719-4060-9421-BF360E49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C12BA-7CC0-4F99-B0E0-6C41C73C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50711-10D6-4A75-9AD0-8311EE6A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56969-3910-48AF-A69D-12903FC1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3538E-1FB5-4302-BABB-9F38609C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653C1-5C07-478D-B52B-15CE1D41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65A8E-975B-458D-A717-ECB05FFE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39BD9-5AD6-40A3-BE88-76AFEE81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9FA26-C339-4A38-A9B4-1A3D5F81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9A64B-66E0-421D-8A45-4E36E607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09C67-0904-4F1B-BDF2-51687C3465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3C54-FD4D-40E7-866D-75BEF8565E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1C3F-D8FC-4887-9731-5536A63E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216C-62BE-44CC-99EC-98BA9CBE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9907-58C6-4A1D-BFB6-C16E2AB1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0B8C-1175-4EEA-A703-2202E850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3F661-A777-4470-ACE7-D90F83F8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609F-6977-4EE9-80DB-6B40AE28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DC1D-C82F-4AA0-83BF-6B9D1567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9210-8ECD-49FA-9C90-49EB6D1A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1F35-345A-4E88-87D2-C2E9213C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8E67-C704-4365-89A0-A16FAE99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E1B1-3D06-4550-AF81-F2F83B32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24B3-EAF0-4E7A-BBE9-32F247666E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36D64-007C-4477-9934-C3782BA22A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4E31B-6420-46CC-A753-34DC9D66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539D9-53C0-4134-82C5-53124C7D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269FA-6B08-4FF6-9DC8-914DE628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05EB3-63BA-4201-BD04-D7A664D2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E3B7F-8A6B-42CA-9EC9-B1D9DBD3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EB4A4-02A2-47B5-802F-3D4014F5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03025-B6A3-4705-A9A0-F0D47BD5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662E6-C87B-4E1C-9749-B3AC9B90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DDFC95-D90F-4338-91B4-1F97BB58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BD39A-F993-4C11-B568-FA86029E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42352-F545-46B3-83BE-5CF76DD2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798F7-B5A3-41C4-9FD5-01736A4A03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B5B6E3-F3F1-491A-A069-C569CF7943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23DD5-77B5-4359-9616-D4108568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CA5AAA-22ED-479B-9768-D72A8E1B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8C7FB3-3334-4D27-9F1F-D1EA2C40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230DED-F6DC-4FA0-AAE0-C270EDC9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0EE369-C645-457F-8A14-2A46893B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9C9E50-D7B0-4288-BE80-D0081BA9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A70AB7-6527-43E5-A504-B57DA34C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65E77B-544E-486A-BB16-99B179A3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9915CC-8378-495C-B1F8-31F5F219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EAAA74-D0D9-4E9E-B6A3-3102E6EE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B15AF1-F973-4496-8474-B5AB9E67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0582B-FCB5-4719-A6D6-7A1B6B8E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F05B78-F5C9-4033-96E9-563C280862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18587-4101-401D-BB40-A68B01294C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1E1D0-C82C-4EBC-845B-57614303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19BB1-B8E2-4654-9264-1987C1DA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31841-B2D1-4FE5-8D74-67676FC6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73FD0-364B-4842-ABA6-6D68441D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FFF7D-FFF9-4D97-8DF9-9D1138E0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94785-92E6-4FCF-98D0-67155671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2FF1C-C23F-4676-A8A9-7C0C5079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013E8-1B7C-4050-92DA-2B00F92C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AAD4A-F83F-4AAB-B696-422FC294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EE16C-10F1-4705-82A2-95294E50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83396-52FA-47EF-A4D0-BA1AD403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B1500-DE0B-4B8B-A4FB-7FB7F1DC27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512A4A-3C7B-4CC9-8558-AE4AFB78FF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2A3866-D80B-4343-ABBA-08AE8B30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FE40B5-1609-4EE3-9787-F46DDB5E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6DD5BC-16FF-44EE-9ED9-8BC26BDC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635C65-B6A1-49D7-A2F4-35EB20F0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7CDB80-587D-40A0-AD13-5E4CDB76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90DA83-0B26-4E25-AC6C-59866C3A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4BCCF-B362-4D62-A472-936A717D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72129F-95C6-4C71-9721-2574EC80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5AB5E6-C63B-4856-AB04-A75923B8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128BA-5548-4D0B-BD14-3508D7EA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46041-B738-4468-8594-3337DA33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97BAD-3F66-4F01-96B3-EAE3E2FCE8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9785FC-F4A5-4F3C-98C2-6F9504C41B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985064-518B-4154-91AD-0AE75826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3F34FB-EE35-4584-8EF5-BD0C11B4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95E094-7F0A-4CAC-A509-293C4FDA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CF4934-0E7B-4E5D-9B9F-7E621061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FEE9D-EEB8-40B8-9A07-B840EC36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8BDE55-B3D9-44B5-BD8A-B55A6D52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F1E6DF-207D-4FA1-8FCD-25DC5330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63021A-518A-451A-BB0B-55DCAED6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F4E8A4-2022-4172-AD24-8D50B1EA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592043-CA0E-4334-B9C7-17EC1A76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6F1D27-6D95-4360-8724-F14BECD1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3A6D87-CEBF-4642-8B17-1B41AEFCCC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80B38-101F-4C16-BEE9-54BF95742B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3C45F-B13B-471E-84D9-A532FD78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D6F03-1FCD-4717-9B0A-D4D13A4E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880" y="6246360"/>
            <a:ext cx="266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1/30/13 09: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09240"/>
            <a:ext cx="531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19247-6840-4BD8-9C4C-0C386380E34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0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0A85EE-6AB1-4A2D-B6AB-B9A7B6A31A72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-360" y="1238040"/>
            <a:ext cx="531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9BC22-C114-4F49-ABE3-661E9714AFA6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4"/>
          </p:nvPr>
        </p:nvSpPr>
        <p:spPr>
          <a:xfrm>
            <a:off x="6410160" y="-360"/>
            <a:ext cx="532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A80BC-513A-4D2C-8722-D09B5A22761E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Arial"/>
              </a:rPr>
              <a:t>01/30/13 09: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C9FFA-0E8A-4C75-87CD-FABA4D622591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9D5CC-B72F-4F3D-9FCD-8F71EFD79A47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8F7ACA-04DD-446D-ADAA-C257300BEAF2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03BB6-D817-4B10-980F-97B76F799572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479DDC-17DE-45BA-831A-9973A69F0448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7D4324-84DE-47DE-8A77-034AED6AE5BF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C7F477-7F0C-4D06-9875-F6F59169ACCE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C9437-25C2-478F-8C98-A39F8ED5483A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pn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jpeg"/><Relationship Id="rId31" Type="http://schemas.openxmlformats.org/officeDocument/2006/relationships/image" Target="../media/image48.jpe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slideLayout" Target="../slideLayouts/slideLayout85.xml"/><Relationship Id="rId3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2193840" y="298440"/>
            <a:ext cx="6477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Asociaţia  </a:t>
            </a:r>
            <a:r>
              <a:rPr b="1" lang="en-US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Shakespeare School</a:t>
            </a: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 pentru Educaţ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5d6967"/>
                </a:solidFill>
                <a:latin typeface="Harlow Solid Italic"/>
              </a:rPr>
              <a:t>Essay Competi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228600" y="39528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7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1233360"/>
                <a:tab algn="l" pos="2147760"/>
                <a:tab algn="l" pos="3062160"/>
                <a:tab algn="l" pos="3976560"/>
                <a:tab algn="l" pos="4890960"/>
                <a:tab algn="l" pos="5805360"/>
                <a:tab algn="l" pos="6719760"/>
                <a:tab algn="l" pos="7634160"/>
                <a:tab algn="l" pos="8548560"/>
                <a:tab algn="l" pos="9462960"/>
                <a:tab algn="l" pos="1037736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Concurs national de creatie in limba englez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8088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201</a:t>
            </a:r>
            <a:r>
              <a:rPr b="0" lang="ro-RO" sz="2000" spc="-1" strike="noStrike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527280" y="3429000"/>
            <a:ext cx="30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  </a:t>
            </a: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Februarie - Mai 20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52280" y="4495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1300" spc="-1" strike="noStrike">
                <a:solidFill>
                  <a:srgbClr val="5d6967"/>
                </a:solidFill>
                <a:latin typeface="Open Sans"/>
              </a:rPr>
              <a:t>Proiect inclus in Calendarul Activitatilor Educative al Inspectoratului Scolar al Municipiului Bucurest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019920" y="6380280"/>
            <a:ext cx="304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500" spc="-1" strike="noStrike">
                <a:solidFill>
                  <a:srgbClr val="5d6967"/>
                </a:solidFill>
                <a:latin typeface="Open Sans"/>
              </a:rPr>
              <a:t>Write, race, win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11" descr="Logo Asociatia SS pentru Educatie_220.jpg"/>
          <p:cNvPicPr/>
          <p:nvPr/>
        </p:nvPicPr>
        <p:blipFill>
          <a:blip r:embed="rId2"/>
          <a:stretch/>
        </p:blipFill>
        <p:spPr>
          <a:xfrm>
            <a:off x="664380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285840" y="506736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1143000"/>
            <a:ext cx="4343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rganizat pe 2 categorii de varsta: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1-14 ani 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s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5-19 ani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, </a:t>
            </a: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u teme adecvate fiecarei grupe de varsta in pa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biective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creativitatii ca parte a procesului de life-long lea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gandirii creative si a sensibilitatii emotio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rgirea accesului tinerilor la exprimare cre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952880" y="1752480"/>
            <a:ext cx="388620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just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Vrem ca acest concurs să fie organizat anual, devenind astfel o </a:t>
            </a:r>
            <a:r>
              <a:rPr b="0" i="1" lang="ro-RO" sz="1600" spc="-1" strike="noStrike" u="sng">
                <a:solidFill>
                  <a:srgbClr val="5d6967"/>
                </a:solidFill>
                <a:uFillTx/>
                <a:latin typeface="Open Sans"/>
                <a:ea typeface="Open Sans"/>
              </a:rPr>
              <a:t>tradiţie</a:t>
            </a: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. An de an, vom oferi tinerilor creativi oportunitatea de a-si folosi talentul si imaginatia, punandu-si in valoare potentialul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380880" y="212760"/>
            <a:ext cx="449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600" spc="-1" strike="noStrike">
                <a:solidFill>
                  <a:srgbClr val="70215f"/>
                </a:solidFill>
                <a:latin typeface="Open Sans"/>
                <a:ea typeface="Open Sans"/>
              </a:rPr>
              <a:t>Despre concu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533520" y="4343400"/>
            <a:ext cx="4647960" cy="7786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o-RO" sz="1500" spc="-1" strike="noStrike">
                <a:solidFill>
                  <a:srgbClr val="5d6967"/>
                </a:solidFill>
                <a:latin typeface="Open Sans"/>
              </a:rPr>
              <a:t>Incercam sa iesim din sabloane, din testele grila pentru a-i incuraja pe copii si tineri sa gandeasca, sa inoveze, sa  creeze ... in limba lui Shakespeare!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50440" y="6411960"/>
            <a:ext cx="78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</a:rPr>
              <a:t>Participarea este gratuita si deschisa tuturor tinerilor din Roman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9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508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500040" y="5286240"/>
            <a:ext cx="3432240" cy="1071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"/>
          <p:cNvSpPr/>
          <p:nvPr/>
        </p:nvSpPr>
        <p:spPr>
          <a:xfrm>
            <a:off x="380880" y="372960"/>
            <a:ext cx="81536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 in Cifre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2009 -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655560" y="1317600"/>
            <a:ext cx="73915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2 tiner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 cu scoli de vara la Cambridge, Oxf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44 tineri finalist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ursuri gratuite la Shakespeare Schoo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Taxe de examen Cambridge oferite de British Counci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arti, dictionare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13.500 eseuri inscrise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in cele 4 edit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Au participat tineri din </a:t>
            </a: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 din Romania: 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0" lang="ro-RO" sz="1400" spc="-1" strike="noStrike">
                <a:solidFill>
                  <a:srgbClr val="70215f"/>
                </a:solidFill>
                <a:latin typeface="Open Sans"/>
                <a:ea typeface="Open Sans"/>
              </a:rPr>
              <a:t>Bucuresti, Cluj-Napoca, Craiova, Focsani, Galati ,Hateg, Iasi, Oradea, Pascani, Petrosani, Piatra Neamt, Pitesti, Ploiesti, Ramnicu Valcea, Roman, Rosiori de Vede, Sibiu, Sighetul Marmatiei, Suceava, Targoviste,Tecuci,Urzic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5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795240" y="492912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380880" y="220680"/>
            <a:ext cx="4191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Povesti de Succes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380880" y="2590920"/>
            <a:ext cx="5715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“</a:t>
            </a: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ot zice cu mana pe inima ca ESSAY COMPETITION mi-a schimbat atat viitorul cat si perspectiva mea asupra lumii.”  </a:t>
            </a:r>
            <a:r>
              <a:rPr b="0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Mircea Nei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Mircea Neicu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este un tanar din Orsova care nu depasise niciodata granitele Romaniei  si caruia premiul de la Essay Competition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deschis porti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 si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schimbat drumul in viata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lasandu-se pe locul I a castigat o tabara de engle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Universitatea Cambri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articiparea la tabara de vara i-a sporit increderea in fortele propr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a aplicat apoi la mai multe facultati din Marea Britanie si acum studia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ncaster 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2743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64380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1214280"/>
            <a:ext cx="4214520" cy="131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304920" y="76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400" spc="-1" strike="noStrike">
                <a:solidFill>
                  <a:srgbClr val="70215f"/>
                </a:solidFill>
                <a:latin typeface="Open Sans"/>
                <a:ea typeface="Open Sans"/>
              </a:rPr>
              <a:t>Prima editie (200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304920" y="2286000"/>
            <a:ext cx="4267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mai 2009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, sub egida Anului European al Creativitatii si Inova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este 200 eseuri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Capitala si din toata t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r>
              <a:rPr b="0" lang="ro-RO" sz="2400" spc="-1" strike="noStrike">
                <a:solidFill>
                  <a:srgbClr val="595959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4800600" y="2209680"/>
            <a:ext cx="4191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e la Suceava la Corabia, din Maramures pana la Faurei, Buzau, Brasov, Cluj, Arad, Constanta, Craiova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: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British Council, Radio Romania Actualitati, Radio Itsy Bitsy, TVR Cultural, Studentie.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500040" y="857160"/>
            <a:ext cx="4357800" cy="1360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"/>
          <p:cNvSpPr/>
          <p:nvPr/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doua editie (201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304920" y="2209680"/>
            <a:ext cx="4267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martie 201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3100 de eseuri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Scoli de vara de limba engleza in UK – Cambridge si Oxford (in valoare de peste 1500 eur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4648320" y="220968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22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Sprijin: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British Council, Inspectoratele scolare, asociatiile de profeso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media</a:t>
            </a:r>
            <a:r>
              <a:rPr b="0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018040" y="6121440"/>
            <a:ext cx="1306440" cy="431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6496200" y="6076800"/>
            <a:ext cx="1504800" cy="476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4854600" y="4896000"/>
            <a:ext cx="1174680" cy="514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5"/>
          <a:stretch/>
        </p:blipFill>
        <p:spPr>
          <a:xfrm>
            <a:off x="6095880" y="50292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6"/>
          <a:stretch/>
        </p:blipFill>
        <p:spPr>
          <a:xfrm>
            <a:off x="7162920" y="4933800"/>
            <a:ext cx="1730160" cy="438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"/>
          <p:cNvPicPr/>
          <p:nvPr/>
        </p:nvPicPr>
        <p:blipFill>
          <a:blip r:embed="rId7"/>
          <a:stretch/>
        </p:blipFill>
        <p:spPr>
          <a:xfrm>
            <a:off x="5029200" y="5495760"/>
            <a:ext cx="1247760" cy="524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"/>
          <p:cNvPicPr/>
          <p:nvPr/>
        </p:nvPicPr>
        <p:blipFill>
          <a:blip r:embed="rId8"/>
          <a:stretch/>
        </p:blipFill>
        <p:spPr>
          <a:xfrm>
            <a:off x="6400800" y="5562720"/>
            <a:ext cx="1219320" cy="380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1" descr=""/>
          <p:cNvPicPr/>
          <p:nvPr/>
        </p:nvPicPr>
        <p:blipFill>
          <a:blip r:embed="rId9"/>
          <a:stretch/>
        </p:blipFill>
        <p:spPr>
          <a:xfrm>
            <a:off x="7696080" y="5572080"/>
            <a:ext cx="1054080" cy="371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4" descr="Logo Asociatia SS pentru Educatie_220.jpg"/>
          <p:cNvPicPr/>
          <p:nvPr/>
        </p:nvPicPr>
        <p:blipFill>
          <a:blip r:embed="rId10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Banner Orizontal Essay_Logo Asociatie_lowQ.png"/>
          <p:cNvPicPr/>
          <p:nvPr/>
        </p:nvPicPr>
        <p:blipFill>
          <a:blip r:embed="rId11"/>
          <a:stretch/>
        </p:blipFill>
        <p:spPr>
          <a:xfrm>
            <a:off x="285840" y="785880"/>
            <a:ext cx="4214880" cy="1315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treia editie (201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52280" y="22860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5111 de eseuri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in limba englez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primite de la tineri din intreaga tar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4 scoli de vara de limba engleza in UK: Cambridge si Oxford (in valoare de peste 1500 euro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in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3960720" y="1981080"/>
            <a:ext cx="4954680" cy="4876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777960"/>
            <a:ext cx="4143240" cy="1293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304920" y="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patra editie (201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209680"/>
            <a:ext cx="38102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Peste 4100 de eseuri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scoli de vara de limba engleza in UK: </a:t>
            </a:r>
            <a:r>
              <a:rPr b="1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ambridge, Oxford, Clifton College, Harrow House </a:t>
            </a: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(in valoare de peste 1500 lire fiecare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</a:t>
            </a:r>
            <a:r>
              <a:rPr b="1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 </a:t>
            </a:r>
            <a:r>
              <a:rPr b="0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este 350 de localita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2"/>
          <a:stretch/>
        </p:blipFill>
        <p:spPr>
          <a:xfrm>
            <a:off x="3962520" y="2039760"/>
            <a:ext cx="4952880" cy="4361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357120" y="857160"/>
            <a:ext cx="3889440" cy="1214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201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89600" y="142920"/>
            <a:ext cx="2068560" cy="1071360"/>
          </a:xfrm>
          <a:prstGeom prst="rect">
            <a:avLst/>
          </a:prstGeom>
          <a:ln w="0">
            <a:noFill/>
          </a:ln>
        </p:spPr>
      </p:pic>
      <p:grpSp>
        <p:nvGrpSpPr>
          <p:cNvPr id="590" name="TextBox 5"/>
          <p:cNvGrpSpPr/>
          <p:nvPr/>
        </p:nvGrpSpPr>
        <p:grpSpPr>
          <a:xfrm>
            <a:off x="208080" y="1066680"/>
            <a:ext cx="6583320" cy="365400"/>
            <a:chOff x="208080" y="1066680"/>
            <a:chExt cx="6583320" cy="365400"/>
          </a:xfrm>
        </p:grpSpPr>
        <p:pic>
          <p:nvPicPr>
            <p:cNvPr id="591" name="TextBox 5" descr=""/>
            <p:cNvPicPr/>
            <p:nvPr/>
          </p:nvPicPr>
          <p:blipFill>
            <a:blip r:embed="rId3"/>
            <a:stretch/>
          </p:blipFill>
          <p:spPr>
            <a:xfrm>
              <a:off x="208080" y="1066680"/>
              <a:ext cx="658332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14200" y="1071720"/>
              <a:ext cx="6572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Educationali &amp; Sponsori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3" name="Picture 6" descr="harrow.jpg"/>
          <p:cNvPicPr/>
          <p:nvPr/>
        </p:nvPicPr>
        <p:blipFill>
          <a:blip r:embed="rId4"/>
          <a:stretch/>
        </p:blipFill>
        <p:spPr>
          <a:xfrm>
            <a:off x="357120" y="1571760"/>
            <a:ext cx="1343160" cy="1357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british council_2.jpg"/>
          <p:cNvPicPr/>
          <p:nvPr/>
        </p:nvPicPr>
        <p:blipFill>
          <a:blip r:embed="rId5"/>
          <a:stretch/>
        </p:blipFill>
        <p:spPr>
          <a:xfrm>
            <a:off x="1657440" y="1571760"/>
            <a:ext cx="1842840" cy="865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fischer.jpg"/>
          <p:cNvPicPr/>
          <p:nvPr/>
        </p:nvPicPr>
        <p:blipFill>
          <a:blip r:embed="rId6"/>
          <a:stretch/>
        </p:blipFill>
        <p:spPr>
          <a:xfrm>
            <a:off x="3500280" y="1643040"/>
            <a:ext cx="1738440" cy="714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carturesti.jpg"/>
          <p:cNvPicPr/>
          <p:nvPr/>
        </p:nvPicPr>
        <p:blipFill>
          <a:blip r:embed="rId7"/>
          <a:stretch/>
        </p:blipFill>
        <p:spPr>
          <a:xfrm>
            <a:off x="5416560" y="1500120"/>
            <a:ext cx="1512720" cy="857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editura humanitas.png"/>
          <p:cNvPicPr/>
          <p:nvPr/>
        </p:nvPicPr>
        <p:blipFill>
          <a:blip r:embed="rId8"/>
          <a:stretch/>
        </p:blipFill>
        <p:spPr>
          <a:xfrm>
            <a:off x="357120" y="3143160"/>
            <a:ext cx="2143080" cy="382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fnapip_logo_smaller_200.png"/>
          <p:cNvPicPr/>
          <p:nvPr/>
        </p:nvPicPr>
        <p:blipFill>
          <a:blip r:embed="rId9"/>
          <a:stretch/>
        </p:blipFill>
        <p:spPr>
          <a:xfrm>
            <a:off x="5929200" y="2571840"/>
            <a:ext cx="1198800" cy="1103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simaco.jpg"/>
          <p:cNvPicPr/>
          <p:nvPr/>
        </p:nvPicPr>
        <p:blipFill>
          <a:blip r:embed="rId10"/>
          <a:stretch/>
        </p:blipFill>
        <p:spPr>
          <a:xfrm>
            <a:off x="4071960" y="2852640"/>
            <a:ext cx="1714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600" name="TextBox 14"/>
          <p:cNvGrpSpPr/>
          <p:nvPr/>
        </p:nvGrpSpPr>
        <p:grpSpPr>
          <a:xfrm>
            <a:off x="281160" y="3786120"/>
            <a:ext cx="6583320" cy="365040"/>
            <a:chOff x="281160" y="3786120"/>
            <a:chExt cx="6583320" cy="365040"/>
          </a:xfrm>
        </p:grpSpPr>
        <p:pic>
          <p:nvPicPr>
            <p:cNvPr id="601" name="TextBox 14" descr=""/>
            <p:cNvPicPr/>
            <p:nvPr/>
          </p:nvPicPr>
          <p:blipFill>
            <a:blip r:embed="rId11"/>
            <a:stretch/>
          </p:blipFill>
          <p:spPr>
            <a:xfrm>
              <a:off x="281160" y="3786120"/>
              <a:ext cx="65833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85840" y="3789360"/>
              <a:ext cx="657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Media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3" name="Picture 15" descr="Logo Learning About.png"/>
          <p:cNvPicPr/>
          <p:nvPr/>
        </p:nvPicPr>
        <p:blipFill>
          <a:blip r:embed="rId12"/>
          <a:stretch/>
        </p:blipFill>
        <p:spPr>
          <a:xfrm>
            <a:off x="7286760" y="2786040"/>
            <a:ext cx="1500120" cy="479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6" descr="Logo ISMB.png"/>
          <p:cNvPicPr/>
          <p:nvPr/>
        </p:nvPicPr>
        <p:blipFill>
          <a:blip r:embed="rId13"/>
          <a:stretch/>
        </p:blipFill>
        <p:spPr>
          <a:xfrm>
            <a:off x="7000920" y="1523880"/>
            <a:ext cx="1571760" cy="1119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Logo KissFM lowQ.png"/>
          <p:cNvPicPr/>
          <p:nvPr/>
        </p:nvPicPr>
        <p:blipFill>
          <a:blip r:embed="rId14"/>
          <a:stretch/>
        </p:blipFill>
        <p:spPr>
          <a:xfrm>
            <a:off x="357120" y="4357800"/>
            <a:ext cx="870120" cy="714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logo Digi24.png"/>
          <p:cNvPicPr/>
          <p:nvPr/>
        </p:nvPicPr>
        <p:blipFill>
          <a:blip r:embed="rId15"/>
          <a:stretch/>
        </p:blipFill>
        <p:spPr>
          <a:xfrm>
            <a:off x="1428840" y="4286160"/>
            <a:ext cx="857160" cy="838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Logo ItsyBitsy.png"/>
          <p:cNvPicPr/>
          <p:nvPr/>
        </p:nvPicPr>
        <p:blipFill>
          <a:blip r:embed="rId16"/>
          <a:stretch/>
        </p:blipFill>
        <p:spPr>
          <a:xfrm>
            <a:off x="2357280" y="4286160"/>
            <a:ext cx="1571760" cy="723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8" descr="Adevărul-logo.jpg"/>
          <p:cNvPicPr/>
          <p:nvPr/>
        </p:nvPicPr>
        <p:blipFill>
          <a:blip r:embed="rId17"/>
          <a:stretch/>
        </p:blipFill>
        <p:spPr>
          <a:xfrm>
            <a:off x="4071960" y="4500720"/>
            <a:ext cx="1608120" cy="428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Logo Bravo_png.png"/>
          <p:cNvPicPr/>
          <p:nvPr/>
        </p:nvPicPr>
        <p:blipFill>
          <a:blip r:embed="rId18"/>
          <a:stretch/>
        </p:blipFill>
        <p:spPr>
          <a:xfrm>
            <a:off x="5715000" y="4484520"/>
            <a:ext cx="1643040" cy="4748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1" descr="LOGO RRC ALB MARE_220px.jpg"/>
          <p:cNvPicPr/>
          <p:nvPr/>
        </p:nvPicPr>
        <p:blipFill>
          <a:blip r:embed="rId19"/>
          <a:stretch/>
        </p:blipFill>
        <p:spPr>
          <a:xfrm>
            <a:off x="311040" y="5286240"/>
            <a:ext cx="1332000" cy="714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2" descr="logo-romaniapozitia 2010.jpg"/>
          <p:cNvPicPr/>
          <p:nvPr/>
        </p:nvPicPr>
        <p:blipFill>
          <a:blip r:embed="rId20"/>
          <a:stretch/>
        </p:blipFill>
        <p:spPr>
          <a:xfrm>
            <a:off x="1643040" y="5316480"/>
            <a:ext cx="1500120" cy="612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3" descr="sigla-mediafax_220.jpg"/>
          <p:cNvPicPr/>
          <p:nvPr/>
        </p:nvPicPr>
        <p:blipFill>
          <a:blip r:embed="rId21"/>
          <a:stretch/>
        </p:blipFill>
        <p:spPr>
          <a:xfrm>
            <a:off x="3214800" y="5357880"/>
            <a:ext cx="1571400" cy="428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logo.png.png"/>
          <p:cNvPicPr/>
          <p:nvPr/>
        </p:nvPicPr>
        <p:blipFill>
          <a:blip r:embed="rId22"/>
          <a:stretch/>
        </p:blipFill>
        <p:spPr>
          <a:xfrm>
            <a:off x="4929120" y="5357880"/>
            <a:ext cx="1643040" cy="393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5" descr="teen press.png"/>
          <p:cNvPicPr/>
          <p:nvPr/>
        </p:nvPicPr>
        <p:blipFill>
          <a:blip r:embed="rId23"/>
          <a:stretch/>
        </p:blipFill>
        <p:spPr>
          <a:xfrm>
            <a:off x="6715080" y="5214960"/>
            <a:ext cx="1143000" cy="552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7" descr="calificativ.png"/>
          <p:cNvPicPr/>
          <p:nvPr/>
        </p:nvPicPr>
        <p:blipFill>
          <a:blip r:embed="rId24"/>
          <a:stretch/>
        </p:blipFill>
        <p:spPr>
          <a:xfrm>
            <a:off x="2428920" y="6072120"/>
            <a:ext cx="1515960" cy="285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8" descr="Logo AmDoar18Ani_lowQ.png"/>
          <p:cNvPicPr/>
          <p:nvPr/>
        </p:nvPicPr>
        <p:blipFill>
          <a:blip r:embed="rId25"/>
          <a:stretch/>
        </p:blipFill>
        <p:spPr>
          <a:xfrm>
            <a:off x="428760" y="6215040"/>
            <a:ext cx="1785960" cy="328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0" descr="Logo Mamica Urbana.png"/>
          <p:cNvPicPr/>
          <p:nvPr/>
        </p:nvPicPr>
        <p:blipFill>
          <a:blip r:embed="rId26"/>
          <a:stretch/>
        </p:blipFill>
        <p:spPr>
          <a:xfrm>
            <a:off x="4143240" y="5929200"/>
            <a:ext cx="857520" cy="811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1" descr="Logo_Copilul_small.jpg"/>
          <p:cNvPicPr/>
          <p:nvPr/>
        </p:nvPicPr>
        <p:blipFill>
          <a:blip r:embed="rId27"/>
          <a:stretch/>
        </p:blipFill>
        <p:spPr>
          <a:xfrm>
            <a:off x="5072040" y="5929200"/>
            <a:ext cx="1182600" cy="698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2" descr="Logo 7Seri_lowQ.png"/>
          <p:cNvPicPr/>
          <p:nvPr/>
        </p:nvPicPr>
        <p:blipFill>
          <a:blip r:embed="rId28"/>
          <a:stretch/>
        </p:blipFill>
        <p:spPr>
          <a:xfrm>
            <a:off x="6286680" y="6215040"/>
            <a:ext cx="1500120" cy="214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3" descr="logo PRwave pe alb_220.tif"/>
          <p:cNvPicPr/>
          <p:nvPr/>
        </p:nvPicPr>
        <p:blipFill>
          <a:blip r:embed="rId29"/>
          <a:stretch/>
        </p:blipFill>
        <p:spPr>
          <a:xfrm>
            <a:off x="7448400" y="4572000"/>
            <a:ext cx="1266840" cy="357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logo_young initiative_150.jpg"/>
          <p:cNvPicPr/>
          <p:nvPr/>
        </p:nvPicPr>
        <p:blipFill>
          <a:blip r:embed="rId30"/>
          <a:stretch/>
        </p:blipFill>
        <p:spPr>
          <a:xfrm>
            <a:off x="7929720" y="5143680"/>
            <a:ext cx="974520" cy="6426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Logo_Bucharest-Nightlife_small.jpg"/>
          <p:cNvPicPr/>
          <p:nvPr/>
        </p:nvPicPr>
        <p:blipFill>
          <a:blip r:embed="rId31"/>
          <a:stretch/>
        </p:blipFill>
        <p:spPr>
          <a:xfrm>
            <a:off x="2571840" y="6429240"/>
            <a:ext cx="1230120" cy="271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8" descr="Logo Blogul Mamei Incepatoare_lowQ.png"/>
          <p:cNvPicPr/>
          <p:nvPr/>
        </p:nvPicPr>
        <p:blipFill>
          <a:blip r:embed="rId32"/>
          <a:stretch/>
        </p:blipFill>
        <p:spPr>
          <a:xfrm>
            <a:off x="7929720" y="5919840"/>
            <a:ext cx="857160" cy="587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logo Transylvania College.png"/>
          <p:cNvPicPr/>
          <p:nvPr/>
        </p:nvPicPr>
        <p:blipFill>
          <a:blip r:embed="rId33"/>
          <a:stretch/>
        </p:blipFill>
        <p:spPr>
          <a:xfrm>
            <a:off x="2714760" y="2571840"/>
            <a:ext cx="1071360" cy="104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8:09:06Z</dcterms:created>
  <dc:creator>Shakespeare</dc:creator>
  <dc:description/>
  <dc:language>en-US</dc:language>
  <cp:lastModifiedBy>Shakespeare</cp:lastModifiedBy>
  <dcterms:modified xsi:type="dcterms:W3CDTF">2013-02-04T14:48:13Z</dcterms:modified>
  <cp:revision>89</cp:revision>
  <dc:subject/>
  <dc:title>Totul despre examenele Trinity si Cambrid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