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5.png" ContentType="image/png"/>
  <Override PartName="/ppt/media/image40.png" ContentType="image/png"/>
  <Override PartName="/ppt/media/image11.jpeg" ContentType="image/jpeg"/>
  <Override PartName="/ppt/media/image9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5.jpeg" ContentType="image/jpeg"/>
  <Override PartName="/ppt/media/image50.png" ContentType="image/png"/>
  <Override PartName="/ppt/media/image42.png" ContentType="image/png"/>
  <Override PartName="/ppt/media/image28.png" ContentType="image/png"/>
  <Override PartName="/ppt/media/image38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3.png" ContentType="image/png"/>
  <Override PartName="/ppt/media/image47.jpeg" ContentType="image/jpeg"/>
  <Override PartName="/ppt/media/image4.png" ContentType="image/png"/>
  <Override PartName="/ppt/media/image41.png" ContentType="image/png"/>
  <Override PartName="/ppt/media/image48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6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AutoShape 1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4" y="0"/>
                </a:moveTo>
                <a:arcTo wR="4" hR="4" stAng="16200000" swAng="-5400000"/>
                <a:lnTo>
                  <a:pt x="0" y="31121"/>
                </a:lnTo>
                <a:arcTo wR="4" hR="4" stAng="10800000" swAng="-5400000"/>
                <a:lnTo>
                  <a:pt x="21596" y="3112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dt" idx="25"/>
          </p:nvPr>
        </p:nvSpPr>
        <p:spPr>
          <a:xfrm>
            <a:off x="402444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ldImg"/>
          </p:nvPr>
        </p:nvSpPr>
        <p:spPr>
          <a:xfrm>
            <a:off x="995040" y="768240"/>
            <a:ext cx="5111640" cy="383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152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sldNum" idx="26"/>
          </p:nvPr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C18DF-A9E5-4C35-831C-408C339542F6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116D7-95E4-4893-8A6A-85F13F19B75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esentation slide for courses, classes, lectures et 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B150CB-9A58-439B-8DCA-31DD1E0F66A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9C4A9-7CE4-4E33-B521-F38032FC605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6B03B6-655E-4764-ABAC-24C865965C8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A37EC-85D2-44B5-BEFF-623F72392F0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F26CC9-136D-4AF5-96A1-5418083C189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BF948-14FB-481E-953C-1008494E309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2BD870-CD7C-4A07-973D-33F3967BC13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AF1F8-F17A-4CA7-B81F-F7A3C60865A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3A1273-6072-4FB4-BDC9-570783ABBFF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EADE2-3273-4B47-9F75-D3FA04DF88B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A03DC5-242B-4F2A-9596-0DB21CBA47B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93953-02ED-4534-8096-179B664652B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74FD6-8D3C-42F0-A2BA-8C60BA5E48A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1358E-6952-463A-9A35-52F07353384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6BFDB-677F-4727-ADA0-590E59D263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4176E-9758-4617-B02A-B65E617A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71B5D-10CF-4B1D-B7BC-2A4589CE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313EA-23F1-4326-A348-DDA72459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B2A2E-FFA8-4003-B152-A060849FB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9D969-5E52-4A78-B80C-BC7DB983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A9C0C-857F-4824-9FFC-CF7C25D4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5C653-9A06-40DC-8A83-5A849D13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42F03-FAF7-4C5A-A2A3-89BCEE7F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D958F-812C-4E56-B69D-28A5856C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AA6C1-EC6F-4A04-BF3F-6581E31088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B6F1F0-FDD4-449E-BBD8-79520B0A25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96190-5320-468B-B170-6D98219B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E09BB0-86E0-4CE7-B534-A13FCEFC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1C530F-4B69-4805-ADFB-3DE0A39D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4B675F-1E40-4DC1-A45A-09558E97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D362F8-89C8-47EB-B3A5-76C5EF89E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F379D4-752E-492C-86F8-6199EF877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BFB4B3-CAA9-446D-9B3E-FAC94F98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FDD3F5-65A6-4F48-ADB7-CBA21B54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2D593C-31CD-48F8-A14C-C3F05A6E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574687-5D5A-4E5D-895A-DAAEF261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99254D-EF45-4D5C-8182-DD05EE20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E9413-D41A-4A4C-A14C-A0963B22E0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B1FDA0-82B9-4C35-956C-36BEDAB13C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1BA7C3-12EB-4B9D-B6C0-EB650358E3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1C3A2E-2EDA-4BFF-8389-50B8E0E8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47E8BD-25CF-4DEC-AF66-5834FD86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E851A9-7A74-4F40-846D-36CA999C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7582A0-03F0-4537-9C0E-76AC88CD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A65C86-54EE-4A5D-AB17-F1695C698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0FB1E4-AF05-47C9-8446-1A9FF4CE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6A2CE6-0ACC-4A39-9A82-57A718A0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FD08E7-2660-4795-8A4C-5D0B0802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7A7E6-4D9F-45C3-A7D7-A1ED5196C4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B8F97F-1984-43C0-B983-ACE54531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DC10D8-8ED3-4361-A16E-45A0D251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ABE46D-FCCD-45AC-A7A1-B7706B0CF6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F1E3E-BE9A-434D-8B80-15BC32C0F4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E10B9-4B02-466B-A6ED-0F3BD12A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EFE70-E5C2-435B-96B5-419648F7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B8035-4E2A-431D-B344-AD231166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A04E9-0EBF-43C0-9D79-989CD72A6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CE0E9-B796-46B8-AF3A-440ACE05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15807-6697-4749-9B09-84211304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3D0C1-9D07-417F-9A75-924FE154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AFB50-9644-4235-A237-0C591713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EA7EE-BE5C-4BE7-B393-C048F3D0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15848-1B0C-401A-880B-C3E901CF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AD36F-7D86-46F1-AD01-91F6F239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F2194-F691-45B8-B786-E58DADAE59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48F5C-2E25-4FE5-8E2F-BA323845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BEC82-EB1C-401C-AEA8-A4D655FA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B3C93-6F4D-4B48-B4DC-D34FD3B9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7915C-3829-435A-BC9B-1C1EE62D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9D54B-D9F1-42EE-9745-0E289F14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302D1-3A42-432D-892B-52CF4F50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FD037-B7CD-4DB9-A60B-9961EE1C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661C1-8F2D-41CA-8582-81DF8BE2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77009-EBA5-42DF-ADB1-67FFD86F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37220-D54D-448F-8AA3-CEE87049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4C490-9650-4E77-AD32-FACAA6B858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3978-DA88-47A6-9A4B-E425F16B15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FC01-5533-403B-95F6-83EA4656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6BE7-DBBB-406F-9249-5423D283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FD67-C587-49E8-A1D3-71F446DA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36D0-73A8-4B57-ABB4-9190B1A5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2856C-1B9C-43C9-946E-822005F8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0255-FA1B-4F11-9C30-3F9FEB2D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7685-6818-4E0B-AC95-856226CC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8228-D3AC-4642-A336-A560BEDA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F1EE-0743-4539-A004-4F777394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A37D-6AF2-4FE8-B2A1-85701EFB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F180-4DFE-40BE-BC18-2B9F9517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C69E-C5AD-401B-AD44-448DD93B3D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15BABB-BC0C-49D7-B491-7A403D4A01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92AD05-1AA6-40A7-A1A2-B1B92DAE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1CEDE4-F5B4-4A20-B4EF-494A7A39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B9A49-1329-4765-96B7-24767E03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13B84D-5949-429E-A030-B676249B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D04DDD-8DCC-4970-81D0-C79BF7645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7AAF59-04F2-48F3-B719-2B52D9966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1ACA3B-3464-435F-BBF0-B645B4D0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2329C6-D12F-4153-BF8F-B6439767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8D3305-053F-4855-BA52-58CFF8BC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B5D0A3-8BD2-4384-83B9-93EB2F0C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EF7DE7-1720-4E84-9AA0-C920AA5A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0595FF-EA2B-471A-B7F0-1402AADA3A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644D33-D4F9-448F-BBDC-D9E98E4F7A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D6A61-742E-4BAE-ACB6-42DC517A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4BB9D5-9AFF-425B-8176-42A1EB2E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B164EC-526E-4ECE-B7AB-EF4A0EAD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00224D-8FC9-451D-A9AE-EB6FC8C4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3BBDA4-D5E5-4CB2-A0AE-DA290F5C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1537DF-7600-4045-B2B5-C0891679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7A3914-EE91-4B74-9DC5-54AE0900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14E800-3E7F-41BD-B2C9-4E23B45A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376D3E-7BD2-4656-9A94-0032DB56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EA0009-C4A5-46EE-BBBD-D8BCA0BB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0BFCB7-1044-4A0E-B999-CD02F0E3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8F461-72B3-4C3B-B66B-E76F8213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9B0125-0281-4EC9-99C7-24F415E4EE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0C082-CA99-46FD-B508-E1493407A0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E08A4-D087-4DBE-9BD7-00D21894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1647E-E4AA-4A35-A42B-A6F4341D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03871-1FF7-4ED0-806F-4C4A9F2A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7AFCB-602D-4285-8F50-3D6A7EFE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82856-2C18-433E-AF58-D43A2B393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DD710-EDA2-4C84-9C14-FA149033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8B398-2D59-4914-9701-EF0A3F8A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DE0C2-9D42-4A83-9D15-E88D4531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1F747-9032-4877-9E16-DDACC2A5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9AC62-8522-43A1-82DA-90B17F35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CB878-C4DB-4B99-A850-CDCE0F93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A00F2-D4DA-4EE2-A223-FED88B03A7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1C0165-8DCB-4947-A456-31063E918D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32B5F6-ADF4-442D-A7EC-408F0DA6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AFD4F4-CD9F-4A64-A5D2-D7E67D50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D7A95B-619C-47AB-8826-D7457D1B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5FCA90-6750-4061-8D78-7B15DE3AF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8FED57-53C0-4F93-9DA0-AB9769A4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A70498-8E6E-41BA-B4E5-8CA9A0C1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286F2-4A43-412A-B6EA-BE8B225D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C14E59-291D-4EB1-871C-D09E2F95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1FFFC2-974A-42B1-8A9B-4894BCE6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2D37AB-FB04-4AF2-8E2D-58A31766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F08D14-8498-4EDC-9B33-D25451E2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ADBCFE-2F61-40FD-821C-B8A5A5AFD8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18D9C0-FDF8-4485-B896-04EAAD1A89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B05297-F438-4EF6-9FD6-97912E7F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566F86-CA4A-47ED-B49F-B8440023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AE9204-9ED9-4EE3-BDAD-E5B6BF66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2F4D2F-8D23-4C2D-9D02-148274A9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4246E-5F02-4AE0-93A2-4E9E2157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925CAD-B7A4-43CC-845E-36C76496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FD396B-84C4-457A-9E14-E67DA631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A6AC9C-E5F5-4F6B-BBB5-CED86E02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F00F87-D7DA-4A88-B089-F867DB1B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4DF2F8-D564-427E-9C30-53CBE32D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72EC85-806B-4C1C-A8BE-7D5CC717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13558C-B86C-4294-916B-F7789C4792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3C7CD-06A0-4346-B8A4-4CCAAD4339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B1ADA-D3E5-4FE3-AAD5-BAAD6B0F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E0098-1682-43F6-ACF6-152E8221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880" y="6246360"/>
            <a:ext cx="2665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01/30/13 09: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609480" y="6246720"/>
            <a:ext cx="542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-360" y="1209240"/>
            <a:ext cx="531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44E36D-1D59-4C05-9635-CDCD541527E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9"/>
          </p:nvPr>
        </p:nvSpPr>
        <p:spPr>
          <a:xfrm>
            <a:off x="624852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0"/>
          </p:nvPr>
        </p:nvSpPr>
        <p:spPr>
          <a:xfrm>
            <a:off x="-360" y="4667400"/>
            <a:ext cx="14461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A0DD3E-2429-4CAC-8E50-CA724B9A6BC7}" type="slidenum">
              <a:rPr b="1" lang="en-US" sz="28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9"/>
          <p:cNvSpPr/>
          <p:nvPr/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1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sldNum" idx="22"/>
          </p:nvPr>
        </p:nvSpPr>
        <p:spPr>
          <a:xfrm>
            <a:off x="-360" y="1238040"/>
            <a:ext cx="531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F490D1-8161-4116-9DEB-5407EECE75B1}" type="slidenum">
              <a:rPr b="1" lang="en-US" sz="12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2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23"/>
          </p:nvPr>
        </p:nvSpPr>
        <p:spPr>
          <a:xfrm>
            <a:off x="6553080" y="6248160"/>
            <a:ext cx="22082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45720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sldNum" idx="24"/>
          </p:nvPr>
        </p:nvSpPr>
        <p:spPr>
          <a:xfrm>
            <a:off x="6410160" y="-360"/>
            <a:ext cx="5320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DE22BC-B59E-428E-80AD-F95C0C5C18CE}" type="slidenum">
              <a:rPr b="1" lang="en-US" sz="12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76320" y="6068520"/>
            <a:ext cx="2055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  <a:ea typeface="Arial"/>
              </a:rPr>
              <a:t>01/30/13 09: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8001000" y="228600"/>
            <a:ext cx="8366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CDBFE7-C3D6-4C79-A9AF-328E809B2C93}" type="slidenum">
              <a:rPr b="1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CC46A3-43BB-445A-B31F-8CDFF7143BB7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38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B7E573-D98C-4BCA-83C4-0BF26CB511C6}" type="slidenum">
              <a:rPr b="1" lang="en-US" sz="2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0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30ED17-6865-4E2F-9B28-E22BCF732787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1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2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51CD18-A455-4D0D-8FC4-54138BF78EDD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6B1D89-7BBC-4EC0-B436-8DFAE7D28BA6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6"/>
          </p:nvPr>
        </p:nvSpPr>
        <p:spPr>
          <a:xfrm>
            <a:off x="-360" y="6248520"/>
            <a:ext cx="531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8DEBB1-9084-4676-9E95-5A535933440C}" type="slidenum">
              <a:rPr b="1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3"/>
          <a:stretch/>
        </p:blipFill>
        <p:spPr>
          <a:xfrm>
            <a:off x="612720" y="1755720"/>
            <a:ext cx="1614600" cy="168912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1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sldNum" idx="18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2AEE2B-3EC3-430A-B808-EE821CF1037C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5.jpe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jpe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jpeg"/><Relationship Id="rId18" Type="http://schemas.openxmlformats.org/officeDocument/2006/relationships/image" Target="../media/image35.png"/><Relationship Id="rId19" Type="http://schemas.openxmlformats.org/officeDocument/2006/relationships/image" Target="../media/image36.jpeg"/><Relationship Id="rId20" Type="http://schemas.openxmlformats.org/officeDocument/2006/relationships/image" Target="../media/image37.jpeg"/><Relationship Id="rId21" Type="http://schemas.openxmlformats.org/officeDocument/2006/relationships/image" Target="../media/image38.jpeg"/><Relationship Id="rId22" Type="http://schemas.openxmlformats.org/officeDocument/2006/relationships/image" Target="../media/image39.png"/><Relationship Id="rId23" Type="http://schemas.openxmlformats.org/officeDocument/2006/relationships/image" Target="../media/image40.pn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43.png"/><Relationship Id="rId27" Type="http://schemas.openxmlformats.org/officeDocument/2006/relationships/image" Target="../media/image44.jpeg"/><Relationship Id="rId28" Type="http://schemas.openxmlformats.org/officeDocument/2006/relationships/image" Target="../media/image45.png"/><Relationship Id="rId29" Type="http://schemas.openxmlformats.org/officeDocument/2006/relationships/image" Target="../media/image46.png"/><Relationship Id="rId30" Type="http://schemas.openxmlformats.org/officeDocument/2006/relationships/image" Target="../media/image47.jpeg"/><Relationship Id="rId31" Type="http://schemas.openxmlformats.org/officeDocument/2006/relationships/image" Target="../media/image48.jpeg"/><Relationship Id="rId32" Type="http://schemas.openxmlformats.org/officeDocument/2006/relationships/image" Target="../media/image49.png"/><Relationship Id="rId33" Type="http://schemas.openxmlformats.org/officeDocument/2006/relationships/image" Target="../media/image50.png"/><Relationship Id="rId34" Type="http://schemas.openxmlformats.org/officeDocument/2006/relationships/slideLayout" Target="../slideLayouts/slideLayout85.xml"/><Relationship Id="rId3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1"/>
          <p:cNvSpPr/>
          <p:nvPr/>
        </p:nvSpPr>
        <p:spPr>
          <a:xfrm>
            <a:off x="2193840" y="298440"/>
            <a:ext cx="64771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4000"/>
            </a:br>
            <a:br>
              <a:rPr sz="4000"/>
            </a:br>
            <a:r>
              <a:rPr b="1" lang="ro-RO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Asociaţia  </a:t>
            </a:r>
            <a:r>
              <a:rPr b="1" lang="en-US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Shakespeare School</a:t>
            </a:r>
            <a:r>
              <a:rPr b="1" lang="ro-RO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 pentru Educaţ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5d6967"/>
                </a:solidFill>
                <a:latin typeface="Harlow Solid Italic"/>
              </a:rPr>
              <a:t>Essay Competi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2"/>
          <p:cNvSpPr/>
          <p:nvPr/>
        </p:nvSpPr>
        <p:spPr>
          <a:xfrm>
            <a:off x="228600" y="395280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7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8960"/>
                <a:tab algn="l" pos="1233360"/>
                <a:tab algn="l" pos="2147760"/>
                <a:tab algn="l" pos="3062160"/>
                <a:tab algn="l" pos="3976560"/>
                <a:tab algn="l" pos="4890960"/>
                <a:tab algn="l" pos="5805360"/>
                <a:tab algn="l" pos="6719760"/>
                <a:tab algn="l" pos="7634160"/>
                <a:tab algn="l" pos="8548560"/>
                <a:tab algn="l" pos="9462960"/>
                <a:tab algn="l" pos="1037736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Concurs national de creatie in limba englez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380880" y="62485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201</a:t>
            </a:r>
            <a:r>
              <a:rPr b="0" lang="ro-RO" sz="2000" spc="-1" strike="noStrike">
                <a:solidFill>
                  <a:srgbClr val="ffffff"/>
                </a:solidFill>
                <a:latin typeface="Century Schoolboo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3527280" y="3429000"/>
            <a:ext cx="302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o-RO" sz="2200" spc="-1" strike="noStrike">
                <a:solidFill>
                  <a:srgbClr val="5d6967"/>
                </a:solidFill>
                <a:latin typeface="Open Sans"/>
              </a:rPr>
              <a:t>  </a:t>
            </a:r>
            <a:r>
              <a:rPr b="1" i="1" lang="ro-RO" sz="2200" spc="-1" strike="noStrike">
                <a:solidFill>
                  <a:srgbClr val="5d6967"/>
                </a:solidFill>
                <a:latin typeface="Open Sans"/>
              </a:rPr>
              <a:t>Februarie - Mai 201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52280" y="4495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1300" spc="-1" strike="noStrike">
                <a:solidFill>
                  <a:srgbClr val="5d6967"/>
                </a:solidFill>
                <a:latin typeface="Open Sans"/>
              </a:rPr>
              <a:t>Proiect inclus in Calendarul Activitatilor Educative al Inspectoratului Scolar al Municipiului Bucuresti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6019920" y="6380280"/>
            <a:ext cx="3047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o-RO" sz="2500" spc="-1" strike="noStrike">
                <a:solidFill>
                  <a:srgbClr val="5d6967"/>
                </a:solidFill>
                <a:latin typeface="Open Sans"/>
              </a:rPr>
              <a:t>Write, race, win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11" descr="Logo Asociatia SS pentru Educatie_220.jpg"/>
          <p:cNvPicPr/>
          <p:nvPr/>
        </p:nvPicPr>
        <p:blipFill>
          <a:blip r:embed="rId2"/>
          <a:stretch/>
        </p:blipFill>
        <p:spPr>
          <a:xfrm>
            <a:off x="664380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285840" y="5067360"/>
            <a:ext cx="5276880" cy="164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1"/>
          <p:cNvSpPr/>
          <p:nvPr/>
        </p:nvSpPr>
        <p:spPr>
          <a:xfrm>
            <a:off x="457200" y="1143000"/>
            <a:ext cx="4343400" cy="34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Organizat pe 2 categorii de varsta: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11-14 ani </a:t>
            </a:r>
            <a:r>
              <a:rPr b="0" lang="ro-RO" sz="1800" spc="-1" strike="noStrike">
                <a:solidFill>
                  <a:srgbClr val="000000"/>
                </a:solidFill>
                <a:latin typeface="Open Sans"/>
                <a:ea typeface="Open Sans"/>
              </a:rPr>
              <a:t>s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15-19 ani</a:t>
            </a:r>
            <a:r>
              <a:rPr b="0" lang="ro-RO" sz="1800" spc="-1" strike="noStrike">
                <a:solidFill>
                  <a:srgbClr val="000000"/>
                </a:solidFill>
                <a:latin typeface="Open Sans"/>
                <a:ea typeface="Open Sans"/>
              </a:rPr>
              <a:t>, </a:t>
            </a: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cu teme adecvate fiecarei grupe de varsta in par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Obiective</a:t>
            </a:r>
            <a:r>
              <a:rPr b="0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romovarea creativitatii ca parte a procesului de life-long lear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romovarea gandirii creative si a sensibilitatii emotiona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largirea accesului tinerilor la exprimare creati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4952880" y="1752480"/>
            <a:ext cx="3886200" cy="23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 algn="just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Vrem ca acest concurs să fie organizat anual, devenind astfel o </a:t>
            </a:r>
            <a:r>
              <a:rPr b="0" i="1" lang="ro-RO" sz="1600" spc="-1" strike="noStrike" u="sng">
                <a:solidFill>
                  <a:srgbClr val="5d6967"/>
                </a:solidFill>
                <a:uFillTx/>
                <a:latin typeface="Open Sans"/>
                <a:ea typeface="Open Sans"/>
              </a:rPr>
              <a:t>tradiţie</a:t>
            </a:r>
            <a:r>
              <a:rPr b="0" i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. An de an, vom oferi tinerilor creativi oportunitatea de a-si folosi talentul si imaginatia, punandu-si in valoare potentialul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380880" y="212760"/>
            <a:ext cx="4496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600" spc="-1" strike="noStrike">
                <a:solidFill>
                  <a:srgbClr val="70215f"/>
                </a:solidFill>
                <a:latin typeface="Open Sans"/>
                <a:ea typeface="Open Sans"/>
              </a:rPr>
              <a:t>Despre concur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5"/>
          <p:cNvSpPr/>
          <p:nvPr/>
        </p:nvSpPr>
        <p:spPr>
          <a:xfrm>
            <a:off x="533520" y="4343400"/>
            <a:ext cx="4647960" cy="77868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ro-RO" sz="1500" spc="-1" strike="noStrike">
                <a:solidFill>
                  <a:srgbClr val="5d6967"/>
                </a:solidFill>
                <a:latin typeface="Open Sans"/>
              </a:rPr>
              <a:t>Incercam sa iesim din sabloane, din testele grila pentru a-i incuraja pe copii si tineri sa gandeasca, sa inoveze, sa  creeze ... in limba lui Shakespeare!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550440" y="6411960"/>
            <a:ext cx="78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</a:rPr>
              <a:t>Participarea este gratuita si deschisa tuturor tinerilor din Romania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9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508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500040" y="5286240"/>
            <a:ext cx="3432240" cy="1071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1"/>
          <p:cNvSpPr/>
          <p:nvPr/>
        </p:nvSpPr>
        <p:spPr>
          <a:xfrm>
            <a:off x="380880" y="372960"/>
            <a:ext cx="81536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Essay Competition in Cifre</a:t>
            </a:r>
            <a:br>
              <a:rPr sz="3000"/>
            </a:b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2009 - 201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2"/>
          <p:cNvSpPr/>
          <p:nvPr/>
        </p:nvSpPr>
        <p:spPr>
          <a:xfrm>
            <a:off x="655560" y="1317600"/>
            <a:ext cx="739152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12 tiner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remiati cu scoli de vara la Cambridge, Oxf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144 tineri finalist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remiati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Cursuri gratuite la Shakespeare Schoo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Taxe de examen Cambridge oferite de British Counci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Carti, dictionare et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Peste 13.500 eseuri inscrise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in cele 4 edit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Au participat tineri din </a:t>
            </a: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 din Romania: </a:t>
            </a:r>
            <a:r>
              <a:rPr b="0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r>
              <a:rPr b="0" lang="ro-RO" sz="1400" spc="-1" strike="noStrike">
                <a:solidFill>
                  <a:srgbClr val="70215f"/>
                </a:solidFill>
                <a:latin typeface="Open Sans"/>
                <a:ea typeface="Open Sans"/>
              </a:rPr>
              <a:t>Bucuresti, Cluj-Napoca, Craiova, Focsani, Galati ,Hateg, Iasi, Oradea, Pascani, Petrosani, Piatra Neamt, Pitesti, Ploiesti, Ramnicu Valcea, Roman, Rosiori de Vede, Sibiu, Sighetul Marmatiei, Suceava, Targoviste,Tecuci,Urzice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Picture 5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1832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795240" y="4929120"/>
            <a:ext cx="5276880" cy="164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1"/>
          <p:cNvSpPr/>
          <p:nvPr/>
        </p:nvSpPr>
        <p:spPr>
          <a:xfrm>
            <a:off x="380880" y="220680"/>
            <a:ext cx="41911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Povesti de Succes</a:t>
            </a:r>
            <a:br>
              <a:rPr sz="3000"/>
            </a:b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Essay Competi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 Box 2"/>
          <p:cNvSpPr/>
          <p:nvPr/>
        </p:nvSpPr>
        <p:spPr>
          <a:xfrm>
            <a:off x="380880" y="2590920"/>
            <a:ext cx="5715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“</a:t>
            </a:r>
            <a:r>
              <a:rPr b="1" i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ot zice cu mana pe inima ca ESSAY COMPETITION mi-a schimbat atat viitorul cat si perspectiva mea asupra lumii.”  </a:t>
            </a:r>
            <a:r>
              <a:rPr b="0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Mircea Nei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Mircea Neicu 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este un tanar din Orsova care nu depasise niciodata granitele Romaniei  si caruia premiul de la Essay Competition i-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deschis porti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 si i-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schimbat drumul in viata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clasandu-se pe locul I a castigat o tabara de engleza la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Universitatea Cambrid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articiparea la tabara de vara i-a sporit increderea in fortele propri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a aplicat apoi la mai multe facultati din Marea Britanie si acum studiaza la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Lancaster Univers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4" descr=""/>
          <p:cNvPicPr/>
          <p:nvPr/>
        </p:nvPicPr>
        <p:blipFill>
          <a:blip r:embed="rId2"/>
          <a:stretch/>
        </p:blipFill>
        <p:spPr>
          <a:xfrm>
            <a:off x="6477120" y="3276720"/>
            <a:ext cx="2133360" cy="27432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64380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428760" y="1214280"/>
            <a:ext cx="4214520" cy="1316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1"/>
          <p:cNvSpPr/>
          <p:nvPr/>
        </p:nvSpPr>
        <p:spPr>
          <a:xfrm>
            <a:off x="304920" y="76320"/>
            <a:ext cx="8153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400" spc="-1" strike="noStrike">
                <a:solidFill>
                  <a:srgbClr val="70215f"/>
                </a:solidFill>
                <a:latin typeface="Open Sans"/>
                <a:ea typeface="Open Sans"/>
              </a:rPr>
              <a:t>Prima editie (2009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2"/>
          <p:cNvSpPr/>
          <p:nvPr/>
        </p:nvSpPr>
        <p:spPr>
          <a:xfrm>
            <a:off x="304920" y="2286000"/>
            <a:ext cx="42670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mai 2009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, sub egida Anului European al Creativitatii si Inovati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este 200 eseuri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Capitala si din toata t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r>
              <a:rPr b="0" lang="ro-RO" sz="2400" spc="-1" strike="noStrike">
                <a:solidFill>
                  <a:srgbClr val="595959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4800600" y="2209680"/>
            <a:ext cx="41911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nationala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(participanti de la Suceava la Corabia, din Maramures pana la Faurei, Buzau, Brasov, Cluj, Arad, Constanta, Craiova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: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British Council, Radio Romania Actualitati, Radio Itsy Bitsy, TVR Cultural, Studentie.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6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500040" y="857160"/>
            <a:ext cx="4357800" cy="1360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1"/>
          <p:cNvSpPr/>
          <p:nvPr/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doua editie (2010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304920" y="2209680"/>
            <a:ext cx="4267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2100" spc="-1" strike="noStrike">
                <a:solidFill>
                  <a:srgbClr val="5d6967"/>
                </a:solidFill>
                <a:latin typeface="Open Sans"/>
                <a:ea typeface="Open Sans"/>
              </a:rPr>
              <a:t>martie 2010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3100 de eseuri </a:t>
            </a:r>
            <a:r>
              <a:rPr b="1" lang="ro-RO" sz="21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intreaga tar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Scoli de vara de limba engleza in UK – Cambridge si Oxford (in valoare de peste 1500 euro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4648320" y="2209680"/>
            <a:ext cx="4267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</a:t>
            </a:r>
            <a:r>
              <a:rPr b="1" lang="ro-RO" sz="2200" spc="-1" strike="noStrike">
                <a:solidFill>
                  <a:srgbClr val="5d6967"/>
                </a:solidFill>
                <a:latin typeface="Open Sans"/>
                <a:ea typeface="Open Sans"/>
              </a:rPr>
              <a:t>nationala </a:t>
            </a:r>
            <a:r>
              <a:rPr b="0" lang="ro-RO" sz="2200" spc="-1" strike="noStrike">
                <a:solidFill>
                  <a:srgbClr val="323232"/>
                </a:solidFill>
                <a:latin typeface="Open Sans"/>
                <a:ea typeface="Open Sans"/>
              </a:rPr>
              <a:t>(participanti din </a:t>
            </a: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Sprijin: </a:t>
            </a:r>
            <a:r>
              <a:rPr b="0" lang="ro-RO" sz="2200" spc="-1" strike="noStrike">
                <a:solidFill>
                  <a:srgbClr val="323232"/>
                </a:solidFill>
                <a:latin typeface="Open Sans"/>
                <a:ea typeface="Open Sans"/>
              </a:rPr>
              <a:t>British Council, Inspectoratele scolare, asociatiile de profesor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 media</a:t>
            </a:r>
            <a:r>
              <a:rPr b="0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2"/>
          <a:stretch/>
        </p:blipFill>
        <p:spPr>
          <a:xfrm>
            <a:off x="5018040" y="6121440"/>
            <a:ext cx="1306440" cy="4316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"/>
          <p:cNvPicPr/>
          <p:nvPr/>
        </p:nvPicPr>
        <p:blipFill>
          <a:blip r:embed="rId3"/>
          <a:stretch/>
        </p:blipFill>
        <p:spPr>
          <a:xfrm>
            <a:off x="6496200" y="6076800"/>
            <a:ext cx="1504800" cy="4762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"/>
          <p:cNvPicPr/>
          <p:nvPr/>
        </p:nvPicPr>
        <p:blipFill>
          <a:blip r:embed="rId4"/>
          <a:stretch/>
        </p:blipFill>
        <p:spPr>
          <a:xfrm>
            <a:off x="4854600" y="4896000"/>
            <a:ext cx="1174680" cy="5140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7" descr=""/>
          <p:cNvPicPr/>
          <p:nvPr/>
        </p:nvPicPr>
        <p:blipFill>
          <a:blip r:embed="rId5"/>
          <a:stretch/>
        </p:blipFill>
        <p:spPr>
          <a:xfrm>
            <a:off x="6095880" y="5029200"/>
            <a:ext cx="990720" cy="3808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"/>
          <p:cNvPicPr/>
          <p:nvPr/>
        </p:nvPicPr>
        <p:blipFill>
          <a:blip r:embed="rId6"/>
          <a:stretch/>
        </p:blipFill>
        <p:spPr>
          <a:xfrm>
            <a:off x="7162920" y="4933800"/>
            <a:ext cx="1730160" cy="4384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9" descr=""/>
          <p:cNvPicPr/>
          <p:nvPr/>
        </p:nvPicPr>
        <p:blipFill>
          <a:blip r:embed="rId7"/>
          <a:stretch/>
        </p:blipFill>
        <p:spPr>
          <a:xfrm>
            <a:off x="5029200" y="5495760"/>
            <a:ext cx="1247760" cy="5241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0" descr=""/>
          <p:cNvPicPr/>
          <p:nvPr/>
        </p:nvPicPr>
        <p:blipFill>
          <a:blip r:embed="rId8"/>
          <a:stretch/>
        </p:blipFill>
        <p:spPr>
          <a:xfrm>
            <a:off x="6400800" y="5562720"/>
            <a:ext cx="1219320" cy="3808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1" descr=""/>
          <p:cNvPicPr/>
          <p:nvPr/>
        </p:nvPicPr>
        <p:blipFill>
          <a:blip r:embed="rId9"/>
          <a:stretch/>
        </p:blipFill>
        <p:spPr>
          <a:xfrm>
            <a:off x="7696080" y="5572080"/>
            <a:ext cx="1054080" cy="3715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4" descr="Logo Asociatia SS pentru Educatie_220.jpg"/>
          <p:cNvPicPr/>
          <p:nvPr/>
        </p:nvPicPr>
        <p:blipFill>
          <a:blip r:embed="rId10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4" descr="Banner Orizontal Essay_Logo Asociatie_lowQ.png"/>
          <p:cNvPicPr/>
          <p:nvPr/>
        </p:nvPicPr>
        <p:blipFill>
          <a:blip r:embed="rId11"/>
          <a:stretch/>
        </p:blipFill>
        <p:spPr>
          <a:xfrm>
            <a:off x="285840" y="785880"/>
            <a:ext cx="4214880" cy="1315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1"/>
          <p:cNvSpPr/>
          <p:nvPr/>
        </p:nvSpPr>
        <p:spPr>
          <a:xfrm>
            <a:off x="30492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treia editie (201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152280" y="2286000"/>
            <a:ext cx="3733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februarie 2011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5111 de eseuri </a:t>
            </a: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in limba englez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primite de la tineri din intreaga tar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4 scoli de vara de limba engleza in UK: Cambridge si Oxford (in valoare de peste 1500 euro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Courier New"/>
              <a:buChar char="o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nationala 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(participanti din </a:t>
            </a: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2"/>
          <a:stretch/>
        </p:blipFill>
        <p:spPr>
          <a:xfrm>
            <a:off x="3960720" y="1981080"/>
            <a:ext cx="4954680" cy="48769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428760" y="777960"/>
            <a:ext cx="4143240" cy="12938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1"/>
          <p:cNvSpPr/>
          <p:nvPr/>
        </p:nvSpPr>
        <p:spPr>
          <a:xfrm>
            <a:off x="304920" y="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patra editie (201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152280" y="2209680"/>
            <a:ext cx="381024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februarie 20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Peste 4100 de eseuri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intreaga ta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scoli de vara de limba engleza in UK: </a:t>
            </a:r>
            <a:r>
              <a:rPr b="1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Cambridge, Oxford, Clifton College, Harrow House </a:t>
            </a: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(in valoare de peste 1500 lire fiecare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Courier New"/>
              <a:buChar char="o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nationala</a:t>
            </a:r>
            <a:r>
              <a:rPr b="1" lang="ro-RO" sz="1600" spc="-1" strike="noStrike">
                <a:solidFill>
                  <a:srgbClr val="323232"/>
                </a:solidFill>
                <a:latin typeface="Open Sans"/>
                <a:ea typeface="Open Sans"/>
              </a:rPr>
              <a:t> </a:t>
            </a:r>
            <a:r>
              <a:rPr b="0" lang="ro-RO" sz="1600" spc="-1" strike="noStrike">
                <a:solidFill>
                  <a:srgbClr val="323232"/>
                </a:solidFill>
                <a:latin typeface="Open Sans"/>
                <a:ea typeface="Open Sans"/>
              </a:rPr>
              <a:t>(participanti din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este 350 de localitat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2"/>
          <a:stretch/>
        </p:blipFill>
        <p:spPr>
          <a:xfrm>
            <a:off x="3962520" y="2039760"/>
            <a:ext cx="4952880" cy="43610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357120" y="857160"/>
            <a:ext cx="3889440" cy="1214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1"/>
          <p:cNvSpPr/>
          <p:nvPr/>
        </p:nvSpPr>
        <p:spPr>
          <a:xfrm>
            <a:off x="30492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 2013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Picture 4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89600" y="142920"/>
            <a:ext cx="2068560" cy="1071360"/>
          </a:xfrm>
          <a:prstGeom prst="rect">
            <a:avLst/>
          </a:prstGeom>
          <a:ln w="0">
            <a:noFill/>
          </a:ln>
        </p:spPr>
      </p:pic>
      <p:grpSp>
        <p:nvGrpSpPr>
          <p:cNvPr id="590" name="TextBox 5"/>
          <p:cNvGrpSpPr/>
          <p:nvPr/>
        </p:nvGrpSpPr>
        <p:grpSpPr>
          <a:xfrm>
            <a:off x="208080" y="1066680"/>
            <a:ext cx="6583320" cy="365400"/>
            <a:chOff x="208080" y="1066680"/>
            <a:chExt cx="6583320" cy="365400"/>
          </a:xfrm>
        </p:grpSpPr>
        <p:pic>
          <p:nvPicPr>
            <p:cNvPr id="591" name="TextBox 5" descr=""/>
            <p:cNvPicPr/>
            <p:nvPr/>
          </p:nvPicPr>
          <p:blipFill>
            <a:blip r:embed="rId3"/>
            <a:stretch/>
          </p:blipFill>
          <p:spPr>
            <a:xfrm>
              <a:off x="208080" y="1066680"/>
              <a:ext cx="658332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214200" y="1071720"/>
              <a:ext cx="65725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o-RO" sz="1700" spc="-1" strike="noStrike">
                  <a:solidFill>
                    <a:srgbClr val="70215f"/>
                  </a:solidFill>
                  <a:latin typeface="Open Sans"/>
                  <a:ea typeface="Open Sans"/>
                </a:rPr>
                <a:t>Parteneri Educationali &amp; Sponsori Essay Competition 201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93" name="Picture 6" descr="harrow.jpg"/>
          <p:cNvPicPr/>
          <p:nvPr/>
        </p:nvPicPr>
        <p:blipFill>
          <a:blip r:embed="rId4"/>
          <a:stretch/>
        </p:blipFill>
        <p:spPr>
          <a:xfrm>
            <a:off x="357120" y="1571760"/>
            <a:ext cx="1343160" cy="13572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8" descr="british council_2.jpg"/>
          <p:cNvPicPr/>
          <p:nvPr/>
        </p:nvPicPr>
        <p:blipFill>
          <a:blip r:embed="rId5"/>
          <a:stretch/>
        </p:blipFill>
        <p:spPr>
          <a:xfrm>
            <a:off x="1657440" y="1571760"/>
            <a:ext cx="1842840" cy="8650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9" descr="fischer.jpg"/>
          <p:cNvPicPr/>
          <p:nvPr/>
        </p:nvPicPr>
        <p:blipFill>
          <a:blip r:embed="rId6"/>
          <a:stretch/>
        </p:blipFill>
        <p:spPr>
          <a:xfrm>
            <a:off x="3500280" y="1643040"/>
            <a:ext cx="1738440" cy="7142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0" descr="carturesti.jpg"/>
          <p:cNvPicPr/>
          <p:nvPr/>
        </p:nvPicPr>
        <p:blipFill>
          <a:blip r:embed="rId7"/>
          <a:stretch/>
        </p:blipFill>
        <p:spPr>
          <a:xfrm>
            <a:off x="5416560" y="1500120"/>
            <a:ext cx="1512720" cy="8571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1" descr="editura humanitas.png"/>
          <p:cNvPicPr/>
          <p:nvPr/>
        </p:nvPicPr>
        <p:blipFill>
          <a:blip r:embed="rId8"/>
          <a:stretch/>
        </p:blipFill>
        <p:spPr>
          <a:xfrm>
            <a:off x="357120" y="3143160"/>
            <a:ext cx="2143080" cy="3826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2" descr="fnapip_logo_smaller_200.png"/>
          <p:cNvPicPr/>
          <p:nvPr/>
        </p:nvPicPr>
        <p:blipFill>
          <a:blip r:embed="rId9"/>
          <a:stretch/>
        </p:blipFill>
        <p:spPr>
          <a:xfrm>
            <a:off x="5929200" y="2571840"/>
            <a:ext cx="1198800" cy="11034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3" descr="simaco.jpg"/>
          <p:cNvPicPr/>
          <p:nvPr/>
        </p:nvPicPr>
        <p:blipFill>
          <a:blip r:embed="rId10"/>
          <a:stretch/>
        </p:blipFill>
        <p:spPr>
          <a:xfrm>
            <a:off x="4071960" y="2852640"/>
            <a:ext cx="1714320" cy="647640"/>
          </a:xfrm>
          <a:prstGeom prst="rect">
            <a:avLst/>
          </a:prstGeom>
          <a:ln w="0">
            <a:noFill/>
          </a:ln>
        </p:spPr>
      </p:pic>
      <p:grpSp>
        <p:nvGrpSpPr>
          <p:cNvPr id="600" name="TextBox 14"/>
          <p:cNvGrpSpPr/>
          <p:nvPr/>
        </p:nvGrpSpPr>
        <p:grpSpPr>
          <a:xfrm>
            <a:off x="281160" y="3786120"/>
            <a:ext cx="6583320" cy="365040"/>
            <a:chOff x="281160" y="3786120"/>
            <a:chExt cx="6583320" cy="365040"/>
          </a:xfrm>
        </p:grpSpPr>
        <p:pic>
          <p:nvPicPr>
            <p:cNvPr id="601" name="TextBox 14" descr=""/>
            <p:cNvPicPr/>
            <p:nvPr/>
          </p:nvPicPr>
          <p:blipFill>
            <a:blip r:embed="rId11"/>
            <a:stretch/>
          </p:blipFill>
          <p:spPr>
            <a:xfrm>
              <a:off x="281160" y="3786120"/>
              <a:ext cx="658332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285840" y="3789360"/>
              <a:ext cx="65721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o-RO" sz="1700" spc="-1" strike="noStrike">
                  <a:solidFill>
                    <a:srgbClr val="70215f"/>
                  </a:solidFill>
                  <a:latin typeface="Open Sans"/>
                  <a:ea typeface="Open Sans"/>
                </a:rPr>
                <a:t>Parteneri Media Essay Competition 201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03" name="Picture 15" descr="Logo Learning About.png"/>
          <p:cNvPicPr/>
          <p:nvPr/>
        </p:nvPicPr>
        <p:blipFill>
          <a:blip r:embed="rId12"/>
          <a:stretch/>
        </p:blipFill>
        <p:spPr>
          <a:xfrm>
            <a:off x="7286760" y="2786040"/>
            <a:ext cx="1500120" cy="4795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6" descr="Logo ISMB.png"/>
          <p:cNvPicPr/>
          <p:nvPr/>
        </p:nvPicPr>
        <p:blipFill>
          <a:blip r:embed="rId13"/>
          <a:stretch/>
        </p:blipFill>
        <p:spPr>
          <a:xfrm>
            <a:off x="7000920" y="1523880"/>
            <a:ext cx="1571760" cy="11192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5" descr="Logo KissFM lowQ.png"/>
          <p:cNvPicPr/>
          <p:nvPr/>
        </p:nvPicPr>
        <p:blipFill>
          <a:blip r:embed="rId14"/>
          <a:stretch/>
        </p:blipFill>
        <p:spPr>
          <a:xfrm>
            <a:off x="357120" y="4357800"/>
            <a:ext cx="870120" cy="7142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6" descr="logo Digi24.png"/>
          <p:cNvPicPr/>
          <p:nvPr/>
        </p:nvPicPr>
        <p:blipFill>
          <a:blip r:embed="rId15"/>
          <a:stretch/>
        </p:blipFill>
        <p:spPr>
          <a:xfrm>
            <a:off x="1428840" y="4286160"/>
            <a:ext cx="857160" cy="838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7" descr="Logo ItsyBitsy.png"/>
          <p:cNvPicPr/>
          <p:nvPr/>
        </p:nvPicPr>
        <p:blipFill>
          <a:blip r:embed="rId16"/>
          <a:stretch/>
        </p:blipFill>
        <p:spPr>
          <a:xfrm>
            <a:off x="2357280" y="4286160"/>
            <a:ext cx="1571760" cy="7239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8" descr="Adevărul-logo.jpg"/>
          <p:cNvPicPr/>
          <p:nvPr/>
        </p:nvPicPr>
        <p:blipFill>
          <a:blip r:embed="rId17"/>
          <a:stretch/>
        </p:blipFill>
        <p:spPr>
          <a:xfrm>
            <a:off x="4071960" y="4500720"/>
            <a:ext cx="1608120" cy="4284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9" descr="Logo Bravo_png.png"/>
          <p:cNvPicPr/>
          <p:nvPr/>
        </p:nvPicPr>
        <p:blipFill>
          <a:blip r:embed="rId18"/>
          <a:stretch/>
        </p:blipFill>
        <p:spPr>
          <a:xfrm>
            <a:off x="5715000" y="4484520"/>
            <a:ext cx="1643040" cy="4748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1" descr="LOGO RRC ALB MARE_220px.jpg"/>
          <p:cNvPicPr/>
          <p:nvPr/>
        </p:nvPicPr>
        <p:blipFill>
          <a:blip r:embed="rId19"/>
          <a:stretch/>
        </p:blipFill>
        <p:spPr>
          <a:xfrm>
            <a:off x="311040" y="5286240"/>
            <a:ext cx="1332000" cy="7146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22" descr="logo-romaniapozitia 2010.jpg"/>
          <p:cNvPicPr/>
          <p:nvPr/>
        </p:nvPicPr>
        <p:blipFill>
          <a:blip r:embed="rId20"/>
          <a:stretch/>
        </p:blipFill>
        <p:spPr>
          <a:xfrm>
            <a:off x="1643040" y="5316480"/>
            <a:ext cx="1500120" cy="6127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3" descr="sigla-mediafax_220.jpg"/>
          <p:cNvPicPr/>
          <p:nvPr/>
        </p:nvPicPr>
        <p:blipFill>
          <a:blip r:embed="rId21"/>
          <a:stretch/>
        </p:blipFill>
        <p:spPr>
          <a:xfrm>
            <a:off x="3214800" y="5357880"/>
            <a:ext cx="1571400" cy="4284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4" descr="logo.png.png"/>
          <p:cNvPicPr/>
          <p:nvPr/>
        </p:nvPicPr>
        <p:blipFill>
          <a:blip r:embed="rId22"/>
          <a:stretch/>
        </p:blipFill>
        <p:spPr>
          <a:xfrm>
            <a:off x="4929120" y="5357880"/>
            <a:ext cx="1643040" cy="3934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5" descr="teen press.png"/>
          <p:cNvPicPr/>
          <p:nvPr/>
        </p:nvPicPr>
        <p:blipFill>
          <a:blip r:embed="rId23"/>
          <a:stretch/>
        </p:blipFill>
        <p:spPr>
          <a:xfrm>
            <a:off x="6715080" y="5214960"/>
            <a:ext cx="1143000" cy="5526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7" descr="calificativ.png"/>
          <p:cNvPicPr/>
          <p:nvPr/>
        </p:nvPicPr>
        <p:blipFill>
          <a:blip r:embed="rId24"/>
          <a:stretch/>
        </p:blipFill>
        <p:spPr>
          <a:xfrm>
            <a:off x="2428920" y="6072120"/>
            <a:ext cx="1515960" cy="2858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8" descr="Logo AmDoar18Ani_lowQ.png"/>
          <p:cNvPicPr/>
          <p:nvPr/>
        </p:nvPicPr>
        <p:blipFill>
          <a:blip r:embed="rId25"/>
          <a:stretch/>
        </p:blipFill>
        <p:spPr>
          <a:xfrm>
            <a:off x="428760" y="6215040"/>
            <a:ext cx="1785960" cy="3286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0" descr="Logo Mamica Urbana.png"/>
          <p:cNvPicPr/>
          <p:nvPr/>
        </p:nvPicPr>
        <p:blipFill>
          <a:blip r:embed="rId26"/>
          <a:stretch/>
        </p:blipFill>
        <p:spPr>
          <a:xfrm>
            <a:off x="4143240" y="5929200"/>
            <a:ext cx="857520" cy="8114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1" descr="Logo_Copilul_small.jpg"/>
          <p:cNvPicPr/>
          <p:nvPr/>
        </p:nvPicPr>
        <p:blipFill>
          <a:blip r:embed="rId27"/>
          <a:stretch/>
        </p:blipFill>
        <p:spPr>
          <a:xfrm>
            <a:off x="5072040" y="5929200"/>
            <a:ext cx="1182600" cy="6987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2" descr="Logo 7Seri_lowQ.png"/>
          <p:cNvPicPr/>
          <p:nvPr/>
        </p:nvPicPr>
        <p:blipFill>
          <a:blip r:embed="rId28"/>
          <a:stretch/>
        </p:blipFill>
        <p:spPr>
          <a:xfrm>
            <a:off x="6286680" y="6215040"/>
            <a:ext cx="1500120" cy="2142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3" descr="logo PRwave pe alb_220.tif"/>
          <p:cNvPicPr/>
          <p:nvPr/>
        </p:nvPicPr>
        <p:blipFill>
          <a:blip r:embed="rId29"/>
          <a:stretch/>
        </p:blipFill>
        <p:spPr>
          <a:xfrm>
            <a:off x="7448400" y="4572000"/>
            <a:ext cx="1266840" cy="3571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35" descr="logo_young initiative_150.jpg"/>
          <p:cNvPicPr/>
          <p:nvPr/>
        </p:nvPicPr>
        <p:blipFill>
          <a:blip r:embed="rId30"/>
          <a:stretch/>
        </p:blipFill>
        <p:spPr>
          <a:xfrm>
            <a:off x="7929720" y="5143680"/>
            <a:ext cx="974520" cy="6426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36" descr="Logo_Bucharest-Nightlife_small.jpg"/>
          <p:cNvPicPr/>
          <p:nvPr/>
        </p:nvPicPr>
        <p:blipFill>
          <a:blip r:embed="rId31"/>
          <a:stretch/>
        </p:blipFill>
        <p:spPr>
          <a:xfrm>
            <a:off x="2571840" y="6429240"/>
            <a:ext cx="1230120" cy="2714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8" descr="Logo Blogul Mamei Incepatoare_lowQ.png"/>
          <p:cNvPicPr/>
          <p:nvPr/>
        </p:nvPicPr>
        <p:blipFill>
          <a:blip r:embed="rId32"/>
          <a:stretch/>
        </p:blipFill>
        <p:spPr>
          <a:xfrm>
            <a:off x="7929720" y="5919840"/>
            <a:ext cx="857160" cy="5871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3" descr="logo Transylvania College.png"/>
          <p:cNvPicPr/>
          <p:nvPr/>
        </p:nvPicPr>
        <p:blipFill>
          <a:blip r:embed="rId33"/>
          <a:stretch/>
        </p:blipFill>
        <p:spPr>
          <a:xfrm>
            <a:off x="2714760" y="2571840"/>
            <a:ext cx="1071360" cy="1046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08:09:06Z</dcterms:created>
  <dc:creator>Shakespeare</dc:creator>
  <dc:description/>
  <dc:language>en-US</dc:language>
  <cp:lastModifiedBy>Shakespeare</cp:lastModifiedBy>
  <dcterms:modified xsi:type="dcterms:W3CDTF">2013-02-04T14:48:13Z</dcterms:modified>
  <cp:revision>89</cp:revision>
  <dc:subject/>
  <dc:title>Totul despre examenele Trinity si Cambrid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524811033</vt:lpwstr>
  </property>
</Properties>
</file>