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6374-B24E-474C-B553-5C92893D8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5C86-D17F-4887-A2AD-60F8E362A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EFE-E655-489C-91D5-97446334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5C1-A61D-4FBB-951B-9F3E7D80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4E2B-A686-4D04-863E-BF033297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A49-CFDC-42E7-8A25-669C5C54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3188-9795-4527-A721-EC7E7026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48F-65E9-4692-844B-BFCC8E22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30B-6F63-485C-8C8F-7D61633C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10F-CB2E-4646-9278-20C1EB14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910F-47C5-40FF-BC12-20C1E073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CA88-6939-426F-B08F-D42004E9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7F0-27C8-43B8-B009-E3F8CA46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B34-7ECA-473D-B7B3-726FF286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8900-E236-4140-8D86-3585FC8B67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1559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iect na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onal Patrula de 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ciclare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539640" y="1197000"/>
            <a:ext cx="8280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mbrie -Noie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plasarea în fiec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a câte unui kit de colectare DEEE și distrib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mate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mbrie 2012  - Iunie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colect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organizare proiecte individ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raport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evaluare și 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cheierea pilotului cu premierea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â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aterial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3" name="Picture 5" descr="Z:\Lansari &amp; Events\Campanii\Zona Eco\Visuals + fisiere de productie\Concept Zona Eco.jpg"/>
          <p:cNvPicPr/>
          <p:nvPr/>
        </p:nvPicPr>
        <p:blipFill>
          <a:blip r:embed="rId1"/>
          <a:stretch/>
        </p:blipFill>
        <p:spPr>
          <a:xfrm>
            <a:off x="380880" y="1155600"/>
            <a:ext cx="3733920" cy="509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Flyer Bateriada_Page_1.jpg"/>
          <p:cNvPicPr/>
          <p:nvPr/>
        </p:nvPicPr>
        <p:blipFill>
          <a:blip r:embed="rId2"/>
          <a:stretch/>
        </p:blipFill>
        <p:spPr>
          <a:xfrm rot="21270600">
            <a:off x="3929040" y="2701800"/>
            <a:ext cx="1501920" cy="318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lyer colectare becuri curbe_Page_1.jpg"/>
          <p:cNvPicPr/>
          <p:nvPr/>
        </p:nvPicPr>
        <p:blipFill>
          <a:blip r:embed="rId3"/>
          <a:stretch/>
        </p:blipFill>
        <p:spPr>
          <a:xfrm rot="21169200">
            <a:off x="5552640" y="2572920"/>
            <a:ext cx="1474920" cy="312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lyer DEEE Final curbe_Page_1.jpg"/>
          <p:cNvPicPr/>
          <p:nvPr/>
        </p:nvPicPr>
        <p:blipFill>
          <a:blip r:embed="rId4"/>
          <a:stretch/>
        </p:blipFill>
        <p:spPr>
          <a:xfrm rot="274800">
            <a:off x="7070400" y="2619000"/>
            <a:ext cx="1473120" cy="312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067280" y="12715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kit de colect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pliant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formativ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Scoala_Page_02.jpg"/>
          <p:cNvPicPr/>
          <p:nvPr/>
        </p:nvPicPr>
        <p:blipFill>
          <a:blip r:embed="rId1"/>
          <a:stretch/>
        </p:blipFill>
        <p:spPr>
          <a:xfrm>
            <a:off x="6948360" y="3352680"/>
            <a:ext cx="218916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3492360" y="1571760"/>
            <a:ext cx="3672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gradiniţ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pe tipologia unei cărţi de colorat şi poe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şcoala general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– tip caiet de curs, care va include informaţii şi pagini libere pentru notiţ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lice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tip jurnal, ce va conţine informaţii şi sfaturi utile despre colectarea DE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Scoala_Page_01.jpg"/>
          <p:cNvPicPr/>
          <p:nvPr/>
        </p:nvPicPr>
        <p:blipFill>
          <a:blip r:embed="rId2"/>
          <a:stretch/>
        </p:blipFill>
        <p:spPr>
          <a:xfrm>
            <a:off x="468360" y="1447920"/>
            <a:ext cx="342432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Broșuri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684360" y="155736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Postere, insign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4" name="Picture 2" descr="C:\Gabi\RoRec\Proiecte\Patrula de reciclare\Ghid de lucru\Anexe\8_13_Materiale promo\12_Poster Patrula 2011-2012.JPG"/>
          <p:cNvPicPr/>
          <p:nvPr/>
        </p:nvPicPr>
        <p:blipFill>
          <a:blip r:embed="rId1"/>
          <a:stretch/>
        </p:blipFill>
        <p:spPr>
          <a:xfrm>
            <a:off x="755640" y="134136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Gabi\RoRec\Proiecte\Patrula de reciclare\Ghid de lucru\Anexe\8_13_Materiale promo\Insigna.jpg"/>
          <p:cNvPicPr/>
          <p:nvPr/>
        </p:nvPicPr>
        <p:blipFill>
          <a:blip r:embed="rId2"/>
          <a:stretch/>
        </p:blipFill>
        <p:spPr>
          <a:xfrm>
            <a:off x="4511520" y="1916280"/>
            <a:ext cx="3948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84360" y="1125360"/>
            <a:ext cx="77040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lectare și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ivităţi derulate în perioad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atea de colec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ăţi constante de colectare DEEE la mini punctul de colect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care şc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tatea minim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 kilogram DEEE/elev membru în Patrula de recic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ăţi prop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varea activităţilor de colectare DEEE în proximitatea unităţii de învăţământ, în familie, prietenil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tc c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pulaţie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sup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ecte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ocive a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ent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ănă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mediul înconjură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feso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ordonator utili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z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ularul disponibil online, pe contul personal (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ortează activ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pentru anu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 acestor activit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 rezultatelor o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înscrierea în concursu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ne po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ntru ediția următoare a pro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03280" y="260280"/>
            <a:ext cx="73598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municare social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55640" y="14130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ina de Facebook poate fi folos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ntru comunicarea activ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or Patrulei de Reciclare locale 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instit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le participant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RZ/RL pr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kg colecta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rea de poze cu membrii Patrulei de Recicl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a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14400" y="3751200"/>
            <a:ext cx="4449600" cy="250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508720" y="56624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book.com/Patrula de Reciclare –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4.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Diplom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3" name="Picture 4" descr="C:\Gabi\RoRec\Proiecte\Patrula de reciclare\Ghid de lucru\Anexe\14_Diplome\14.1_Certificat de membru.jpg"/>
          <p:cNvPicPr/>
          <p:nvPr/>
        </p:nvPicPr>
        <p:blipFill>
          <a:blip r:embed="rId1"/>
          <a:stretch/>
        </p:blipFill>
        <p:spPr>
          <a:xfrm>
            <a:off x="684360" y="1413000"/>
            <a:ext cx="367164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Gabi\RoRec\Proiecte\Patrula de reciclare\Ghid de lucru\Anexe\14_Diplome\14.4_Special - cea mai activa institutie.jpg"/>
          <p:cNvPicPr/>
          <p:nvPr/>
        </p:nvPicPr>
        <p:blipFill>
          <a:blip r:embed="rId2"/>
          <a:stretch/>
        </p:blipFill>
        <p:spPr>
          <a:xfrm>
            <a:off x="4572000" y="141300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Gabi\RoRec\Proiecte\Patrula de reciclare\Ghid de lucru\Anexe\14_Diplome\14.3_Diploma coordonator.jpg"/>
          <p:cNvPicPr/>
          <p:nvPr/>
        </p:nvPicPr>
        <p:blipFill>
          <a:blip r:embed="rId3"/>
          <a:stretch/>
        </p:blipFill>
        <p:spPr>
          <a:xfrm>
            <a:off x="684360" y="400536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Gabi\RoRec\Proiecte\Patrula de reciclare\Ghid de lucru\Anexe\14_Diplome\14.5_Special - cea mai creativa.jpg"/>
          <p:cNvPicPr/>
          <p:nvPr/>
        </p:nvPicPr>
        <p:blipFill>
          <a:blip r:embed="rId4"/>
          <a:stretch/>
        </p:blipFill>
        <p:spPr>
          <a:xfrm>
            <a:off x="4643280" y="4005360"/>
            <a:ext cx="3745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upa incheier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stionar de feed-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nd proiectul pilot – puncte slabe, puncte forte, recomandă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PC, RZ/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 feed-back-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 către organiz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re pro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și eventua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mbunătăţiri/modificări pentru ediţia următo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ă încheierea programulu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turile de colect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ămân în instituţiile participante ş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curajată continuarea activităţilor de colect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rezentantul zonal RoRec r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 la dispoz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a institu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ilor pentru golirea containerel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e este?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iect realizat de RoRec în parteneriat cu Primăriile şi Inspectoratele Şcolare Judeţen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etel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în care primăriile şi Asociaţia RoRec colaborează prin implementarea de campanii de colectare a deşeurilor de echipamente electrice şi electronice (DEEE) şi în vederea creării unei infrastructuri coerente de colectare a acestui tip de deşeuri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gram educaţional de protecţie a mediulu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centrat pe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olectarea şi reciclarea DEE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în unităţile de învăţământ, pentru a contribui la atingerea obiectivelor cantitative impuse de normele europene, anume de 4 kilograme/locuitor 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biectiv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Informare/conștientizare –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levii să înţeleagă unele dintre cauzele poluării mediului şi să conştientizeze faptul că reducerea acestora depinde de implicarea fiecăruia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Educare -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rin încurajarea obiceiului de colectare selectivă a deşeurilor de echipamente electrice si electronice (DEEE). Copiii pot deveni ambasadori ai unui mesaj ecologic şi modele pentru cei din jur, educându-și părinţii în sensul unei atitudini ecologice responsab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lectar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echipamente mici, baterii și acumulatori portabili, lămpi și neoane în limita minimă de 1kg/elev înscris î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Picture 3" descr="Logo_v5-03-01.jpg"/>
          <p:cNvPicPr/>
          <p:nvPr/>
        </p:nvPicPr>
        <p:blipFill>
          <a:blip r:embed="rId1"/>
          <a:stretch/>
        </p:blipFill>
        <p:spPr>
          <a:xfrm>
            <a:off x="324000" y="1916280"/>
            <a:ext cx="4170240" cy="3957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4140360" y="1700280"/>
            <a:ext cx="45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a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mijlocul lun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lie 2011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76 de instit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educ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ale din Tim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avut un profesor coordonator 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n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 de derul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22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de cop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os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uraj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ecteze DEEE, baterii, neoan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curi prin intermediul containerelor puse la dis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de R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finalizat pe 1 I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DSC07765.JPG"/>
          <p:cNvPicPr/>
          <p:nvPr/>
        </p:nvPicPr>
        <p:blipFill>
          <a:blip r:embed="rId1"/>
          <a:stretch/>
        </p:blipFill>
        <p:spPr>
          <a:xfrm>
            <a:off x="457200" y="1295280"/>
            <a:ext cx="3600360" cy="20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_0946.JPG"/>
          <p:cNvPicPr/>
          <p:nvPr/>
        </p:nvPicPr>
        <p:blipFill>
          <a:blip r:embed="rId2"/>
          <a:stretch/>
        </p:blipFill>
        <p:spPr>
          <a:xfrm>
            <a:off x="4343400" y="1219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oto_0083.jpg"/>
          <p:cNvPicPr/>
          <p:nvPr/>
        </p:nvPicPr>
        <p:blipFill>
          <a:blip r:embed="rId3"/>
          <a:stretch/>
        </p:blipFill>
        <p:spPr>
          <a:xfrm>
            <a:off x="457200" y="3505320"/>
            <a:ext cx="3774960" cy="281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SCF5572.JPG"/>
          <p:cNvPicPr/>
          <p:nvPr/>
        </p:nvPicPr>
        <p:blipFill>
          <a:blip r:embed="rId4"/>
          <a:stretch/>
        </p:blipFill>
        <p:spPr>
          <a:xfrm>
            <a:off x="4343400" y="457200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F5569.JPG"/>
          <p:cNvPicPr/>
          <p:nvPr/>
        </p:nvPicPr>
        <p:blipFill>
          <a:blip r:embed="rId5"/>
          <a:stretch/>
        </p:blipFill>
        <p:spPr>
          <a:xfrm>
            <a:off x="647712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4114800" y="15717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fost oferite 10 premii celor mai activ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300 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EE colectate la finalul pilo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090802.JPG"/>
          <p:cNvPicPr/>
          <p:nvPr/>
        </p:nvPicPr>
        <p:blipFill>
          <a:blip r:embed="rId1"/>
          <a:stretch/>
        </p:blipFill>
        <p:spPr>
          <a:xfrm>
            <a:off x="4641840" y="3352680"/>
            <a:ext cx="3587760" cy="269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7114.JPG"/>
          <p:cNvPicPr/>
          <p:nvPr/>
        </p:nvPicPr>
        <p:blipFill>
          <a:blip r:embed="rId2"/>
          <a:stretch/>
        </p:blipFill>
        <p:spPr>
          <a:xfrm>
            <a:off x="533520" y="1676520"/>
            <a:ext cx="3314520" cy="4419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d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e an 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lar 2011- 2012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84360" y="168912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ada desf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embrie 2011 – 31 mai 2012 cu festivitatea de premie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ursul lunii iuni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jud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particip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it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re, pes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o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684360" y="1341360"/>
            <a:ext cx="7704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c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or – RoRe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eneri – primăriile locale și inspectoratele județe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nți - toate instituţiile de învăţământ preşcolar, şcolar şi liceal din judeţele/oraşele în care organizatorul a încheiat parteneriate cu Inspectoratul Școlar Judeţean şi Primăria afer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i care s-au inscris in proi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ria de desfășura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2012: 7 ju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xtindere în 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erioada de desfășura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ș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Aspecte organizatoric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684360" y="1197000"/>
            <a:ext cx="80643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 –august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a parteneriate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u autorităţile locale şi cu Inspectoratele Şcolare Judeţene și semnarea protocolului de colaborare tripartit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ptembrie - Octo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rea unităţilor de învăţămâ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localităţile intrate în proiec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imării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inspectorate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emnarea profesorului coordonato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(P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 programului din fiecare instituție de învățămân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împuternici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ctor instituţ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imisă către organizator prin fax sau e-mail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zentarea proiectului către profesorii coordonato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instituţiile care au deci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crierea în proi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08:18Z</dcterms:created>
  <dc:creator>gabriel</dc:creator>
  <dc:description/>
  <dc:language>en-US</dc:language>
  <cp:lastModifiedBy>Cristina</cp:lastModifiedBy>
  <dcterms:modified xsi:type="dcterms:W3CDTF">2013-01-30T10:23:30Z</dcterms:modified>
  <cp:revision>135</cp:revision>
  <dc:subject/>
  <dc:title>Slide 1</dc:title>
</cp:coreProperties>
</file>