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188F-CACC-422F-A100-DABB110CE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03F1-1C28-4410-AE1D-372F6E6DA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6DC0-42D5-4D7E-8085-FF719CC5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7B7B-E4CD-48EB-8C1C-3D3C8516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8AA-9F85-4B9A-A991-FCA7A2C9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780-1B06-40DD-ACC5-38E8B974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21F4-8D08-4C0F-8B46-C65AE75B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20C-42F9-4781-B97D-D832639D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5D2F-BC17-431D-BB39-04379ACC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50BA-93F2-4361-B031-ABEFF0CD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B56-2123-4DC1-9D11-DE3E9C34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F9C7-3559-45DB-89C1-622D1232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D19-F8D3-41D1-85DB-35F69086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4BCB-8233-48A6-8884-EFC01E7A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2C33-2963-46BB-855C-F11D75C60D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51559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roiect na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onal Patrula de 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ciclare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539640" y="1197000"/>
            <a:ext cx="82803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ombrie -Noie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mplasarea în fiec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a câte unui kit de colectare DEEE și distrib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materi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inform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embrie 2012  - Iunie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colect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organizare proiecte individ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raporta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 evaluare și 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cheierea pilotului cu premierea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â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g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r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aterial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3" name="Picture 5" descr="Z:\Lansari &amp; Events\Campanii\Zona Eco\Visuals + fisiere de productie\Concept Zona Eco.jpg"/>
          <p:cNvPicPr/>
          <p:nvPr/>
        </p:nvPicPr>
        <p:blipFill>
          <a:blip r:embed="rId1"/>
          <a:stretch/>
        </p:blipFill>
        <p:spPr>
          <a:xfrm>
            <a:off x="380880" y="1155600"/>
            <a:ext cx="3733920" cy="509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Flyer Bateriada_Page_1.jpg"/>
          <p:cNvPicPr/>
          <p:nvPr/>
        </p:nvPicPr>
        <p:blipFill>
          <a:blip r:embed="rId2"/>
          <a:stretch/>
        </p:blipFill>
        <p:spPr>
          <a:xfrm rot="21270600">
            <a:off x="3929040" y="2701800"/>
            <a:ext cx="1501920" cy="3183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lyer colectare becuri curbe_Page_1.jpg"/>
          <p:cNvPicPr/>
          <p:nvPr/>
        </p:nvPicPr>
        <p:blipFill>
          <a:blip r:embed="rId3"/>
          <a:stretch/>
        </p:blipFill>
        <p:spPr>
          <a:xfrm rot="21169200">
            <a:off x="5552640" y="2572920"/>
            <a:ext cx="1474920" cy="312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lyer DEEE Final curbe_Page_1.jpg"/>
          <p:cNvPicPr/>
          <p:nvPr/>
        </p:nvPicPr>
        <p:blipFill>
          <a:blip r:embed="rId4"/>
          <a:stretch/>
        </p:blipFill>
        <p:spPr>
          <a:xfrm rot="274800">
            <a:off x="7070400" y="2619000"/>
            <a:ext cx="1473120" cy="3125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4067280" y="12715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kit de colect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pliant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informative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Scoala_Page_02.jpg"/>
          <p:cNvPicPr/>
          <p:nvPr/>
        </p:nvPicPr>
        <p:blipFill>
          <a:blip r:embed="rId1"/>
          <a:stretch/>
        </p:blipFill>
        <p:spPr>
          <a:xfrm>
            <a:off x="6948360" y="3352680"/>
            <a:ext cx="218916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3492360" y="1571760"/>
            <a:ext cx="3672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gradiniţ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pe tipologia unei cărţi de colorat şi poez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şcoala general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– tip caiet de curs, care va include informaţii şi pagini libere pentru notiţ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lice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tip jurnal, ce va conţine informaţii şi sfaturi utile despre colectarea DE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Scoala_Page_01.jpg"/>
          <p:cNvPicPr/>
          <p:nvPr/>
        </p:nvPicPr>
        <p:blipFill>
          <a:blip r:embed="rId2"/>
          <a:stretch/>
        </p:blipFill>
        <p:spPr>
          <a:xfrm>
            <a:off x="468360" y="1447920"/>
            <a:ext cx="3424320" cy="4647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Broșuri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684360" y="1557360"/>
            <a:ext cx="77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Postere, insign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24" name="Picture 2" descr="C:\Gabi\RoRec\Proiecte\Patrula de reciclare\Ghid de lucru\Anexe\8_13_Materiale promo\12_Poster Patrula 2011-2012.JPG"/>
          <p:cNvPicPr/>
          <p:nvPr/>
        </p:nvPicPr>
        <p:blipFill>
          <a:blip r:embed="rId1"/>
          <a:stretch/>
        </p:blipFill>
        <p:spPr>
          <a:xfrm>
            <a:off x="755640" y="1341360"/>
            <a:ext cx="3456000" cy="460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Gabi\RoRec\Proiecte\Patrula de reciclare\Ghid de lucru\Anexe\8_13_Materiale promo\Insigna.jpg"/>
          <p:cNvPicPr/>
          <p:nvPr/>
        </p:nvPicPr>
        <p:blipFill>
          <a:blip r:embed="rId2"/>
          <a:stretch/>
        </p:blipFill>
        <p:spPr>
          <a:xfrm>
            <a:off x="4511520" y="1916280"/>
            <a:ext cx="39481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684360" y="1125360"/>
            <a:ext cx="770400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lectare și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ivităţi derulate în perioada proiec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atea de colect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vităţi constante de colectare DEEE la mini punctul de colect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iecare şco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itatea minim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 kilogram DEEE/elev membru în Patrula de recicl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ăţi propr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movarea activităţilor de colectare DEEE în proximitatea unităţii de învăţământ, în familie, prietenilor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tc c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form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opulaţie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sup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ecte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ocive al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DE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ent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ănă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mediul înconjură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feso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ordonator utili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z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ularul disponibil online, pe contul personal (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portează activi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pentru anu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 acestor activit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a rezultatelor o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înscrierea în concursu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ne po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entru ediția următoare a proiect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03280" y="260280"/>
            <a:ext cx="73598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omunicare social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55640" y="141300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ina de Facebook poate fi folos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ntru comunicarea activ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or Patrulei de Reciclare locale a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instit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le participant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RZ/RL pr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u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kg colectat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pre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rea de poze cu membrii Patrulei de Recicl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a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914400" y="3751200"/>
            <a:ext cx="4449600" cy="25002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508720" y="56624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book.com/Patrula de Reciclare –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4.7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Diplom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33" name="Picture 4" descr="C:\Gabi\RoRec\Proiecte\Patrula de reciclare\Ghid de lucru\Anexe\14_Diplome\14.1_Certificat de membru.jpg"/>
          <p:cNvPicPr/>
          <p:nvPr/>
        </p:nvPicPr>
        <p:blipFill>
          <a:blip r:embed="rId1"/>
          <a:stretch/>
        </p:blipFill>
        <p:spPr>
          <a:xfrm>
            <a:off x="684360" y="1413000"/>
            <a:ext cx="367164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Gabi\RoRec\Proiecte\Patrula de reciclare\Ghid de lucru\Anexe\14_Diplome\14.4_Special - cea mai activa institutie.jpg"/>
          <p:cNvPicPr/>
          <p:nvPr/>
        </p:nvPicPr>
        <p:blipFill>
          <a:blip r:embed="rId2"/>
          <a:stretch/>
        </p:blipFill>
        <p:spPr>
          <a:xfrm>
            <a:off x="4572000" y="1413000"/>
            <a:ext cx="3816360" cy="23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Gabi\RoRec\Proiecte\Patrula de reciclare\Ghid de lucru\Anexe\14_Diplome\14.3_Diploma coordonator.jpg"/>
          <p:cNvPicPr/>
          <p:nvPr/>
        </p:nvPicPr>
        <p:blipFill>
          <a:blip r:embed="rId3"/>
          <a:stretch/>
        </p:blipFill>
        <p:spPr>
          <a:xfrm>
            <a:off x="684360" y="4005360"/>
            <a:ext cx="3743280" cy="208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Gabi\RoRec\Proiecte\Patrula de reciclare\Ghid de lucru\Anexe\14_Diplome\14.5_Special - cea mai creativa.jpg"/>
          <p:cNvPicPr/>
          <p:nvPr/>
        </p:nvPicPr>
        <p:blipFill>
          <a:blip r:embed="rId4"/>
          <a:stretch/>
        </p:blipFill>
        <p:spPr>
          <a:xfrm>
            <a:off x="4643280" y="4005360"/>
            <a:ext cx="3745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upa incheier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stionar de feed-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vind proiectul pilot – puncte slabe, puncte forte, recomandă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– PC, RZ/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za feed-back-ulu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e către organiz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re proiec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și eventua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mbunătăţiri/modificări pentru ediţia următo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ă încheierea programulu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turile de colect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ămân în instituţiile participante ş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curajată continuarea activităţilor de colect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rezentantul zonal RoRec r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 la dispozi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a institu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ilor pentru golirea containerel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e este?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iect realizat de RoRec în parteneriat cu Primăriile şi Inspectoratele Şcolare Judeţen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d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etele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în care primăriile şi Asociaţia RoRec colaborează prin implementarea de campanii de colectare a deşeurilor de echipamente electrice şi electronice (DEEE) şi în vederea creării unei infrastructuri coerente de colectare a acestui tip de deşeuri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gram educaţional de protecţie a mediului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centrat pe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colectarea şi reciclarea DEE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în unităţile de învăţământ, pentru a contribui la atingerea obiectivelor cantitative impuse de normele europene, anume de 4 kilograme/locuitor 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biectiv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Informare/conștientizare –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elevii să înţeleagă unele dintre cauzele poluării mediului şi să conştientizeze faptul că reducerea acestora depinde de implicarea fiecăruia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Educare -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prin încurajarea obiceiului de colectare selectivă a deşeurilor de echipamente electrice si electronice (DEEE). Copiii pot deveni ambasadori ai unui mesaj ecologic şi modele pentru cei din jur, educându-și părinţii în sensul unei atitudini ecologice responsab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lectar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echipamente mici, baterii și acumulatori portabili, lămpi și neoane în limita minimă de 1kg/elev înscris în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2" name="Picture 3" descr="Logo_v5-03-01.jpg"/>
          <p:cNvPicPr/>
          <p:nvPr/>
        </p:nvPicPr>
        <p:blipFill>
          <a:blip r:embed="rId1"/>
          <a:stretch/>
        </p:blipFill>
        <p:spPr>
          <a:xfrm>
            <a:off x="324000" y="1916280"/>
            <a:ext cx="4170240" cy="3957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4140360" y="1700280"/>
            <a:ext cx="453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a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mijlocul lun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lie 2011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76 de instit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educ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ale din Tim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avut un profesor coordonator 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n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 de derularea 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22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 de cop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fos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uraj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ecteze DEEE, baterii, neoan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curi prin intermediul containerelor puse la dispoz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de Ro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finalizat pe 1 Iu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ontent Placeholder 3" descr="DSC07765.JPG"/>
          <p:cNvPicPr/>
          <p:nvPr/>
        </p:nvPicPr>
        <p:blipFill>
          <a:blip r:embed="rId1"/>
          <a:stretch/>
        </p:blipFill>
        <p:spPr>
          <a:xfrm>
            <a:off x="457200" y="1295280"/>
            <a:ext cx="3600360" cy="202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IMG_0946.JPG"/>
          <p:cNvPicPr/>
          <p:nvPr/>
        </p:nvPicPr>
        <p:blipFill>
          <a:blip r:embed="rId2"/>
          <a:stretch/>
        </p:blipFill>
        <p:spPr>
          <a:xfrm>
            <a:off x="4343400" y="1219320"/>
            <a:ext cx="4216320" cy="316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moto_0083.jpg"/>
          <p:cNvPicPr/>
          <p:nvPr/>
        </p:nvPicPr>
        <p:blipFill>
          <a:blip r:embed="rId3"/>
          <a:stretch/>
        </p:blipFill>
        <p:spPr>
          <a:xfrm>
            <a:off x="457200" y="3505320"/>
            <a:ext cx="3774960" cy="2819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DSCF5572.JPG"/>
          <p:cNvPicPr/>
          <p:nvPr/>
        </p:nvPicPr>
        <p:blipFill>
          <a:blip r:embed="rId4"/>
          <a:stretch/>
        </p:blipFill>
        <p:spPr>
          <a:xfrm>
            <a:off x="4343400" y="4572000"/>
            <a:ext cx="193032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SCF5569.JPG"/>
          <p:cNvPicPr/>
          <p:nvPr/>
        </p:nvPicPr>
        <p:blipFill>
          <a:blip r:embed="rId5"/>
          <a:stretch/>
        </p:blipFill>
        <p:spPr>
          <a:xfrm>
            <a:off x="6477120" y="457200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4114800" y="157176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 fost oferite 10 premii celor mai activ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300 k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EE colectate la finalul pilo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1090802.JPG"/>
          <p:cNvPicPr/>
          <p:nvPr/>
        </p:nvPicPr>
        <p:blipFill>
          <a:blip r:embed="rId1"/>
          <a:stretch/>
        </p:blipFill>
        <p:spPr>
          <a:xfrm>
            <a:off x="4641840" y="3352680"/>
            <a:ext cx="3587760" cy="269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SC07114.JPG"/>
          <p:cNvPicPr/>
          <p:nvPr/>
        </p:nvPicPr>
        <p:blipFill>
          <a:blip r:embed="rId2"/>
          <a:stretch/>
        </p:blipFill>
        <p:spPr>
          <a:xfrm>
            <a:off x="533520" y="1676520"/>
            <a:ext cx="3314520" cy="4419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d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e an 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lar 2011- 2012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684360" y="1689120"/>
            <a:ext cx="777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ada desf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a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embrie 2011 – 31 mai 2012 cu festivitatea de premie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cursul lunii iuni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jud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particip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itu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are, pes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3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oc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4"/>
          <p:cNvSpPr/>
          <p:nvPr/>
        </p:nvSpPr>
        <p:spPr>
          <a:xfrm>
            <a:off x="684360" y="1341360"/>
            <a:ext cx="7704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c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tor – RoRe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eneri – primăriile locale și inspectoratele județe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icipanți - toate instituţiile de învăţământ preşcolar, şcolar şi liceal din judeţele/oraşele în care organizatorul a încheiat parteneriate cu Inspectoratul Școlar Judeţean şi Primăria afere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si care s-au inscris in proi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ria de desfășura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 2012: 7 jud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xtindere în 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erioada de desfășurar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n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ș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Aspecte organizatoric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684360" y="1197000"/>
            <a:ext cx="806436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 –august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bilirea parteneriate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u autorităţile locale şi cu Inspectoratele Şcolare Judeţene și semnarea protocolului de colaborare tripartit;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ptembrie - Octo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rea unităţilor de învăţămâ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localităţile intrate în proiec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imării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inspectorate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emnarea profesorului coordonato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(P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 programului din fiecare instituție de învățămân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împuternici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ctor instituţ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rimisă către organizator prin fax sau e-mail)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zentarea proiectului către profesorii coordonato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instituţiile care au deci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scrierea în proi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0:08:18Z</dcterms:created>
  <dc:creator>gabriel</dc:creator>
  <dc:description/>
  <dc:language>en-US</dc:language>
  <cp:lastModifiedBy>Cristina</cp:lastModifiedBy>
  <dcterms:modified xsi:type="dcterms:W3CDTF">2013-01-30T10:23:30Z</dcterms:modified>
  <cp:revision>135</cp:revision>
  <dc:subject/>
  <dc:title>Slide 1</dc:title>
</cp:coreProperties>
</file>