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532AA-D8D8-495E-9715-4F22EFA1FB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E8FCE-19DB-4B74-9A1A-51779C028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1A55-6808-4658-85C3-59ED19A02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1904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E55D-BF3C-4E8A-9728-F95B03C45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0C2A-0295-4739-90EA-7C9E92702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146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146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1904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1904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1904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17E5-030A-44C2-BF96-570A35CD9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700200" y="142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E5FA-754F-4FFB-A451-093B8713D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1904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01904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7146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7146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01904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01904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01904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644B-E20A-411F-9820-13C621FB7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999E-3236-487B-88A5-82A450A52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B6C3-1C5F-4F9D-B95B-0D2FB375C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00200" y="142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EA55-E5D9-48EF-960B-E62ED1F57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C76F-3E97-4DC8-B3FE-900B40030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29AE-A365-4FFF-A823-BA65FD5F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1904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4BD5-A591-459D-9E96-F1A5418B4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37080"/>
            <a:ext cx="213372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37080"/>
            <a:ext cx="289584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37080"/>
            <a:ext cx="213372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F4C51-2F3F-4BD6-BBDC-F4F78A85AF0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5155920"/>
            <a:ext cx="77724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Proiect na</a:t>
            </a:r>
            <a:r>
              <a:rPr b="1" lang="ro-RO" sz="1800" spc="-1" strike="noStrike">
                <a:solidFill>
                  <a:srgbClr val="008000"/>
                </a:solidFill>
                <a:latin typeface="Arial"/>
              </a:rPr>
              <a:t>ț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ional Patrula de </a:t>
            </a:r>
            <a:r>
              <a:rPr b="1" lang="ro-RO" sz="1800" spc="-1" strike="noStrike">
                <a:solidFill>
                  <a:srgbClr val="008000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eciclare</a:t>
            </a: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3"/>
          <p:cNvSpPr/>
          <p:nvPr/>
        </p:nvSpPr>
        <p:spPr>
          <a:xfrm>
            <a:off x="539640" y="1197000"/>
            <a:ext cx="828036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ctombrie -Noiembrie 20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mplasarea în fieca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ca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e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a câte unui kit de colectare DEEE și distribu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a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materia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r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inform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embrie 2012  - Iunie 20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rioada de colectar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 organizare proiecte individu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rioada de raportare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, evaluare și 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cheierea pilotului cu premierea c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â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ig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ri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Mecanica p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roiectului pe scur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1280" y="128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Material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113" name="Picture 5" descr="Z:\Lansari &amp; Events\Campanii\Zona Eco\Visuals + fisiere de productie\Concept Zona Eco.jpg"/>
          <p:cNvPicPr/>
          <p:nvPr/>
        </p:nvPicPr>
        <p:blipFill>
          <a:blip r:embed="rId1"/>
          <a:stretch/>
        </p:blipFill>
        <p:spPr>
          <a:xfrm>
            <a:off x="380880" y="1155600"/>
            <a:ext cx="3733920" cy="5092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Flyer Bateriada_Page_1.jpg"/>
          <p:cNvPicPr/>
          <p:nvPr/>
        </p:nvPicPr>
        <p:blipFill>
          <a:blip r:embed="rId2"/>
          <a:stretch/>
        </p:blipFill>
        <p:spPr>
          <a:xfrm rot="21270600">
            <a:off x="3929040" y="2701800"/>
            <a:ext cx="1501920" cy="31831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Flyer colectare becuri curbe_Page_1.jpg"/>
          <p:cNvPicPr/>
          <p:nvPr/>
        </p:nvPicPr>
        <p:blipFill>
          <a:blip r:embed="rId3"/>
          <a:stretch/>
        </p:blipFill>
        <p:spPr>
          <a:xfrm rot="21169200">
            <a:off x="5552640" y="2572920"/>
            <a:ext cx="1474920" cy="3125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Flyer DEEE Final curbe_Page_1.jpg"/>
          <p:cNvPicPr/>
          <p:nvPr/>
        </p:nvPicPr>
        <p:blipFill>
          <a:blip r:embed="rId4"/>
          <a:stretch/>
        </p:blipFill>
        <p:spPr>
          <a:xfrm rot="274800">
            <a:off x="7070400" y="2619000"/>
            <a:ext cx="1473120" cy="31258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7"/>
          <p:cNvSpPr/>
          <p:nvPr/>
        </p:nvSpPr>
        <p:spPr>
          <a:xfrm>
            <a:off x="4067280" y="1271520"/>
            <a:ext cx="46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kit de colecta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pliante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informative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9" descr="Scoala_Page_02.jpg"/>
          <p:cNvPicPr/>
          <p:nvPr/>
        </p:nvPicPr>
        <p:blipFill>
          <a:blip r:embed="rId1"/>
          <a:stretch/>
        </p:blipFill>
        <p:spPr>
          <a:xfrm>
            <a:off x="6948360" y="3352680"/>
            <a:ext cx="2189160" cy="29718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6"/>
          <p:cNvSpPr/>
          <p:nvPr/>
        </p:nvSpPr>
        <p:spPr>
          <a:xfrm>
            <a:off x="3492360" y="1571760"/>
            <a:ext cx="367200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Broşura pentru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gradiniţă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– pe tipologia unei cărţi de colorat şi poez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Broşura pentru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şcoala generală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– tip caiet de curs, care va include informaţii şi pagini libere pentru notiţ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Broşura pentru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liceu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– tip jurnal, ce va conţine informaţii şi sfaturi utile despre colectarea DE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Scoala_Page_01.jpg"/>
          <p:cNvPicPr/>
          <p:nvPr/>
        </p:nvPicPr>
        <p:blipFill>
          <a:blip r:embed="rId2"/>
          <a:stretch/>
        </p:blipFill>
        <p:spPr>
          <a:xfrm>
            <a:off x="468360" y="1447920"/>
            <a:ext cx="3424320" cy="46479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Broșuri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3"/>
          <p:cNvSpPr/>
          <p:nvPr/>
        </p:nvSpPr>
        <p:spPr>
          <a:xfrm>
            <a:off x="684360" y="1557360"/>
            <a:ext cx="770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Postere, insign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124" name="Picture 2" descr="C:\Gabi\RoRec\Proiecte\Patrula de reciclare\Ghid de lucru\Anexe\8_13_Materiale promo\12_Poster Patrula 2011-2012.JPG"/>
          <p:cNvPicPr/>
          <p:nvPr/>
        </p:nvPicPr>
        <p:blipFill>
          <a:blip r:embed="rId1"/>
          <a:stretch/>
        </p:blipFill>
        <p:spPr>
          <a:xfrm>
            <a:off x="755640" y="1341360"/>
            <a:ext cx="3456000" cy="4608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C:\Gabi\RoRec\Proiecte\Patrula de reciclare\Ghid de lucru\Anexe\8_13_Materiale promo\Insigna.jpg"/>
          <p:cNvPicPr/>
          <p:nvPr/>
        </p:nvPicPr>
        <p:blipFill>
          <a:blip r:embed="rId2"/>
          <a:stretch/>
        </p:blipFill>
        <p:spPr>
          <a:xfrm>
            <a:off x="4511520" y="1916280"/>
            <a:ext cx="39481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3"/>
          <p:cNvSpPr/>
          <p:nvPr/>
        </p:nvSpPr>
        <p:spPr>
          <a:xfrm>
            <a:off x="684360" y="1125360"/>
            <a:ext cx="7704000" cy="49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Colectare și 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tivităţi derulate în perioada proiect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ctivitatea de colect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tivităţi constante de colectare DEEE la mini punctul de colectare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d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iecare şco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titatea minimă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1 kilogram DEEE/elev membru în Patrula de recicl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ctivităţi propri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movarea activităţilor de colectare DEEE în proximitatea unităţii de învăţământ, în familie, prietenilor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etc cu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op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u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form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i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opulaţiei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asupr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ectel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nocive ale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DEE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pentru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ănăt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 mediul înconjură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ofesor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u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coordonator utiliz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z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ormularul disponibil online, pe contul personal (l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portează activit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, pentru anun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ea acestor activită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 a rezultatelor ob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u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înscrierea în concursul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pune po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entru ediția următoare a proiectulu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Mecanica p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roiectului pe scur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1403280" y="260280"/>
            <a:ext cx="735984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Comunicare social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755640" y="1413000"/>
            <a:ext cx="7488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gina de Facebook poate fi folosit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ntru comunicarea activit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ă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or Patrulei de Reciclare locale at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de c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 institu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le participante c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de c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 RZ/RL pri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un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a kg colectat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pre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area de poze cu membrii Patrulei de Reciclar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ac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u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914400" y="3751200"/>
            <a:ext cx="4449600" cy="25002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5"/>
          <p:cNvSpPr/>
          <p:nvPr/>
        </p:nvSpPr>
        <p:spPr>
          <a:xfrm>
            <a:off x="5508720" y="566244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ebook.com/Patrula de Reciclare –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este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4.7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a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Diplom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133" name="Picture 4" descr="C:\Gabi\RoRec\Proiecte\Patrula de reciclare\Ghid de lucru\Anexe\14_Diplome\14.1_Certificat de membru.jpg"/>
          <p:cNvPicPr/>
          <p:nvPr/>
        </p:nvPicPr>
        <p:blipFill>
          <a:blip r:embed="rId1"/>
          <a:stretch/>
        </p:blipFill>
        <p:spPr>
          <a:xfrm>
            <a:off x="684360" y="1413000"/>
            <a:ext cx="3671640" cy="2376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C:\Gabi\RoRec\Proiecte\Patrula de reciclare\Ghid de lucru\Anexe\14_Diplome\14.4_Special - cea mai activa institutie.jpg"/>
          <p:cNvPicPr/>
          <p:nvPr/>
        </p:nvPicPr>
        <p:blipFill>
          <a:blip r:embed="rId2"/>
          <a:stretch/>
        </p:blipFill>
        <p:spPr>
          <a:xfrm>
            <a:off x="4572000" y="1413000"/>
            <a:ext cx="3816360" cy="2376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C:\Gabi\RoRec\Proiecte\Patrula de reciclare\Ghid de lucru\Anexe\14_Diplome\14.3_Diploma coordonator.jpg"/>
          <p:cNvPicPr/>
          <p:nvPr/>
        </p:nvPicPr>
        <p:blipFill>
          <a:blip r:embed="rId3"/>
          <a:stretch/>
        </p:blipFill>
        <p:spPr>
          <a:xfrm>
            <a:off x="684360" y="4005360"/>
            <a:ext cx="3743280" cy="2087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C:\Gabi\RoRec\Proiecte\Patrula de reciclare\Ghid de lucru\Anexe\14_Diplome\14.5_Special - cea mai creativa.jpg"/>
          <p:cNvPicPr/>
          <p:nvPr/>
        </p:nvPicPr>
        <p:blipFill>
          <a:blip r:embed="rId4"/>
          <a:stretch/>
        </p:blipFill>
        <p:spPr>
          <a:xfrm>
            <a:off x="4643280" y="4005360"/>
            <a:ext cx="37450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Dupa incheier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stionar de feed-ba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ivind proiectul pilot – puncte slabe, puncte forte, recomandări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– PC, RZ/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iza feed-back-ului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e către organizator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re proiect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și eventual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îmbunătăţiri/modificări pentru ediţia următo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ă încheierea programului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iturile de colecta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ămân în instituţiile participante şi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est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încurajată continuarea activităţilor de colecta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rezentantul zonal RoRec r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â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e la dispozi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a institu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ilor pentru golirea containerelor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THANK YOU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e este?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proiect realizat de RoRec în parteneriat cu Primăriile şi Inspectoratele Şcolare Judeţene 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di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detele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în care primăriile şi Asociaţia RoRec colaborează prin implementarea de campanii de colectare a deşeurilor de echipamente electrice şi electronice (DEEE) şi în vederea creării unei infrastructuri coerente de colectare a acestui tip de deşeuri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Program educaţional de protecţie a mediului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, centrat pe </a:t>
            </a: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colectarea şi reciclarea DEEE 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în unităţile de învăţământ, pentru a contribui la atingerea obiectivelor cantitative impuse de normele europene, anume de 4 kilograme/locuitor 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Obiectiv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Informare/conștientizare –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ajută</a:t>
            </a: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elevii să înţeleagă unele dintre cauzele poluării mediului şi să conştientizeze faptul că reducerea acestora depinde de implicarea fiecăruia.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Educare -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prin încurajarea obiceiului de colectare selectivă a deşeurilor de echipamente electrice si electronice (DEEE). Copiii pot deveni ambasadori ai unui mesaj ecologic şi modele pentru cei din jur, educându-și părinţii în sensul unei atitudini ecologice responsabi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Colectare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de echipamente mici, baterii și acumulatori portabili, lămpi și neoane în limita minimă de 1kg/elev înscris în progra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Pilot 2011 – Mun. Timi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ș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oara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92" name="Picture 3" descr="Logo_v5-03-01.jpg"/>
          <p:cNvPicPr/>
          <p:nvPr/>
        </p:nvPicPr>
        <p:blipFill>
          <a:blip r:embed="rId1"/>
          <a:stretch/>
        </p:blipFill>
        <p:spPr>
          <a:xfrm>
            <a:off x="324000" y="1916280"/>
            <a:ext cx="4170240" cy="3957480"/>
          </a:xfrm>
          <a:prstGeom prst="rect">
            <a:avLst/>
          </a:prstGeom>
          <a:ln w="0">
            <a:noFill/>
          </a:ln>
        </p:spPr>
      </p:pic>
      <p:sp>
        <p:nvSpPr>
          <p:cNvPr id="93" name="TextBox 7"/>
          <p:cNvSpPr/>
          <p:nvPr/>
        </p:nvSpPr>
        <p:spPr>
          <a:xfrm>
            <a:off x="4140360" y="1700280"/>
            <a:ext cx="4535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sat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mijlocul lunii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lie 2011,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76 de institu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 educa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onale din Timi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a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ecare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al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avut un profesor coordonator r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unz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r de derularea proiect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ste 22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0 de copii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scri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ecare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al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fost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curajat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lecteze DEEE, baterii, neoane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becuri prin intermediul containerelor puse la dispozi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 de RoR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lot finalizat pe 1 Iu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Content Placeholder 3" descr="DSC07765.JPG"/>
          <p:cNvPicPr/>
          <p:nvPr/>
        </p:nvPicPr>
        <p:blipFill>
          <a:blip r:embed="rId1"/>
          <a:stretch/>
        </p:blipFill>
        <p:spPr>
          <a:xfrm>
            <a:off x="457200" y="1295280"/>
            <a:ext cx="3600360" cy="2024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IMG_0946.JPG"/>
          <p:cNvPicPr/>
          <p:nvPr/>
        </p:nvPicPr>
        <p:blipFill>
          <a:blip r:embed="rId2"/>
          <a:stretch/>
        </p:blipFill>
        <p:spPr>
          <a:xfrm>
            <a:off x="4343400" y="1219320"/>
            <a:ext cx="4216320" cy="31622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moto_0083.jpg"/>
          <p:cNvPicPr/>
          <p:nvPr/>
        </p:nvPicPr>
        <p:blipFill>
          <a:blip r:embed="rId3"/>
          <a:stretch/>
        </p:blipFill>
        <p:spPr>
          <a:xfrm>
            <a:off x="457200" y="3505320"/>
            <a:ext cx="3774960" cy="28191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DSCF5572.JPG"/>
          <p:cNvPicPr/>
          <p:nvPr/>
        </p:nvPicPr>
        <p:blipFill>
          <a:blip r:embed="rId4"/>
          <a:stretch/>
        </p:blipFill>
        <p:spPr>
          <a:xfrm>
            <a:off x="4343400" y="4572000"/>
            <a:ext cx="1930320" cy="1447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DSCF5569.JPG"/>
          <p:cNvPicPr/>
          <p:nvPr/>
        </p:nvPicPr>
        <p:blipFill>
          <a:blip r:embed="rId5"/>
          <a:stretch/>
        </p:blipFill>
        <p:spPr>
          <a:xfrm>
            <a:off x="6477120" y="4572000"/>
            <a:ext cx="1981080" cy="14860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Pilot 2011 – Mun. Timi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ș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oara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3"/>
          <p:cNvSpPr/>
          <p:nvPr/>
        </p:nvSpPr>
        <p:spPr>
          <a:xfrm>
            <a:off x="4114800" y="1571760"/>
            <a:ext cx="4419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 fost oferite 10 premii celor mai active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ste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1.300 k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EE colectate la finalul pilot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P1090802.JPG"/>
          <p:cNvPicPr/>
          <p:nvPr/>
        </p:nvPicPr>
        <p:blipFill>
          <a:blip r:embed="rId1"/>
          <a:stretch/>
        </p:blipFill>
        <p:spPr>
          <a:xfrm>
            <a:off x="4641840" y="3352680"/>
            <a:ext cx="3587760" cy="2691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DSC07114.JPG"/>
          <p:cNvPicPr/>
          <p:nvPr/>
        </p:nvPicPr>
        <p:blipFill>
          <a:blip r:embed="rId2"/>
          <a:stretch/>
        </p:blipFill>
        <p:spPr>
          <a:xfrm>
            <a:off x="533520" y="1676520"/>
            <a:ext cx="3314520" cy="441936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Pilot 2011 – Mun. Timi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ș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oara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Edi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ț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ie an 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ș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olar 2011- 2012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684360" y="1689120"/>
            <a:ext cx="7775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ioada desf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ă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ar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embrie 2011 – 31 mai 2012 cu festivitatea de premiere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cursul lunii iunie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 jude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 participan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istr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, C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, Hunedoara, Teleorman, Tim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Tulcea, Praho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stitu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are, pest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.3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pii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scr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8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 loc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4"/>
          <p:cNvSpPr/>
          <p:nvPr/>
        </p:nvSpPr>
        <p:spPr>
          <a:xfrm>
            <a:off x="684360" y="1341360"/>
            <a:ext cx="7704000" cy="46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Actor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Arial"/>
              </a:rPr>
              <a:t>Organizator – RoRec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Arial"/>
              </a:rPr>
              <a:t>Parteneri – primăriile locale și inspectoratele județe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Arial"/>
              </a:rPr>
              <a:t>Participanți - toate instituţiile de învăţământ preşcolar, şcolar şi liceal din judeţele/oraşele în care organizatorul a încheiat parteneriate cu Inspectoratul Școlar Judeţean şi Primăria aferent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si care s-au inscris in proi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Aria de desfășurare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 2012: 7 jude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(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istr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, C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, Hunedoara, Teleorman, Tim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Tulcea, Praho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extindere în vi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Perioada de desfășurare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ata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anu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șco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Aspecte organizatoric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3"/>
          <p:cNvSpPr/>
          <p:nvPr/>
        </p:nvSpPr>
        <p:spPr>
          <a:xfrm>
            <a:off x="684360" y="1197000"/>
            <a:ext cx="8064360" cy="47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i –august 20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bilirea parteneriatel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cu autorităţile locale şi cu Inspectoratele Şcolare Judeţene și semnarea protocolului de colaborare tripartit;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eptembrie - Octombrie 20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formarea unităţilor de învăţămâ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din localităţile intrate în proiect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primăriil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 inspectoratel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emnarea profesorului coordonator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(PC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al programului din fiecare instituție de învățământ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împuternicir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e 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rector instituţie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trimisă către organizator prin fax sau e-mail)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P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;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ezentarea proiectului către profesorii coordonator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din instituţiile care au deci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scrierea în proiec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Mecanica p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roiectului pe scur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10:08:18Z</dcterms:created>
  <dc:creator>gabriel</dc:creator>
  <dc:description/>
  <dc:language>en-US</dc:language>
  <cp:lastModifiedBy>Cristina</cp:lastModifiedBy>
  <dcterms:modified xsi:type="dcterms:W3CDTF">2013-01-30T10:23:30Z</dcterms:modified>
  <cp:revision>135</cp:revision>
  <dc:subject/>
  <dc:title>Slide 1</dc:title>
</cp:coreProperties>
</file>