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  <p:sldId id="259" r:id="rId29"/>
    <p:sldId id="260" r:id="rId30"/>
    <p:sldId id="261" r:id="rId31"/>
    <p:sldId id="262" r:id="rId32"/>
    <p:sldId id="263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slide" Target="slides/slide5.xml"/><Relationship Id="rId31" Type="http://schemas.openxmlformats.org/officeDocument/2006/relationships/slide" Target="slides/slide6.xml"/><Relationship Id="rId32" Type="http://schemas.openxmlformats.org/officeDocument/2006/relationships/slide" Target="slides/slide7.xml"/><Relationship Id="rId33" Type="http://schemas.openxmlformats.org/officeDocument/2006/relationships/slide" Target="slides/slide8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22511-987A-4922-883C-1CB5B90D2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44652-02F2-44A9-A736-AB1B0D85B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D810F3-21CE-4FF9-BD83-87B5E8533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2E8D1C-B31C-4224-A256-FA0F93778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0EB3F5-6B88-4701-B5F2-03F9CDCD0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648AC6-8C76-42B4-B5DB-8A5F60873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F355A1-AB58-47D2-AA73-DBC7F04C9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581EA5-2B4E-464E-A18C-77BF2CA42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2FC22D-DD82-4DE6-B18D-965E91D2F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C00BDA-39C4-41AD-8EF8-D0C940E5E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C21BF3-122F-4B63-853A-48A8B43F1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7D059D-79C6-44C8-B076-507DE4EEB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80515-AE07-454A-A4C1-1D83B1F5F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06F8BE-3524-4EEF-A54F-41870EC18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8F4708-7A1A-48D8-A9E9-F1613642B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10CFAE-5BFD-4B78-B8AD-589F23592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521CA7-995B-477B-9324-9D71A3CBD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79F23C-7DB4-4226-9459-5140BC20E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10E0CA-8868-4728-8E75-B77D83B26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A5611C-7BC7-4BDB-931A-65DCA5BD1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DCF57B-7DB4-49A8-96C5-6037FA9CC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7D4E24-87E0-4A17-94BD-1260C45AD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E567B1-C24A-44B8-B129-1C1DF81C8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9BE0D-411A-4C79-96CC-0A863E789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82E47E-0A42-49D4-84E7-95D314E3E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DD7D45-1140-44B4-A85D-435265B39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F76401-A079-434A-A578-FC98E002F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AFB774-92B0-4FF1-A93E-2F5864515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DE274D-9C87-40D2-A652-47AF17FFC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88901E-4CD3-4574-A5E5-3B8002CEC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FAEAC7-37DC-40B9-B622-B2726DCFB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665ADA-9EAA-40E5-AC1F-9B5E90A0B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101197-78EE-4C2E-8AC6-5D3EBC2CE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6F78F8-6419-40B3-9E56-DC1272D1C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029C8-A377-4A49-8D46-0EF695EAE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99F710-821B-4F3D-B211-7D9E901A2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9FCE76-7C35-4E8C-808D-5DD67A238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B3B3BD-213A-421E-81AF-E07570B8F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627065-FEF8-4DA0-8B52-9DF9BD1B5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C5173E-4CE9-4CC0-9DC2-4824701B3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6EE54A-B44A-4CDB-AD8F-FC6A7FD32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73DE65-39F8-4718-90E2-716DFD51A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72F508-CBB9-4AFF-A6D9-AF540E9CD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A70EDB-D3E0-4EE9-BD91-6CB078E44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0FAF68-08EE-4B4E-AAFF-E5C31237C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EDB16-61D2-4FB3-8E1C-1CD996154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EF3D04-0173-4390-8E7C-6C0F88CD8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382A87-93AD-48AC-AFA2-566829D11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828456-AA2F-4268-8A2B-27890AEC1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4E952A-DF8C-4B61-A215-766583191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244A92-67FC-4750-A4F0-96C4D45E7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7E1C001-E4AC-4518-A734-FC0D459F9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9C7D4B6-3451-4A24-88AE-C868EF792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80687E2-A034-4429-9895-7287BEBEE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3A46601-B9BC-4DE3-87AD-DEB8C9573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4FD1644-829C-4386-A5BD-1CD8104C9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3F177-ACFA-4A9F-952A-6BD0372CE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2CED7F1-A592-4EDF-A3E2-896814987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71EC290-8D09-425D-A68A-38AF16D9A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0350683-06F9-413A-9978-16F00C107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39460C8-121B-4EF2-9D8F-E1AAA2EB4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11673BE-DC5C-4F98-90CC-14AB39614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C5BC4EB-30CE-449A-BDE1-2EC673DE9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633383C-E139-4249-BA6A-5A0440C71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70AB977-49D6-49EA-B443-8EF7F7DBC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7FA1AD7-17FE-4488-941D-BE0589667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AD5BCC7-C1B1-4CCD-8FB2-D9E323F85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22ADB-7044-4C22-A2C1-2D96C9EEB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09BB417-587D-4BB1-9947-AAF3DEADF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E3B55C0-435D-4046-ADC0-5E06611AF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51E3553-F3A6-4667-8684-C4445044B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E002D02-A571-49E0-9561-96471BFCD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919DDD6-A1E2-4279-B14A-B0ED2BDBE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0D9A535-294B-4F19-A8D3-2CC6981DE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2E21AE7-756F-49AB-88C7-4B2AF3364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F25E21A-6103-4B5F-8434-21CEAC495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C28946F-204A-4CA9-9604-F3959728D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7AE166E-8FAA-4046-9617-B0C71CAB0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A5813-4260-4676-A6AC-670C4F1E4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A07FE54-6E5E-4D40-B0CF-AF4DBF8C2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4876759-7363-4AC5-A941-35FE2CDBA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50C0F55-CE87-4370-8C30-7F7990182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4B9EB94-581C-45B1-97BF-0C9EC179F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4832111-26B5-4AB4-847E-219BF0701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7850A7F-5A9B-468F-8B70-0B9C7B835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D2B4157-24A1-4660-A4A7-72E17603D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FC9C334-E9A1-41CA-B6CF-018F09334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46A19C5-AF94-47DB-A9BD-2C8E71BD4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82731C2-9851-4873-93F5-8CC10192C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106F7-E7BB-471D-9DE5-741E59A51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9E6434B-773F-4A4D-8809-4985A913A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2B5BCEE-92C1-4E33-9227-529533B9C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A3CA083-BA9B-4457-A9C7-1E8D62903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75DF810-80D9-4BA7-9725-3FBFC3E61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CC6987F-6A9C-4734-97DA-CEE9A5070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C37F1F4-94D2-414B-8ED2-C91BDFBF7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170E322-046F-425C-8DFE-E2F30F8FC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CE408A9-B2C5-40B1-84F3-624959BF6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4BB183B-FAD8-4935-B5E2-4A3844E3C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CFD4046-4468-48FF-A6DD-9EC84B5A4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6D538-4E6A-4A1B-9601-FAA329BA4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B5B55A1-AE53-41BA-A3B9-164FE0C5D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001BCBD-C359-48A8-B8E0-617D10A0C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B694026-7C5A-497C-9FAA-E5491B522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265E52B-41DD-4721-B0FB-CC9BEA7DC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55B48CB-E46C-40DA-A691-7FC793B99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D5915F5-921E-4AC2-932D-49876D41F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D609292-2A8B-45DB-A3CD-A9824E052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C3E2BB0-09EB-46CB-9FEF-900A22603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0FFE44E-E1EB-4FC1-9E28-8DE3A6750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994D172-F913-484B-9B99-FBAB4CABA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293B2-2C3C-4B17-8575-225995B10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351E0-9760-4C09-8A00-E294A98EE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519F94F-6D99-41C7-89E7-890C49AA0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39F546C-9066-463D-9197-04FE96758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BD00C91-F6E4-4547-A49E-BF3B58092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EB01F23-6636-417E-AAEF-2BD764DF9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A7478F9-08E3-4B18-BB89-F3FC8432C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38C753F-F290-49B3-9C03-60587B23B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B4BD28A-44AD-4841-9034-DD4999974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B2B673B-88F4-4305-AB53-7B19C4247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C612584-6DB4-4D55-BFDA-14AD5C977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B74D289-8C17-41E6-BFE3-3C06A42D5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4B19B-3886-4174-9F93-78C58A36B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8CE4CE3-E400-4776-B203-B8576FFBB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E677C10-94E9-46B6-B469-3B7370568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8DC4158-C147-4B0B-9482-7845F6D79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412DEE5-25E4-4553-9BF4-E87EF66FF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8F128B1-F324-46F4-AA39-91C1B6020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953DA11-F9BA-483A-ACD8-9233659F2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E79DBF0-7EE1-4B8A-B635-82E5EA1C2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E844A57-BD8A-4369-A4BA-AE491DE9C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DCE8BDB-3C35-42E8-BECE-5A4902080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84A2AD6-6772-4602-BC7D-0DE703B38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36739-6095-4B83-9135-807D3334F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78DF656-D5EA-4009-B890-316F0D5F8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A7252CE-0C67-48AD-BC22-F95742C58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F647F84-FAE2-4837-9FD7-BE6AC3F27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601DB8C-4993-437A-8C99-9E3ED278E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F2C39B6-D751-4F79-B27A-906106599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9C0DCE7-3908-41B6-9457-D99300F9C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4C4048D-BAF9-4B2B-BAC5-B05E37540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A867B51-6E8B-484A-8C77-F51B3DD8E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85AD4DA-8548-45F5-90E8-FF5AB70E5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76B368B-B962-4E28-AF3A-497BC1160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8A201-ABE9-4FA7-8683-683FD4B52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545572E-157C-46AE-B99B-418167915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B6BE230-DB28-4482-A450-0FB1F1C7B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232DC2E-4393-4053-900D-D564FB7C1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15222BB-A831-4B3C-9BF5-BCBC1A141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D07C86A-418F-4125-8F6B-6464183FD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4C12603-905D-474D-B847-F4A8278AE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F3D5E7F-AA73-4EFB-B7C6-62639B8F0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6AC73E4-831F-4C1E-9715-D7F434A0A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918F581-A6C8-4782-8909-559EEC80C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4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8940971-C06B-4781-A2B3-9A5BA457C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EE616-33F7-4C52-8C80-2011054FF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9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0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1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5BC63E1-98F1-47F0-8411-3479A8C1D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EBD981F-CF4D-46EF-B007-EF8CFF443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966B602-6676-4D84-B902-3FD2621E4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CD49B22-2060-45B9-8B77-4CB3082F4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7AC382A-9D3D-4008-B086-6A43239E6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BFBC7BB-390A-4F95-9DFC-0E80334F8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15ECC6C-9739-4151-B79B-E14255A4B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A488620-7BF9-4C24-ADB6-87A4D8EE9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D8C06FC-D2F0-436B-8CE5-9913D5405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F9857FA-5F8F-4311-8267-6D046A53A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C4DA9A-D5AA-4FDF-BD75-9D03264CF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8C97988-96BE-4C22-B57D-9B16E744B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519FE00-1846-4ABD-9AFF-7DC7871B6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12E19BD-A9B8-4118-91AA-0359AE04D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A4D77ED-F74F-4B8F-A89C-6391EEA00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A452699-E9AE-41AF-B090-88D90A5D6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24646D2-367A-474C-806D-A1917AF88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E8FD156-25DF-402A-93D6-D0A6711D1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0A9026F-706F-4537-97AE-DEB57F0FD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D3DFCF3-1D90-47C1-9796-53D9DBCEE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D4E7AC9-D26F-4EA9-9580-228639B7C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9CA6C8-72D6-4807-9302-92B2EA938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D69A197-0D7B-4FD8-9D2C-18BD8B10D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024F1AF-5321-4512-A911-4ABEF7AC9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0FCDD4B-338D-4769-A7C5-13BBFA010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1DDD040-10E2-4733-99C2-65ACE0053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10DCA81-5CBA-4B28-BA64-6DF4EB77F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745065C-8E8C-49D9-8AFF-1127F9EDA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4955B13-4395-41C1-A865-E0C0134C8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60F9EFA-3905-4966-8336-1CB39C80C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5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F5D12A1-0F7B-434C-8457-331942464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BD9E029-A896-4569-BA86-5F27EDB20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577BAB-002F-40BC-BF4A-74D298375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B024ECF-28A6-4CA1-9D68-17CE5D0C5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6882C96-CCAD-4B8B-8D8B-F779C8C62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1CAA8DD-2AC7-422D-9E70-F09C3F606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5FE2922-7E00-4266-B829-5E934448E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81039BE-7A2A-43EA-B0AB-7DF31B224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AB40F6D-48E6-4A5B-8BF8-EB5B32507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3F9D0F9-8472-4036-A45B-6700ED43C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68C7E7A-52A4-45D4-9F22-041FC4651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413FA65-268E-4066-9C0C-695E20509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CFE480A-7488-481C-9818-204051D1D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14D2A2-8861-41CB-96EF-080267E3F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C75531C-4EBA-48AB-857B-66757A8DA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2B8ADE6-B027-4A07-826C-3735B389C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09F74F2-1D84-4E4D-BB6E-B6EE2C6A7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4436D30-B886-4BF9-9888-CB671ABEB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3DFD0F1-BC61-4C37-9801-8997981CB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27DD50F-552C-4BE7-8D2B-26F103E3D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E36FD6D-F2A1-4162-9D9F-6F016ACE6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C522E48-F782-4927-82F1-49B4D995E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63D7D66-BBA7-4F45-90BA-D4CEDF937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B3E90D-A023-4017-A909-CF7CDA80F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07D00-91B0-4291-88F4-23C4FE8B4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1E2A28-AC86-4437-BD53-8AF5F69E8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97512A-8134-4175-90C9-4197E7A0D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164B6A-1C52-42D6-92E6-8809E0E28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0F9D2B-3F0E-488E-B322-E6553A293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3E6BFD-2D79-46DF-ACCB-BE0E5BABE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F3E088-F207-48A3-BA43-60F5C44E7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2664B3-89EF-4C4F-9580-CB4B030FB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D45A91-EE97-4DA6-88C6-B50641964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19D069-7EEE-4AC1-9CCD-8248B760A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5A5F33-0FA0-47C1-9C3B-719884E90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D0C96-DF35-40A9-BBF5-2DD324380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A9A08F-657F-4379-80BC-41CAFA2C6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E675E0-0245-4287-90CB-BA1F96816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ABDA5C-A628-45BB-8121-B78BFB7C0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3F27A0-FA08-4058-A540-D42F75183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FC17B8-AF32-431D-A569-6C9555361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045FAC-6C39-40DF-A8F3-A04CD9263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98FD45-C02F-4E9E-8BF2-B1E201BA6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552D56-0C5C-446E-89F2-94ADB0C62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F93FAE-B644-42D6-9A6D-42E630CEA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079430-68A4-4679-98A8-0BB8458AA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90B4C-0B12-4708-96B3-6F73175FC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EDBB68-9124-4452-9BC8-851589001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A8AAC8-F7F1-4666-BA01-92DF7B8C8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690D54-D110-4E13-8EC3-103D9B607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B58C7D-EC74-4331-A747-A22DC585E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08929D-20D9-44A6-8E9E-E654130EF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5E72C7-4B8A-48F0-8563-E8D5F9755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CCD5C7-5675-4B97-93B5-9DBA797B7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897E53-E79E-4382-8607-0A97C875F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5F9CFE-E6B8-449D-A7FC-7F3158998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ED66EF-0897-4781-8F7F-6DE7B4EA4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5054F-5ED3-4093-9E63-64DE77CCA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4C80C2-C450-40CD-BA0F-6AC96F08F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F6B22B-4368-49ED-96A8-583D80138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48127A-7169-4CEF-92EF-755C0AECE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0F4FF7-2FC5-4739-B945-491471931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A0B028-D1ED-4BF1-ABA4-4B75E4A77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9C2890-661A-4AAB-A7EB-1945F4085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93A01F-F383-4086-B1B2-30A8DC5C8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D60B89-4A6D-4FCB-9796-8166C7BCE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B40F7D-68A7-423C-9FA9-8661B6653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732B32-F6FC-49FC-95E2-E657441B6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1CAF0-CEB4-41F8-A5BB-71AE336B6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31CB8D-22FF-4765-B5CF-E0E4B1903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E49A2F-39A4-45B9-B2CD-41A720460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F13428-D8E9-4AEC-8850-8FCE8614D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68ECCF-6CFF-4801-A5C3-9FC803475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490191-0D4C-493D-8C50-BAE77301B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B0932B-13C6-4D6A-8D46-325454D67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A8671F-97F3-4E7A-A9F4-1A1756E26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3790B2-8506-43E9-B8A0-20B77D076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838630-49D3-4D5F-8D32-B176D87A2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CE03AB-6B0F-45E2-AABD-47144391E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C7B5A-0C5D-4FD5-B70A-BCC7E1FB7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38475A-8AEF-4165-959A-92B97A910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186BF1-F0A1-42B6-8285-93FE34E4A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841725-91C2-40F1-A049-351432A48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064B6B-FA10-407C-85D1-C2C64F6B1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FD93A8-243C-47EC-9BB4-2522CA20F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4EC9C2-176C-4D2A-9036-E650946FF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31BB2B-0E4A-474E-9BFE-73F2945C4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C04471-43D7-4A61-B0C7-ABFB4B7EB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A101B1-1E0E-4BCC-8705-ACA6531C4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0734B9-BCF6-45B2-94A7-774559EB6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AE5E4-EE7B-4FC7-AA7A-334FE05B8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920443-83ED-4FC6-9E33-09D79F5D5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B700AA-AC71-4840-A6DD-DD8A08B90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E17CE1-34FD-4FB7-BC8B-942D7C607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4AA0F0-6B42-4DB6-A69A-FADC32962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8F8590-C60E-4952-8FCD-B054EF51E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C30663-958C-484F-B571-A31BB8FC3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98C751-2E34-45F5-BC98-2B9185D71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3DF23E-CBEF-48B6-92CA-4BA47EAA6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9B00FB-DCEB-453D-9409-F6D4AE2C6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5BE1EE-E1C1-4112-98E3-1C457E206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23480-381F-4DB8-B6FD-4F806C60FF26}" type="datetime">
              <a:rPr b="0" lang="ro-RO" sz="1200" spc="-1" strike="noStrike">
                <a:solidFill>
                  <a:srgbClr val="045c75"/>
                </a:solidFill>
                <a:latin typeface="Constantia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189FD-E12F-46F9-BDE3-A34E391EE650}" type="slidenum">
              <a:rPr b="0" lang="ro-RO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44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44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45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16087-B42C-4F3B-B232-9EAC832554FF}" type="datetime">
              <a:rPr b="0" lang="ro-RO" sz="1200" spc="-1" strike="noStrike">
                <a:solidFill>
                  <a:srgbClr val="045c75"/>
                </a:solidFill>
                <a:latin typeface="Constantia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9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0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6EE69-A449-45F0-B6CA-70796CB2118E}" type="slidenum">
              <a:rPr b="0" lang="ro-RO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5C76B-4BBD-4CA0-9070-1E7AC91A834E}" type="datetime">
              <a:rPr b="0" lang="ro-RO" sz="1200" spc="-1" strike="noStrike">
                <a:solidFill>
                  <a:srgbClr val="045c75"/>
                </a:solidFill>
                <a:latin typeface="Constantia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 type="ftr" idx="3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 type="sldNum" idx="33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C965A-2853-486F-AD69-ABB816201941}" type="slidenum">
              <a:rPr b="0" lang="ro-RO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4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4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ABA42-5215-4B06-BCE5-5F59DB9CFD3C}" type="datetime">
              <a:rPr b="0" lang="ro-RO" sz="1200" spc="-1" strike="noStrike">
                <a:solidFill>
                  <a:srgbClr val="045c75"/>
                </a:solidFill>
                <a:latin typeface="Constantia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 type="ftr" idx="3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 type="sldNum" idx="3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D11CB-6FFE-44FE-8BB6-47731A8191B3}" type="slidenum">
              <a:rPr b="0" lang="ro-RO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9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9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9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517D5-C8E5-4C46-B8A3-B017C410F556}" type="datetime">
              <a:rPr b="0" lang="ro-RO" sz="1200" spc="-1" strike="noStrike">
                <a:solidFill>
                  <a:srgbClr val="045c75"/>
                </a:solidFill>
                <a:latin typeface="Constantia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 type="ftr" idx="3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 type="sldNum" idx="3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1F0A0-2F73-4C59-AACC-70230BB42387}" type="slidenum">
              <a:rPr b="0" lang="ro-RO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1" name="Rounded Rectangle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642" name="Rounded Rectangle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3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 type="dt" idx="4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AE48D-6EC7-4577-9F1B-8697B607041A}" type="datetime">
              <a:rPr b="0" lang="ro-RO" sz="1000" spc="-1" strike="noStrike">
                <a:solidFill>
                  <a:srgbClr val="a7a399"/>
                </a:solidFill>
                <a:latin typeface="Verdana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 type="ftr" idx="4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 type="sldNum" idx="4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52E09-A885-41F7-BC36-E306A307EF15}" type="slidenum">
              <a:rPr b="0" lang="ro-RO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6" name="Rounded Rectangle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687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8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 type="dt" idx="4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9531A-E966-42F6-81B2-95F2228D7872}" type="datetime">
              <a:rPr b="0" lang="ro-RO" sz="1000" spc="-1" strike="noStrike">
                <a:solidFill>
                  <a:srgbClr val="a7a399"/>
                </a:solidFill>
                <a:latin typeface="Verdana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 type="ftr" idx="4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 type="sldNum" idx="4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8FB69-4D0D-4A96-B8C3-A5EBD63C2058}" type="slidenum">
              <a:rPr b="0" lang="ro-RO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1" name="Rounded Rectangle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732" name="Rounded Rectangle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 type="dt" idx="46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80225-B756-47B2-8EC7-A4845D7E33BB}" type="datetime">
              <a:rPr b="0" lang="ro-RO" sz="1000" spc="-1" strike="noStrike">
                <a:solidFill>
                  <a:srgbClr val="a7a399"/>
                </a:solidFill>
                <a:latin typeface="Verdana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 type="ftr" idx="47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 type="sldNum" idx="48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DE41C-C064-44A6-B528-D09FC6CC5756}" type="slidenum">
              <a:rPr b="0" lang="ro-RO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6" name="Rounded Rectangle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777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8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 type="dt" idx="49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04243-78DE-4FA5-AE3A-5489CED213E3}" type="datetime">
              <a:rPr b="0" lang="ro-RO" sz="1000" spc="-1" strike="noStrike">
                <a:solidFill>
                  <a:srgbClr val="a7a399"/>
                </a:solidFill>
                <a:latin typeface="Verdana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 type="ftr" idx="50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 type="sldNum" idx="51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904EE-C0FE-4328-B2FB-4043BDF522F6}" type="slidenum">
              <a:rPr b="0" lang="ro-RO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1" name="Rounded Rectangle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822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 type="dt" idx="52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E3743-85CF-4F7C-A1A9-7B1DAC943546}" type="datetime">
              <a:rPr b="0" lang="ro-RO" sz="1000" spc="-1" strike="noStrike">
                <a:solidFill>
                  <a:srgbClr val="a7a399"/>
                </a:solidFill>
                <a:latin typeface="Verdana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 type="ftr" idx="53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 type="sldNum" idx="54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E0CE2-8B12-48C1-9E14-1E5CBADF8853}" type="slidenum">
              <a:rPr b="0" lang="ro-RO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6" name="Rounded Rectangle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867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8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 type="dt" idx="55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1B6C8-9E5D-42F3-A653-B34B51962BE6}" type="datetime">
              <a:rPr b="0" lang="ro-RO" sz="1000" spc="-1" strike="noStrike">
                <a:solidFill>
                  <a:srgbClr val="a7a399"/>
                </a:solidFill>
                <a:latin typeface="Verdana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 type="ftr" idx="56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 type="sldNum" idx="57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DAC4E-18EB-4F90-9016-1F2D77FB8A31}" type="slidenum">
              <a:rPr b="0" lang="ro-RO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Rounded Rectangle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52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8B17D-91D7-4A89-A424-D667C6BF929F}" type="datetime">
              <a:rPr b="0" lang="ro-RO" sz="1000" spc="-1" strike="noStrike">
                <a:solidFill>
                  <a:srgbClr val="a7a399"/>
                </a:solidFill>
                <a:latin typeface="Verdana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EBB94-4942-44CC-9937-9B0F3EBCC233}" type="slidenum">
              <a:rPr b="0" lang="ro-RO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 type="dt" idx="58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9958F-CA33-44BD-A8C8-39636F891487}" type="datetime">
              <a:rPr b="0" lang="ro-RO" sz="1000" spc="-1" strike="noStrike">
                <a:solidFill>
                  <a:srgbClr val="a7a399"/>
                </a:solidFill>
                <a:latin typeface="Verdana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 type="ftr" idx="59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5"/>
          <p:cNvSpPr>
            <a:spLocks noGrp="1"/>
          </p:cNvSpPr>
          <p:nvPr>
            <p:ph type="sldNum" idx="60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72FD0-188D-4CC8-A8F0-B9313AD2D29B}" type="slidenum">
              <a:rPr b="0" lang="ro-RO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3" name="Rounded Rectangle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954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5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 type="dt" idx="6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6B4FC-4926-4B4E-83EB-EE16D751956E}" type="datetime">
              <a:rPr b="0" lang="ro-RO" sz="1000" spc="-1" strike="noStrike">
                <a:solidFill>
                  <a:srgbClr val="a7a399"/>
                </a:solidFill>
                <a:latin typeface="Verdana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 type="ftr" idx="6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5"/>
          <p:cNvSpPr>
            <a:spLocks noGrp="1"/>
          </p:cNvSpPr>
          <p:nvPr>
            <p:ph type="sldNum" idx="6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24A04-32BD-45F6-9FA1-A488F25F9990}" type="slidenum">
              <a:rPr b="0" lang="ro-RO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Round Single Corner Rectangle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>
              <a:gd name="textAreaLeft" fmla="*/ 0 w 2324160"/>
              <a:gd name="textAreaRight" fmla="*/ 2305800 w 2324160"/>
              <a:gd name="textAreaTop" fmla="*/ 0 h 4343400"/>
              <a:gd name="textAreaBottom" fmla="*/ 4343760 h 4343400"/>
            </a:gdLst>
            <a:ahLst/>
            <a:rect l="textAreaLeft" t="textAreaTop" r="textAreaRight" b="textAreaBottom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lnTo>
                  <a:pt x="2260234" y="0"/>
                </a:lnTo>
                <a:arcTo wR="63866" hR="63866" stAng="-5400000" swAng="5400000"/>
                <a:lnTo>
                  <a:pt x="2324100" y="4343400"/>
                </a:lnTo>
                <a:lnTo>
                  <a:pt x="0" y="434340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 type="dt" idx="6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C1C59-8C81-45CA-BA5A-16C66D497D6E}" type="datetime">
              <a:rPr b="0" lang="ro-RO" sz="1000" spc="-1" strike="noStrike">
                <a:solidFill>
                  <a:srgbClr val="a7a399"/>
                </a:solidFill>
                <a:latin typeface="Verdana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 type="ftr" idx="6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PlaceHolder 5"/>
          <p:cNvSpPr>
            <a:spLocks noGrp="1"/>
          </p:cNvSpPr>
          <p:nvPr>
            <p:ph type="sldNum" idx="6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03030-7CA6-4596-8FE5-286B5205F20B}" type="slidenum">
              <a:rPr b="0" lang="ro-RO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1" name="Rounded Rectangle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1042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6" name="PlaceHolder 3"/>
          <p:cNvSpPr>
            <a:spLocks noGrp="1"/>
          </p:cNvSpPr>
          <p:nvPr>
            <p:ph type="dt" idx="6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FEF18-44DF-4F2F-9A7C-C8BBF20A0B33}" type="datetime">
              <a:rPr b="0" lang="ro-RO" sz="1000" spc="-1" strike="noStrike">
                <a:solidFill>
                  <a:srgbClr val="a7a399"/>
                </a:solidFill>
                <a:latin typeface="Verdana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4"/>
          <p:cNvSpPr>
            <a:spLocks noGrp="1"/>
          </p:cNvSpPr>
          <p:nvPr>
            <p:ph type="ftr" idx="6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PlaceHolder 5"/>
          <p:cNvSpPr>
            <a:spLocks noGrp="1"/>
          </p:cNvSpPr>
          <p:nvPr>
            <p:ph type="sldNum" idx="6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EEE80-6023-436D-9916-C3343B36813C}" type="slidenum">
              <a:rPr b="0" lang="ro-RO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6" name="Rounded Rectangle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1087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8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1" name="PlaceHolder 3"/>
          <p:cNvSpPr>
            <a:spLocks noGrp="1"/>
          </p:cNvSpPr>
          <p:nvPr>
            <p:ph type="dt" idx="7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9F766-BDCF-4584-A794-A9C08C842362}" type="datetime">
              <a:rPr b="0" lang="ro-RO" sz="1000" spc="-1" strike="noStrike">
                <a:solidFill>
                  <a:srgbClr val="a7a399"/>
                </a:solidFill>
                <a:latin typeface="Verdana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PlaceHolder 4"/>
          <p:cNvSpPr>
            <a:spLocks noGrp="1"/>
          </p:cNvSpPr>
          <p:nvPr>
            <p:ph type="ftr" idx="7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PlaceHolder 5"/>
          <p:cNvSpPr>
            <a:spLocks noGrp="1"/>
          </p:cNvSpPr>
          <p:nvPr>
            <p:ph type="sldNum" idx="7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0DF1C-7B42-438B-8064-F8711E8846BE}" type="slidenum">
              <a:rPr b="0" lang="ro-RO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9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65668-ADCA-4305-9751-74444DC8EE50}" type="datetime">
              <a:rPr b="0" lang="ro-RO" sz="1200" spc="-1" strike="noStrike">
                <a:solidFill>
                  <a:srgbClr val="d1eaee"/>
                </a:solidFill>
                <a:latin typeface="Constantia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46A44-EF4C-442E-8DCB-4DB8227C973F}" type="slidenum">
              <a:rPr b="0" lang="ro-RO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4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4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5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E91BA-0C9D-4D6F-8946-E881AA0FE785}" type="datetime">
              <a:rPr b="0" lang="ro-RO" sz="1200" spc="-1" strike="noStrike">
                <a:solidFill>
                  <a:srgbClr val="045c75"/>
                </a:solidFill>
                <a:latin typeface="Constantia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B0B77-6BDA-42F7-B31A-09C35FD66150}" type="slidenum">
              <a:rPr b="0" lang="ro-RO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9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9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0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55713-3C42-4634-8777-59B7431E3544}" type="datetime">
              <a:rPr b="0" lang="ro-RO" sz="1200" spc="-1" strike="noStrike">
                <a:solidFill>
                  <a:srgbClr val="d1eaee"/>
                </a:solidFill>
                <a:latin typeface="Constantia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E9F02-830D-4220-8B0C-AF60AEB13898}" type="slidenum">
              <a:rPr b="0" lang="ro-RO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4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24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5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BC1D3-8E57-4F83-A91A-D210BD76F484}" type="datetime">
              <a:rPr b="0" lang="ro-RO" sz="1200" spc="-1" strike="noStrike">
                <a:solidFill>
                  <a:srgbClr val="045c75"/>
                </a:solidFill>
                <a:latin typeface="Constantia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 type="ftr" idx="17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 type="sldNum" idx="18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47D77-E375-490D-BA53-5337633BECE5}" type="slidenum">
              <a:rPr b="0" lang="ro-RO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9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29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30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F6CCA-AAE3-45F7-9FEA-B70C0FD174F9}" type="datetime">
              <a:rPr b="0" lang="ro-RO" sz="1200" spc="-1" strike="noStrike">
                <a:solidFill>
                  <a:srgbClr val="045c75"/>
                </a:solidFill>
                <a:latin typeface="Constantia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20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21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A3614-1E86-4CB4-9551-01846ABA15B0}" type="slidenum">
              <a:rPr b="0" lang="ro-RO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34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34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35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567B9-48EA-4A91-903B-CDE2C28EDB2D}" type="datetime">
              <a:rPr b="0" lang="ro-RO" sz="1200" spc="-1" strike="noStrike">
                <a:solidFill>
                  <a:srgbClr val="045c75"/>
                </a:solidFill>
                <a:latin typeface="Constantia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 type="ftr" idx="23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 type="sldNum" idx="24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387F0-DC3B-49F0-BEFD-5D76C483892C}" type="slidenum">
              <a:rPr b="0" lang="ro-RO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39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39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40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82177-3BC8-4372-8361-D04A27082F2A}" type="datetime">
              <a:rPr b="0" lang="ro-RO" sz="1200" spc="-1" strike="noStrike">
                <a:solidFill>
                  <a:srgbClr val="045c75"/>
                </a:solidFill>
                <a:latin typeface="Constantia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 type="ftr" idx="26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 type="sldNum" idx="27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DF872-CD13-45AB-A88B-F0C7E95A29EB}" type="slidenum">
              <a:rPr b="0" lang="ro-RO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6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788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0" name="Title 1" descr=""/>
          <p:cNvPicPr/>
          <p:nvPr/>
        </p:nvPicPr>
        <p:blipFill>
          <a:blip r:embed="rId1"/>
          <a:stretch/>
        </p:blipFill>
        <p:spPr>
          <a:xfrm>
            <a:off x="480960" y="-49320"/>
            <a:ext cx="8255160" cy="2243160"/>
          </a:xfrm>
          <a:prstGeom prst="rect">
            <a:avLst/>
          </a:prstGeom>
          <a:ln w="0">
            <a:noFill/>
          </a:ln>
        </p:spPr>
      </p:pic>
      <p:sp>
        <p:nvSpPr>
          <p:cNvPr id="1131" name="PlaceHolder 1"/>
          <p:cNvSpPr>
            <a:spLocks noGrp="1"/>
          </p:cNvSpPr>
          <p:nvPr>
            <p:ph type="subTitle"/>
          </p:nvPr>
        </p:nvSpPr>
        <p:spPr>
          <a:xfrm>
            <a:off x="285480" y="1571400"/>
            <a:ext cx="8643960" cy="478620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txBody>
          <a:bodyPr lIns="0" rIns="18360" anchor="t">
            <a:noAutofit/>
          </a:bodyPr>
          <a:p>
            <a:pPr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600" spc="-1" strike="noStrike">
                <a:solidFill>
                  <a:srgbClr val="00293a"/>
                </a:solidFill>
                <a:latin typeface="Constantia"/>
              </a:rPr>
              <a:t>Obiective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293a"/>
                </a:solidFill>
                <a:latin typeface="Constantia"/>
              </a:rPr>
              <a:t>enumerarea elementelor care stau la baza dimensionării şi orientării căilor de circulaţie;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293a"/>
                </a:solidFill>
                <a:latin typeface="Constantia"/>
              </a:rPr>
              <a:t>descrierea completă a tuturor elementelor care stau la baza dimensionării şi orientării căilor de circulaţie;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293a"/>
                </a:solidFill>
                <a:latin typeface="Constantia"/>
              </a:rPr>
              <a:t>prezentarea tuturor tipurilor de fluxuri de circulaţie a clienţilor în sala de vânzare;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293a"/>
                </a:solidFill>
                <a:latin typeface="Constantia"/>
              </a:rPr>
              <a:t>stabilirea corectă a fluxului mărfurilor şi ambalajelor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32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7E08F-1761-4009-ADD1-08DDE886A7D4}" type="datetime">
              <a:rPr b="0" lang="ro-RO" sz="1400" spc="-1" strike="noStrike">
                <a:solidFill>
                  <a:srgbClr val="000000"/>
                </a:solidFill>
                <a:latin typeface="Constantia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Slide Number Placeholder 4"/>
          <p:cNvSpPr/>
          <p:nvPr/>
        </p:nvSpPr>
        <p:spPr>
          <a:xfrm>
            <a:off x="8358120" y="6356520"/>
            <a:ext cx="328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AE3E3-1161-42BB-8CD2-11DC5CB5DA33}" type="slidenum">
              <a:rPr b="0" lang="ro-RO" sz="1600" spc="-1" strike="noStrike">
                <a:solidFill>
                  <a:srgbClr val="000000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788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4" name="Title 1" descr=""/>
          <p:cNvPicPr/>
          <p:nvPr/>
        </p:nvPicPr>
        <p:blipFill>
          <a:blip r:embed="rId1"/>
          <a:stretch/>
        </p:blipFill>
        <p:spPr>
          <a:xfrm>
            <a:off x="603360" y="-517680"/>
            <a:ext cx="7711920" cy="2102040"/>
          </a:xfrm>
          <a:prstGeom prst="rect">
            <a:avLst/>
          </a:prstGeom>
          <a:ln w="0">
            <a:noFill/>
          </a:ln>
        </p:spPr>
      </p:pic>
      <p:pic>
        <p:nvPicPr>
          <p:cNvPr id="1135" name="Content Placeholder 2" descr=""/>
          <p:cNvPicPr/>
          <p:nvPr/>
        </p:nvPicPr>
        <p:blipFill>
          <a:blip r:embed="rId2"/>
          <a:stretch/>
        </p:blipFill>
        <p:spPr>
          <a:xfrm>
            <a:off x="689040" y="414360"/>
            <a:ext cx="8540640" cy="9345600"/>
          </a:xfrm>
          <a:prstGeom prst="rect">
            <a:avLst/>
          </a:prstGeom>
          <a:ln w="0">
            <a:noFill/>
          </a:ln>
        </p:spPr>
      </p:pic>
      <p:sp>
        <p:nvSpPr>
          <p:cNvPr id="1136" name="Date Placeholder 3"/>
          <p:cNvSpPr/>
          <p:nvPr/>
        </p:nvSpPr>
        <p:spPr>
          <a:xfrm>
            <a:off x="457200" y="6356520"/>
            <a:ext cx="1114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8CEDA-43D8-4213-96A3-82662275E6E5}" type="datetime">
              <a:rPr b="0" lang="ro-RO" sz="1600" spc="-1" strike="noStrike">
                <a:solidFill>
                  <a:srgbClr val="03231b"/>
                </a:solidFill>
                <a:latin typeface="Constantia"/>
              </a:rPr>
              <a:t>29.07.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Slide Number Placeholder 4"/>
          <p:cNvSpPr/>
          <p:nvPr/>
        </p:nvSpPr>
        <p:spPr>
          <a:xfrm>
            <a:off x="8001000" y="635796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52EF0-88B3-4D28-B8E7-F07BD90ED844}" type="slidenum">
              <a:rPr b="0" lang="ro-RO" sz="1600" spc="-1" strike="noStrike">
                <a:solidFill>
                  <a:srgbClr val="03271e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8" name="Picture 2" descr=""/>
          <p:cNvPicPr/>
          <p:nvPr/>
        </p:nvPicPr>
        <p:blipFill>
          <a:blip r:embed="rId3"/>
          <a:stretch/>
        </p:blipFill>
        <p:spPr>
          <a:xfrm>
            <a:off x="6072120" y="3786120"/>
            <a:ext cx="2871720" cy="25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f24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Date Placeholder 3"/>
          <p:cNvSpPr/>
          <p:nvPr/>
        </p:nvSpPr>
        <p:spPr>
          <a:xfrm>
            <a:off x="457200" y="6356520"/>
            <a:ext cx="971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86C55-6778-4C47-AE3F-A28B21E28440}" type="datetime">
              <a:rPr b="0" lang="ro-RO" sz="1600" spc="-1" strike="noStrike">
                <a:solidFill>
                  <a:srgbClr val="1f250d"/>
                </a:solidFill>
                <a:latin typeface="Constantia"/>
              </a:rPr>
              <a:t>29.07.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Slide Number Placeholder 4"/>
          <p:cNvSpPr/>
          <p:nvPr/>
        </p:nvSpPr>
        <p:spPr>
          <a:xfrm>
            <a:off x="8358120" y="6356520"/>
            <a:ext cx="328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4A83C-0F4A-4113-9FC4-35D137B518D9}" type="slidenum">
              <a:rPr b="0" lang="ro-RO" sz="1600" spc="-1" strike="noStrike">
                <a:solidFill>
                  <a:srgbClr val="1d220c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Footer Placeholder 5"/>
          <p:cNvSpPr/>
          <p:nvPr/>
        </p:nvSpPr>
        <p:spPr>
          <a:xfrm>
            <a:off x="2428920" y="6356520"/>
            <a:ext cx="457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"/>
          <p:cNvSpPr txBox="1"/>
          <p:nvPr/>
        </p:nvSpPr>
        <p:spPr>
          <a:xfrm>
            <a:off x="213840" y="142560"/>
            <a:ext cx="8643960" cy="618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800" spc="-1" strike="noStrike">
                <a:solidFill>
                  <a:srgbClr val="00364c"/>
                </a:solidFill>
                <a:latin typeface="Constantia"/>
              </a:rPr>
              <a:t>I.Mărimea magazinului şi particularităţile lui constructive</a:t>
            </a:r>
            <a:r>
              <a:rPr b="1" i="1" lang="ro-RO" sz="2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71680" indent="-571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800" spc="-1" strike="noStrike">
                <a:solidFill>
                  <a:srgbClr val="00293a"/>
                </a:solidFill>
                <a:latin typeface="Constantia"/>
              </a:rPr>
              <a:t>Sfaturi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71680" indent="-5716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293a"/>
                </a:solidFill>
                <a:latin typeface="Constantia"/>
              </a:rPr>
              <a:t> </a:t>
            </a:r>
            <a:r>
              <a:rPr b="0" lang="ro-RO" sz="2800" spc="-1" strike="noStrike">
                <a:solidFill>
                  <a:srgbClr val="00293a"/>
                </a:solidFill>
                <a:latin typeface="Constantia"/>
              </a:rPr>
              <a:t>intrarea în magazin să fie orientată spre stradă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71680" indent="-5716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293a"/>
                </a:solidFill>
                <a:latin typeface="Constantia"/>
              </a:rPr>
              <a:t> </a:t>
            </a:r>
            <a:r>
              <a:rPr b="0" lang="ro-RO" sz="2800" spc="-1" strike="noStrike">
                <a:solidFill>
                  <a:srgbClr val="00293a"/>
                </a:solidFill>
                <a:latin typeface="Constantia"/>
              </a:rPr>
              <a:t>deschiderea uşilor să se facă în sensul fluxului clienţilor (spre stânga) la magazinele cu autoservire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71680" indent="-5716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293a"/>
                </a:solidFill>
                <a:latin typeface="Constantia"/>
              </a:rPr>
              <a:t> </a:t>
            </a:r>
            <a:r>
              <a:rPr b="0" lang="ro-RO" sz="2800" spc="-1" strike="noStrike">
                <a:solidFill>
                  <a:srgbClr val="00293a"/>
                </a:solidFill>
                <a:latin typeface="Constantia"/>
              </a:rPr>
              <a:t>este de preferat ca pentru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71680" indent="-571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293a"/>
                </a:solidFill>
                <a:latin typeface="Constantia"/>
              </a:rPr>
              <a:t>uşa de ieşire să existe o uşă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71680" indent="-571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293a"/>
                </a:solidFill>
                <a:latin typeface="Constantia"/>
              </a:rPr>
              <a:t> </a:t>
            </a:r>
            <a:r>
              <a:rPr b="0" lang="ro-RO" sz="2800" spc="-1" strike="noStrike">
                <a:solidFill>
                  <a:srgbClr val="00293a"/>
                </a:solidFill>
                <a:latin typeface="Constantia"/>
              </a:rPr>
              <a:t>distinctă. 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71680" indent="-5716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71680" indent="-571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143" name="Picture 3" descr=""/>
          <p:cNvPicPr/>
          <p:nvPr/>
        </p:nvPicPr>
        <p:blipFill>
          <a:blip r:embed="rId5"/>
          <a:stretch/>
        </p:blipFill>
        <p:spPr>
          <a:xfrm>
            <a:off x="4929120" y="3071880"/>
            <a:ext cx="3714840" cy="33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9f44">
            <a:alpha val="83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Date Placeholder 3"/>
          <p:cNvSpPr/>
          <p:nvPr/>
        </p:nvSpPr>
        <p:spPr>
          <a:xfrm>
            <a:off x="457200" y="6356520"/>
            <a:ext cx="971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CCC92-C941-4989-95D7-E7915F00C90D}" type="datetime">
              <a:rPr b="0" lang="ro-RO" sz="1600" spc="-1" strike="noStrike">
                <a:solidFill>
                  <a:srgbClr val="02232c"/>
                </a:solidFill>
                <a:latin typeface="Constantia"/>
              </a:rPr>
              <a:t>29.07.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Slide Number Placeholder 4"/>
          <p:cNvSpPr/>
          <p:nvPr/>
        </p:nvSpPr>
        <p:spPr>
          <a:xfrm>
            <a:off x="8358120" y="6356520"/>
            <a:ext cx="328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5DB0C-D018-47D3-9498-3B9D6B3015B2}" type="slidenum">
              <a:rPr b="0" lang="ro-RO" sz="1600" spc="-1" strike="noStrike">
                <a:solidFill>
                  <a:srgbClr val="01202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"/>
          <p:cNvSpPr txBox="1"/>
          <p:nvPr/>
        </p:nvSpPr>
        <p:spPr>
          <a:xfrm>
            <a:off x="285840" y="357120"/>
            <a:ext cx="8572320" cy="596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800" spc="-1" strike="noStrike">
                <a:solidFill>
                  <a:srgbClr val="00364c"/>
                </a:solidFill>
                <a:latin typeface="Constantia"/>
              </a:rPr>
              <a:t>II. Dispunerea mobilierului comercial în sala de vânzare, în legătură directă cu formele de vânzare practicate în magazin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800" spc="-1" strike="noStrike">
                <a:solidFill>
                  <a:srgbClr val="00364c"/>
                </a:solidFill>
                <a:latin typeface="Constantia"/>
              </a:rPr>
              <a:t>	</a:t>
            </a:r>
            <a:r>
              <a:rPr b="0" lang="ro-RO" sz="2800" spc="-1" strike="noStrike">
                <a:solidFill>
                  <a:srgbClr val="00364c"/>
                </a:solidFill>
                <a:latin typeface="Constantia"/>
              </a:rPr>
              <a:t>În magazanele cu autoservire, gondolele pot fi orientate în diferite moduri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364c"/>
                </a:solidFill>
                <a:latin typeface="Constantia"/>
              </a:rPr>
              <a:t>a) în lungul axei longitudinale a sălii de vânzare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364c"/>
                </a:solidFill>
                <a:latin typeface="Constantia"/>
              </a:rPr>
              <a:t>Gondole (mobilier de expuner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364c"/>
                </a:solidFill>
                <a:latin typeface="Constantia"/>
              </a:rPr>
              <a:t>a produselor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364c"/>
                </a:solidFill>
                <a:latin typeface="Constantia"/>
              </a:rPr>
              <a:t>    </a:t>
            </a:r>
            <a:r>
              <a:rPr b="0" lang="ro-RO" sz="2400" spc="-1" strike="noStrike">
                <a:solidFill>
                  <a:srgbClr val="00364c"/>
                </a:solidFill>
                <a:latin typeface="Constantia"/>
              </a:rPr>
              <a:t>- case de marca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147" name="Picture 3" descr=""/>
          <p:cNvPicPr/>
          <p:nvPr/>
        </p:nvPicPr>
        <p:blipFill>
          <a:blip r:embed="rId1"/>
          <a:stretch/>
        </p:blipFill>
        <p:spPr>
          <a:xfrm>
            <a:off x="5000760" y="3143160"/>
            <a:ext cx="3936960" cy="2714760"/>
          </a:xfrm>
          <a:prstGeom prst="rect">
            <a:avLst/>
          </a:prstGeom>
          <a:ln w="0">
            <a:noFill/>
          </a:ln>
        </p:spPr>
      </p:pic>
      <p:sp>
        <p:nvSpPr>
          <p:cNvPr id="1148" name="Rectangle 6"/>
          <p:cNvSpPr/>
          <p:nvPr/>
        </p:nvSpPr>
        <p:spPr>
          <a:xfrm>
            <a:off x="1214280" y="3357720"/>
            <a:ext cx="3143520" cy="14256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Rectangle 7"/>
          <p:cNvSpPr/>
          <p:nvPr/>
        </p:nvSpPr>
        <p:spPr>
          <a:xfrm>
            <a:off x="1214280" y="3714840"/>
            <a:ext cx="3143520" cy="14292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Rectangle 8"/>
          <p:cNvSpPr/>
          <p:nvPr/>
        </p:nvSpPr>
        <p:spPr>
          <a:xfrm>
            <a:off x="1214280" y="4071960"/>
            <a:ext cx="3143520" cy="14292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Rectangle 9"/>
          <p:cNvSpPr/>
          <p:nvPr/>
        </p:nvSpPr>
        <p:spPr>
          <a:xfrm>
            <a:off x="1214280" y="4429080"/>
            <a:ext cx="3143520" cy="14292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Rectangle 10"/>
          <p:cNvSpPr/>
          <p:nvPr/>
        </p:nvSpPr>
        <p:spPr>
          <a:xfrm>
            <a:off x="1214280" y="4786200"/>
            <a:ext cx="3143520" cy="14292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Straight Connector 12"/>
          <p:cNvSpPr/>
          <p:nvPr/>
        </p:nvSpPr>
        <p:spPr>
          <a:xfrm>
            <a:off x="500040" y="3357720"/>
            <a:ext cx="4357800" cy="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Straight Connector 14"/>
          <p:cNvSpPr/>
          <p:nvPr/>
        </p:nvSpPr>
        <p:spPr>
          <a:xfrm>
            <a:off x="4857840" y="3357720"/>
            <a:ext cx="0" cy="157140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Straight Connector 16"/>
          <p:cNvSpPr/>
          <p:nvPr/>
        </p:nvSpPr>
        <p:spPr>
          <a:xfrm>
            <a:off x="500040" y="4929120"/>
            <a:ext cx="4357800" cy="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Straight Connector 20"/>
          <p:cNvSpPr/>
          <p:nvPr/>
        </p:nvSpPr>
        <p:spPr>
          <a:xfrm>
            <a:off x="500040" y="3357720"/>
            <a:ext cx="0" cy="100008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Straight Connector 21"/>
          <p:cNvSpPr/>
          <p:nvPr/>
        </p:nvSpPr>
        <p:spPr>
          <a:xfrm>
            <a:off x="500040" y="4714920"/>
            <a:ext cx="0" cy="28584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58" name="Straight Arrow Connector 30"/>
          <p:cNvCxnSpPr/>
          <p:nvPr/>
        </p:nvCxnSpPr>
        <p:spPr>
          <a:xfrm>
            <a:off x="428760" y="4572000"/>
            <a:ext cx="357840" cy="216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1159" name="Rectangle 34"/>
          <p:cNvSpPr/>
          <p:nvPr/>
        </p:nvSpPr>
        <p:spPr>
          <a:xfrm flipV="1" rot="5400000">
            <a:off x="3977640" y="4047840"/>
            <a:ext cx="1571400" cy="18900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0" name="Straight Arrow Connector 35"/>
          <p:cNvCxnSpPr/>
          <p:nvPr/>
        </p:nvCxnSpPr>
        <p:spPr>
          <a:xfrm flipV="1">
            <a:off x="4500720" y="3642840"/>
            <a:ext cx="10080" cy="34704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161" name="Straight Arrow Connector 36"/>
          <p:cNvCxnSpPr/>
          <p:nvPr/>
        </p:nvCxnSpPr>
        <p:spPr>
          <a:xfrm flipV="1">
            <a:off x="4500720" y="4357440"/>
            <a:ext cx="2160" cy="35784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162" name="Straight Arrow Connector 37"/>
          <p:cNvCxnSpPr/>
          <p:nvPr/>
        </p:nvCxnSpPr>
        <p:spPr>
          <a:xfrm>
            <a:off x="1356840" y="4714920"/>
            <a:ext cx="3072600" cy="216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163" name="Straight Arrow Connector 40"/>
          <p:cNvCxnSpPr/>
          <p:nvPr/>
        </p:nvCxnSpPr>
        <p:spPr>
          <a:xfrm>
            <a:off x="1356840" y="4000680"/>
            <a:ext cx="3072600" cy="216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164" name="Straight Arrow Connector 41"/>
          <p:cNvCxnSpPr/>
          <p:nvPr/>
        </p:nvCxnSpPr>
        <p:spPr>
          <a:xfrm flipH="1" flipV="1">
            <a:off x="1213920" y="4357440"/>
            <a:ext cx="3144240" cy="216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165" name="Straight Arrow Connector 44"/>
          <p:cNvCxnSpPr/>
          <p:nvPr/>
        </p:nvCxnSpPr>
        <p:spPr>
          <a:xfrm flipH="1" flipV="1">
            <a:off x="1213920" y="3642480"/>
            <a:ext cx="3144240" cy="252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166" name="Straight Arrow Connector 47"/>
          <p:cNvCxnSpPr/>
          <p:nvPr/>
        </p:nvCxnSpPr>
        <p:spPr>
          <a:xfrm flipV="1">
            <a:off x="1071720" y="3999960"/>
            <a:ext cx="10080" cy="34668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1167" name="Rectangle 48"/>
          <p:cNvSpPr/>
          <p:nvPr/>
        </p:nvSpPr>
        <p:spPr>
          <a:xfrm>
            <a:off x="785880" y="3500280"/>
            <a:ext cx="71280" cy="14292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Rectangle 49"/>
          <p:cNvSpPr/>
          <p:nvPr/>
        </p:nvSpPr>
        <p:spPr>
          <a:xfrm>
            <a:off x="785880" y="3786120"/>
            <a:ext cx="71280" cy="14292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Rectangle 50"/>
          <p:cNvSpPr/>
          <p:nvPr/>
        </p:nvSpPr>
        <p:spPr>
          <a:xfrm>
            <a:off x="785880" y="4143240"/>
            <a:ext cx="71280" cy="14292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Rectangle 51"/>
          <p:cNvSpPr/>
          <p:nvPr/>
        </p:nvSpPr>
        <p:spPr>
          <a:xfrm>
            <a:off x="428760" y="6000840"/>
            <a:ext cx="71280" cy="14292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71" name="Straight Arrow Connector 52"/>
          <p:cNvCxnSpPr/>
          <p:nvPr/>
        </p:nvCxnSpPr>
        <p:spPr>
          <a:xfrm flipH="1" flipV="1">
            <a:off x="785520" y="3428640"/>
            <a:ext cx="348480" cy="7200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172" name="Straight Arrow Connector 54"/>
          <p:cNvCxnSpPr/>
          <p:nvPr/>
        </p:nvCxnSpPr>
        <p:spPr>
          <a:xfrm>
            <a:off x="642960" y="3499920"/>
            <a:ext cx="10080" cy="35820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173" name="Straight Arrow Connector 56"/>
          <p:cNvCxnSpPr/>
          <p:nvPr/>
        </p:nvCxnSpPr>
        <p:spPr>
          <a:xfrm flipH="1">
            <a:off x="641160" y="3930120"/>
            <a:ext cx="2160" cy="35820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174" name="Straight Arrow Connector 59"/>
          <p:cNvCxnSpPr/>
          <p:nvPr/>
        </p:nvCxnSpPr>
        <p:spPr>
          <a:xfrm flipH="1">
            <a:off x="285120" y="4428000"/>
            <a:ext cx="338760" cy="1044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a573">
            <a:alpha val="93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Date Placeholder 3"/>
          <p:cNvSpPr/>
          <p:nvPr/>
        </p:nvSpPr>
        <p:spPr>
          <a:xfrm>
            <a:off x="285840" y="6356520"/>
            <a:ext cx="1071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CF500-E257-4DB5-9ECD-6B6AEB70CC59}" type="datetime">
              <a:rPr b="0" lang="ro-RO" sz="1600" spc="-1" strike="noStrike">
                <a:solidFill>
                  <a:srgbClr val="002c3e"/>
                </a:solidFill>
                <a:latin typeface="Constantia"/>
              </a:rPr>
              <a:t>29.07.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C4D50-F73F-40CD-863D-8AB6196FC06E}" type="slidenum">
              <a:rPr b="0" lang="ro-RO" sz="1600" spc="-1" strike="noStrike">
                <a:solidFill>
                  <a:srgbClr val="002c3e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"/>
          <p:cNvSpPr txBox="1"/>
          <p:nvPr/>
        </p:nvSpPr>
        <p:spPr>
          <a:xfrm>
            <a:off x="214200" y="285840"/>
            <a:ext cx="8715600" cy="60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2c3e"/>
                </a:solidFill>
                <a:latin typeface="Constantia"/>
              </a:rPr>
              <a:t>b) </a:t>
            </a:r>
            <a:r>
              <a:rPr b="0" lang="ro-RO" sz="2400" spc="-1" strike="noStrike">
                <a:solidFill>
                  <a:srgbClr val="002c3e"/>
                </a:solidFill>
                <a:latin typeface="Constantia"/>
              </a:rPr>
              <a:t>Perpendicular pe axa longitudinală  a sălii de vânzare – fluxul clienţilor este orientat astfel încât punctul de plecare să corespundă cu punctul de sosire. Numărul rândurilor de gondole dispuse pe mijlocul suprafeţei de vânzare trebuie să fie impa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2c3e"/>
                </a:solidFill>
                <a:latin typeface="Constantia"/>
              </a:rPr>
              <a:t>În magazinele cu vânzare clasică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2c3e"/>
                </a:solidFill>
                <a:latin typeface="Constantia"/>
              </a:rPr>
              <a:t>mobilierul poate fi dispus de-a lungul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2c3e"/>
                </a:solidFill>
                <a:latin typeface="Constantia"/>
              </a:rPr>
              <a:t>pereţilor  şi în mijlocul sălilor de vânzar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178" name="Picture 2" descr=""/>
          <p:cNvPicPr/>
          <p:nvPr/>
        </p:nvPicPr>
        <p:blipFill>
          <a:blip r:embed="rId1"/>
          <a:stretch/>
        </p:blipFill>
        <p:spPr>
          <a:xfrm>
            <a:off x="5786280" y="4357800"/>
            <a:ext cx="3262320" cy="2136600"/>
          </a:xfrm>
          <a:prstGeom prst="rect">
            <a:avLst/>
          </a:prstGeom>
          <a:ln w="0">
            <a:noFill/>
          </a:ln>
        </p:spPr>
      </p:pic>
      <p:sp>
        <p:nvSpPr>
          <p:cNvPr id="1179" name="Straight Connector 7"/>
          <p:cNvSpPr/>
          <p:nvPr/>
        </p:nvSpPr>
        <p:spPr>
          <a:xfrm>
            <a:off x="857160" y="1928880"/>
            <a:ext cx="4857840" cy="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Straight Connector 8"/>
          <p:cNvSpPr/>
          <p:nvPr/>
        </p:nvSpPr>
        <p:spPr>
          <a:xfrm flipV="1">
            <a:off x="857160" y="1928880"/>
            <a:ext cx="0" cy="228600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Straight Connector 9"/>
          <p:cNvSpPr/>
          <p:nvPr/>
        </p:nvSpPr>
        <p:spPr>
          <a:xfrm>
            <a:off x="5715000" y="1928880"/>
            <a:ext cx="0" cy="250020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Rectangle 17"/>
          <p:cNvSpPr/>
          <p:nvPr/>
        </p:nvSpPr>
        <p:spPr>
          <a:xfrm>
            <a:off x="1214280" y="1928880"/>
            <a:ext cx="4071960" cy="21420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Rectangle 18"/>
          <p:cNvSpPr/>
          <p:nvPr/>
        </p:nvSpPr>
        <p:spPr>
          <a:xfrm flipV="1">
            <a:off x="857160" y="1928160"/>
            <a:ext cx="214560" cy="250020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Rectangle 19"/>
          <p:cNvSpPr/>
          <p:nvPr/>
        </p:nvSpPr>
        <p:spPr>
          <a:xfrm rot="5400000">
            <a:off x="4566960" y="2862360"/>
            <a:ext cx="2071800" cy="20484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Rectangle 20"/>
          <p:cNvSpPr/>
          <p:nvPr/>
        </p:nvSpPr>
        <p:spPr>
          <a:xfrm rot="5400000">
            <a:off x="4250520" y="2964600"/>
            <a:ext cx="1571760" cy="21456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Rectangle 21"/>
          <p:cNvSpPr/>
          <p:nvPr/>
        </p:nvSpPr>
        <p:spPr>
          <a:xfrm rot="5400000">
            <a:off x="1892520" y="2964600"/>
            <a:ext cx="1571760" cy="21420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Rectangle 22"/>
          <p:cNvSpPr/>
          <p:nvPr/>
        </p:nvSpPr>
        <p:spPr>
          <a:xfrm rot="5400000">
            <a:off x="2535480" y="2964600"/>
            <a:ext cx="1571760" cy="21420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Rectangle 23"/>
          <p:cNvSpPr/>
          <p:nvPr/>
        </p:nvSpPr>
        <p:spPr>
          <a:xfrm rot="5400000">
            <a:off x="3107520" y="2964600"/>
            <a:ext cx="1571760" cy="21456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Rectangle 24"/>
          <p:cNvSpPr/>
          <p:nvPr/>
        </p:nvSpPr>
        <p:spPr>
          <a:xfrm rot="5400000">
            <a:off x="3678480" y="2964600"/>
            <a:ext cx="1571760" cy="21420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Rectangle 25"/>
          <p:cNvSpPr/>
          <p:nvPr/>
        </p:nvSpPr>
        <p:spPr>
          <a:xfrm rot="5400000">
            <a:off x="749520" y="2964600"/>
            <a:ext cx="1571760" cy="21420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Rectangle 26"/>
          <p:cNvSpPr/>
          <p:nvPr/>
        </p:nvSpPr>
        <p:spPr>
          <a:xfrm rot="5400000">
            <a:off x="1321200" y="2964600"/>
            <a:ext cx="1571760" cy="21456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Straight Connector 30"/>
          <p:cNvSpPr/>
          <p:nvPr/>
        </p:nvSpPr>
        <p:spPr>
          <a:xfrm>
            <a:off x="857160" y="4429080"/>
            <a:ext cx="3929040" cy="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Straight Connector 34"/>
          <p:cNvSpPr/>
          <p:nvPr/>
        </p:nvSpPr>
        <p:spPr>
          <a:xfrm>
            <a:off x="5143680" y="4429080"/>
            <a:ext cx="571320" cy="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Rectangle 36"/>
          <p:cNvSpPr/>
          <p:nvPr/>
        </p:nvSpPr>
        <p:spPr>
          <a:xfrm>
            <a:off x="1714680" y="4143240"/>
            <a:ext cx="214200" cy="7164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Rectangle 37"/>
          <p:cNvSpPr/>
          <p:nvPr/>
        </p:nvSpPr>
        <p:spPr>
          <a:xfrm>
            <a:off x="2286000" y="4143240"/>
            <a:ext cx="214200" cy="7164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Rectangle 38"/>
          <p:cNvSpPr/>
          <p:nvPr/>
        </p:nvSpPr>
        <p:spPr>
          <a:xfrm>
            <a:off x="2857680" y="4143240"/>
            <a:ext cx="214200" cy="7164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Rectangle 39"/>
          <p:cNvSpPr/>
          <p:nvPr/>
        </p:nvSpPr>
        <p:spPr>
          <a:xfrm>
            <a:off x="3500280" y="4143240"/>
            <a:ext cx="214560" cy="7164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Rectangle 40"/>
          <p:cNvSpPr/>
          <p:nvPr/>
        </p:nvSpPr>
        <p:spPr>
          <a:xfrm>
            <a:off x="4214880" y="4143240"/>
            <a:ext cx="214200" cy="7164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9" name="Straight Arrow Connector 43"/>
          <p:cNvCxnSpPr/>
          <p:nvPr/>
        </p:nvCxnSpPr>
        <p:spPr>
          <a:xfrm flipV="1">
            <a:off x="5072040" y="4144680"/>
            <a:ext cx="2160" cy="42912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200" name="Straight Arrow Connector 44"/>
          <p:cNvCxnSpPr/>
          <p:nvPr/>
        </p:nvCxnSpPr>
        <p:spPr>
          <a:xfrm>
            <a:off x="4856760" y="4143240"/>
            <a:ext cx="11880" cy="51192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201" name="Straight Arrow Connector 46"/>
          <p:cNvCxnSpPr/>
          <p:nvPr/>
        </p:nvCxnSpPr>
        <p:spPr>
          <a:xfrm flipV="1">
            <a:off x="5072040" y="3928320"/>
            <a:ext cx="286560" cy="21492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202" name="Straight Arrow Connector 48"/>
          <p:cNvCxnSpPr/>
          <p:nvPr/>
        </p:nvCxnSpPr>
        <p:spPr>
          <a:xfrm flipV="1">
            <a:off x="5357880" y="2285640"/>
            <a:ext cx="2160" cy="157392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203" name="Straight Arrow Connector 50"/>
          <p:cNvCxnSpPr/>
          <p:nvPr/>
        </p:nvCxnSpPr>
        <p:spPr>
          <a:xfrm flipH="1" flipV="1">
            <a:off x="4285800" y="3928680"/>
            <a:ext cx="357840" cy="216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204" name="Straight Arrow Connector 52"/>
          <p:cNvCxnSpPr/>
          <p:nvPr/>
        </p:nvCxnSpPr>
        <p:spPr>
          <a:xfrm flipH="1" flipV="1">
            <a:off x="3714480" y="2214360"/>
            <a:ext cx="357840" cy="216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205" name="Straight Arrow Connector 53"/>
          <p:cNvCxnSpPr/>
          <p:nvPr/>
        </p:nvCxnSpPr>
        <p:spPr>
          <a:xfrm flipH="1" flipV="1">
            <a:off x="3142800" y="3928680"/>
            <a:ext cx="357840" cy="216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206" name="Straight Arrow Connector 54"/>
          <p:cNvCxnSpPr/>
          <p:nvPr/>
        </p:nvCxnSpPr>
        <p:spPr>
          <a:xfrm flipH="1" flipV="1">
            <a:off x="2785680" y="2214360"/>
            <a:ext cx="357840" cy="216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207" name="Straight Arrow Connector 55"/>
          <p:cNvCxnSpPr/>
          <p:nvPr/>
        </p:nvCxnSpPr>
        <p:spPr>
          <a:xfrm flipH="1" flipV="1">
            <a:off x="2499480" y="3928680"/>
            <a:ext cx="358200" cy="216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208" name="Straight Arrow Connector 56"/>
          <p:cNvCxnSpPr/>
          <p:nvPr/>
        </p:nvCxnSpPr>
        <p:spPr>
          <a:xfrm flipH="1" flipV="1">
            <a:off x="1928520" y="3928680"/>
            <a:ext cx="357840" cy="216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209" name="Straight Arrow Connector 57"/>
          <p:cNvCxnSpPr/>
          <p:nvPr/>
        </p:nvCxnSpPr>
        <p:spPr>
          <a:xfrm flipH="1" flipV="1">
            <a:off x="3714480" y="3928680"/>
            <a:ext cx="357840" cy="216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210" name="Straight Arrow Connector 58"/>
          <p:cNvCxnSpPr/>
          <p:nvPr/>
        </p:nvCxnSpPr>
        <p:spPr>
          <a:xfrm flipH="1" flipV="1">
            <a:off x="4785480" y="2214360"/>
            <a:ext cx="358200" cy="216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211" name="Straight Arrow Connector 59"/>
          <p:cNvCxnSpPr/>
          <p:nvPr/>
        </p:nvCxnSpPr>
        <p:spPr>
          <a:xfrm flipV="1">
            <a:off x="4214880" y="2285640"/>
            <a:ext cx="2160" cy="157248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212" name="Straight Arrow Connector 60"/>
          <p:cNvCxnSpPr/>
          <p:nvPr/>
        </p:nvCxnSpPr>
        <p:spPr>
          <a:xfrm flipV="1">
            <a:off x="2999160" y="2356920"/>
            <a:ext cx="2520" cy="157248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213" name="Straight Arrow Connector 61"/>
          <p:cNvCxnSpPr/>
          <p:nvPr/>
        </p:nvCxnSpPr>
        <p:spPr>
          <a:xfrm flipV="1">
            <a:off x="1856160" y="2285640"/>
            <a:ext cx="2520" cy="157248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214" name="Straight Arrow Connector 62"/>
          <p:cNvCxnSpPr/>
          <p:nvPr/>
        </p:nvCxnSpPr>
        <p:spPr>
          <a:xfrm>
            <a:off x="4785120" y="2285640"/>
            <a:ext cx="2520" cy="150084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215" name="Straight Arrow Connector 65"/>
          <p:cNvCxnSpPr/>
          <p:nvPr/>
        </p:nvCxnSpPr>
        <p:spPr>
          <a:xfrm>
            <a:off x="3642120" y="2357280"/>
            <a:ext cx="2520" cy="150120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216" name="Straight Arrow Connector 66"/>
          <p:cNvCxnSpPr/>
          <p:nvPr/>
        </p:nvCxnSpPr>
        <p:spPr>
          <a:xfrm>
            <a:off x="2428920" y="2357280"/>
            <a:ext cx="2160" cy="150120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217" name="Straight Arrow Connector 67"/>
          <p:cNvCxnSpPr/>
          <p:nvPr/>
        </p:nvCxnSpPr>
        <p:spPr>
          <a:xfrm>
            <a:off x="1213200" y="2285640"/>
            <a:ext cx="2520" cy="150084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218" name="Straight Arrow Connector 69"/>
          <p:cNvCxnSpPr/>
          <p:nvPr/>
        </p:nvCxnSpPr>
        <p:spPr>
          <a:xfrm flipH="1" flipV="1">
            <a:off x="1285200" y="2214360"/>
            <a:ext cx="429480" cy="216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219" name="Straight Arrow Connector 71"/>
          <p:cNvCxnSpPr/>
          <p:nvPr/>
        </p:nvCxnSpPr>
        <p:spPr>
          <a:xfrm>
            <a:off x="1213200" y="3857400"/>
            <a:ext cx="10440" cy="36900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220" name="Straight Arrow Connector 72"/>
          <p:cNvCxnSpPr/>
          <p:nvPr/>
        </p:nvCxnSpPr>
        <p:spPr>
          <a:xfrm>
            <a:off x="1214280" y="4357800"/>
            <a:ext cx="3501360" cy="216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be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457200" y="285840"/>
            <a:ext cx="8229600" cy="64296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800" spc="-1" strike="noStrike">
                <a:solidFill>
                  <a:srgbClr val="002c3e"/>
                </a:solidFill>
                <a:latin typeface="Calibri"/>
              </a:rPr>
              <a:t>III. Comportamentul spaţial al clienţilor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22" name="Date Placeholder 3"/>
          <p:cNvSpPr/>
          <p:nvPr/>
        </p:nvSpPr>
        <p:spPr>
          <a:xfrm>
            <a:off x="457200" y="6356520"/>
            <a:ext cx="971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D98BB-BF59-4A07-8719-7791E4F960BD}" type="datetime">
              <a:rPr b="0" lang="ro-RO" sz="1600" spc="-1" strike="noStrike">
                <a:solidFill>
                  <a:srgbClr val="002c3e"/>
                </a:solidFill>
                <a:latin typeface="Constantia"/>
              </a:rPr>
              <a:t>29.07.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FFA2E-4B9A-4EAD-8367-393E9844DC03}" type="slidenum">
              <a:rPr b="0" lang="ro-RO" sz="1600" spc="-1" strike="noStrike">
                <a:solidFill>
                  <a:srgbClr val="002c3e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"/>
          <p:cNvSpPr txBox="1"/>
          <p:nvPr/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  <a:effectLst>
            <a:outerShdw dist="38160" dir="16200000" blurRad="0" rotWithShape="0">
              <a:srgbClr val="000000">
                <a:alpha val="40000"/>
              </a:srgbClr>
            </a:outerShdw>
          </a:effectLst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o-RO" sz="2600" spc="-1" strike="noStrike">
                <a:solidFill>
                  <a:srgbClr val="00293a"/>
                </a:solidFill>
                <a:latin typeface="Constantia"/>
              </a:rPr>
              <a:t>Spaţiile pentru circulaţia clienţilor sunt următoarele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293a"/>
                </a:solidFill>
                <a:latin typeface="Constantia"/>
              </a:rPr>
              <a:t>a) căi principale de circulaţie – determină direcţia fluxului cumpărători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293a"/>
                </a:solidFill>
                <a:latin typeface="Constantia"/>
              </a:rPr>
              <a:t>b) culoare pentru efectuarea cumpărăturilor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293a"/>
                </a:solidFill>
                <a:latin typeface="Constantia"/>
              </a:rPr>
              <a:t>c) spaţii de staţionare – în faţa lifturilor, scărilor rulante, caselor de marcat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a19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5" name="Title 1" descr=""/>
          <p:cNvPicPr/>
          <p:nvPr/>
        </p:nvPicPr>
        <p:blipFill>
          <a:blip r:embed="rId1"/>
          <a:stretch/>
        </p:blipFill>
        <p:spPr>
          <a:xfrm>
            <a:off x="646200" y="-365040"/>
            <a:ext cx="7626240" cy="1650960"/>
          </a:xfrm>
          <a:prstGeom prst="rect">
            <a:avLst/>
          </a:prstGeom>
          <a:ln w="0">
            <a:noFill/>
          </a:ln>
        </p:spPr>
      </p:pic>
      <p:sp>
        <p:nvSpPr>
          <p:cNvPr id="1226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5D547-2CDB-4244-8B6E-1C99CA5F340A}" type="datetime">
              <a:rPr b="0" lang="ro-RO" sz="1600" spc="-1" strike="noStrike">
                <a:solidFill>
                  <a:srgbClr val="00364c"/>
                </a:solidFill>
                <a:latin typeface="Constantia"/>
              </a:rPr>
              <a:t>29.07.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15DB1-0465-4DC1-BA5C-73AA9723FDC6}" type="slidenum">
              <a:rPr b="0" lang="ro-RO" sz="1600" spc="-1" strike="noStrike">
                <a:solidFill>
                  <a:srgbClr val="00364c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"/>
          <p:cNvSpPr txBox="1"/>
          <p:nvPr/>
        </p:nvSpPr>
        <p:spPr>
          <a:xfrm>
            <a:off x="457200" y="1285920"/>
            <a:ext cx="8229600" cy="50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Brush Script MT"/>
              </a:rPr>
              <a:t>Fluxul mărfurilor şi ambalajelor într-un depozit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29" name="Rectangle 10"/>
          <p:cNvSpPr/>
          <p:nvPr/>
        </p:nvSpPr>
        <p:spPr>
          <a:xfrm>
            <a:off x="3571920" y="2143080"/>
            <a:ext cx="503280" cy="43200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onstanti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Rectangle 11"/>
          <p:cNvSpPr/>
          <p:nvPr/>
        </p:nvSpPr>
        <p:spPr>
          <a:xfrm>
            <a:off x="4500720" y="2143080"/>
            <a:ext cx="1944360" cy="43200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onstantia"/>
              </a:rPr>
              <a:t>PRIMI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Rectangle 12"/>
          <p:cNvSpPr/>
          <p:nvPr/>
        </p:nvSpPr>
        <p:spPr>
          <a:xfrm>
            <a:off x="3571920" y="3000240"/>
            <a:ext cx="503280" cy="43200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onstanti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Rectangle 13"/>
          <p:cNvSpPr/>
          <p:nvPr/>
        </p:nvSpPr>
        <p:spPr>
          <a:xfrm>
            <a:off x="3571920" y="3929040"/>
            <a:ext cx="503280" cy="43200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onstanti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Rectangle 14"/>
          <p:cNvSpPr/>
          <p:nvPr/>
        </p:nvSpPr>
        <p:spPr>
          <a:xfrm>
            <a:off x="4500720" y="3000240"/>
            <a:ext cx="1944360" cy="48276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onstantia"/>
              </a:rPr>
              <a:t>DESCĂRCARE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Rectangle 15"/>
          <p:cNvSpPr/>
          <p:nvPr/>
        </p:nvSpPr>
        <p:spPr>
          <a:xfrm>
            <a:off x="4500720" y="3929040"/>
            <a:ext cx="1944360" cy="42876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onstantia"/>
              </a:rPr>
              <a:t>DEPOZITA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Rectangle 16"/>
          <p:cNvSpPr/>
          <p:nvPr/>
        </p:nvSpPr>
        <p:spPr>
          <a:xfrm>
            <a:off x="3571920" y="4786200"/>
            <a:ext cx="503280" cy="43200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onstanti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Rectangle 17"/>
          <p:cNvSpPr/>
          <p:nvPr/>
        </p:nvSpPr>
        <p:spPr>
          <a:xfrm>
            <a:off x="4500720" y="4786200"/>
            <a:ext cx="1944360" cy="42876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onstantia"/>
              </a:rPr>
              <a:t>TRANSPORT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Rectangle 18"/>
          <p:cNvSpPr/>
          <p:nvPr/>
        </p:nvSpPr>
        <p:spPr>
          <a:xfrm>
            <a:off x="3571920" y="5643720"/>
            <a:ext cx="503280" cy="42840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onstantia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Rectangle 19"/>
          <p:cNvSpPr/>
          <p:nvPr/>
        </p:nvSpPr>
        <p:spPr>
          <a:xfrm>
            <a:off x="4429080" y="5643720"/>
            <a:ext cx="1944720" cy="42840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onstantia"/>
              </a:rPr>
              <a:t>VÂNZA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9" name="Straight Arrow Connector 20"/>
          <p:cNvCxnSpPr>
            <a:stCxn id="1230" idx="2"/>
            <a:endCxn id="1233" idx="0"/>
          </p:cNvCxnSpPr>
          <p:nvPr/>
        </p:nvCxnSpPr>
        <p:spPr>
          <a:xfrm flipH="1">
            <a:off x="5471280" y="2574720"/>
            <a:ext cx="2520" cy="425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0" name="Straight Arrow Connector 21"/>
          <p:cNvCxnSpPr/>
          <p:nvPr/>
        </p:nvCxnSpPr>
        <p:spPr>
          <a:xfrm>
            <a:off x="5357520" y="3500280"/>
            <a:ext cx="1080" cy="43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1" name="Straight Arrow Connector 22"/>
          <p:cNvCxnSpPr/>
          <p:nvPr/>
        </p:nvCxnSpPr>
        <p:spPr>
          <a:xfrm>
            <a:off x="5357520" y="4357800"/>
            <a:ext cx="1080" cy="43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2" name="Straight Arrow Connector 23"/>
          <p:cNvCxnSpPr/>
          <p:nvPr/>
        </p:nvCxnSpPr>
        <p:spPr>
          <a:xfrm>
            <a:off x="5357520" y="5214600"/>
            <a:ext cx="1080" cy="432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afcf"/>
            </a:gs>
            <a:gs pos="100000">
              <a:srgbClr val="ffe5d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"/>
          <p:cNvSpPr txBox="1"/>
          <p:nvPr/>
        </p:nvSpPr>
        <p:spPr>
          <a:xfrm>
            <a:off x="285840" y="499680"/>
            <a:ext cx="8501040" cy="55069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800" spc="-1" strike="noStrike">
                <a:solidFill>
                  <a:srgbClr val="000000"/>
                </a:solidFill>
                <a:latin typeface="comic"/>
              </a:rPr>
              <a:t>Activitate de învata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spcBef>
                <a:spcPts val="24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o-RO" sz="2600" spc="-1" strike="noStrike">
                <a:solidFill>
                  <a:srgbClr val="000000"/>
                </a:solidFill>
                <a:latin typeface="Verdana"/>
              </a:rPr>
              <a:t>Reprezentaţi grafic un spaţiu comercial, având la bază cunoştinţele asimilate pe parcursul capitolului, experienţele proprii şi respectând următoarele cerinţe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o-RO" sz="2600" spc="-1" strike="noStrike">
                <a:solidFill>
                  <a:srgbClr val="000000"/>
                </a:solidFill>
                <a:latin typeface="Verdana"/>
              </a:rPr>
              <a:t>magazinul este cu autoservire şi cu un singur nivel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o-RO" sz="2600" spc="-1" strike="noStrike">
                <a:solidFill>
                  <a:srgbClr val="000000"/>
                </a:solidFill>
                <a:latin typeface="Verdana"/>
              </a:rPr>
              <a:t>se aplică implantarea în detaliu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o-RO" sz="2600" spc="-1" strike="noStrike">
                <a:solidFill>
                  <a:srgbClr val="000000"/>
                </a:solidFill>
                <a:latin typeface="Verdana"/>
              </a:rPr>
              <a:t>gondolele sunt orientate în lungul axei longi-tudinale a sălii de vânzar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Verdana"/>
              </a:rPr>
              <a:t>Evidenţiaţi fluxul clienţilor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4" name="Date Placeholder 2"/>
          <p:cNvSpPr/>
          <p:nvPr/>
        </p:nvSpPr>
        <p:spPr>
          <a:xfrm>
            <a:off x="428760" y="6286680"/>
            <a:ext cx="1214280" cy="29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8CE92-442D-47AC-971A-940C315D793C}" type="datetime">
              <a:rPr b="1" i="1" lang="ro-RO" sz="1200" spc="-1" strike="noStrike">
                <a:solidFill>
                  <a:srgbClr val="000000"/>
                </a:solidFill>
                <a:latin typeface="Verdana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Slide Number Placeholder 4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7B804-D6FC-4B90-855B-D3F110497E89}" type="slidenum">
              <a:rPr b="1" i="1" lang="ro-RO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5-03T16:59:54Z</dcterms:created>
  <dc:creator>cristina maria</dc:creator>
  <dc:description/>
  <dc:language>en-US</dc:language>
  <cp:lastModifiedBy>cristina maria</cp:lastModifiedBy>
  <dcterms:modified xsi:type="dcterms:W3CDTF">2020-05-04T15:08:49Z</dcterms:modified>
  <cp:revision>16</cp:revision>
  <dc:subject/>
  <dc:title>Slide 1</dc:title>
</cp:coreProperties>
</file>