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FF0A-A46C-4B06-90B2-99E36356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81B2-6170-4617-9028-1C485D66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6F9832-68B2-4C8E-A59C-C8F2966E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05F41A-7EBF-4737-B16D-ECB76BCC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8FCFE-4883-46AC-9894-93D70312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11AC2-0A10-4AE8-B8E9-C742D8BE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F1EAA-FA39-4B96-A834-0FC79B34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BB6E4-B14F-4AA5-AB63-794AAECF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8E4FF-5D8C-4D39-9827-24144CE5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A14979-6624-4745-9619-F090E98F0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93D02-3520-454B-A4ED-AF7C1EF29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3AEB7-B67D-46B1-85C4-BD62E1F82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C29C-8E4F-492F-B2AA-FDD33719F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2AD2E8-6566-4D2F-AD31-829E10E2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CC163D-C695-4FD0-BD56-A0246E8A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E5096-CB8E-4AB9-AF4E-04FEEDFD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5F6456-15F0-442C-88D4-54D4C3D5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157040-7A5D-4406-972A-88955338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E848A9-1899-497B-939D-D36A2E2A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082E65-C63D-4C16-84D2-41A9BB89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063D7C-A6CA-43A0-BCB9-0CA29E8F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09F150-D2F0-47E0-9D18-A56E5A12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B8071-F5F8-43E7-B7F3-D100810D1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0882-B29F-46BF-BB0F-E5233D9BD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564122-9F62-430D-B4C3-6A5989245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811B1-390D-4A2E-A4E8-9016DBA9B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A2544-CCED-4AB0-944C-9E9E9FDE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6175A-EEFE-443A-B46A-87FC1005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87D91-2ECB-4C9F-AABD-1432EA07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E8D10-15BE-4282-9924-9C97A306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55860-3AA1-4FD7-A78B-18C9AED1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DB2D3-4C40-4A0E-88AA-F2D1ED29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E06B3-5514-4530-93A3-69482030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98865-337B-43D2-8B3F-B305F22A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296C-0E0D-4BEF-BEDF-B925834D9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10E5C-869F-4C3A-B337-416079D1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FEE09-D275-4C6C-8DA4-F684FF801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C20C0-AF85-4CA5-A0FF-36137A9DD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EA6F99-BAB8-4AA8-9829-B25D022FB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2A862-E59C-4368-8992-6C6545B0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4F8089-D5B8-4668-B398-BB1976C7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6B830E-175D-4AD1-9DF5-0C7692F6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4C529C-F969-44A7-8459-9813B88B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110A59-2598-49B0-9CBF-E9BAB9FB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E014D-2351-4BC7-A209-DCB0561C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0DF5-5E02-48CE-A646-9E921617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4C5F31-A09E-4A0E-988E-7B17FBC5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4055D-9C04-4307-AD61-870FBEC4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15EF8-615F-4927-9AF1-CB60DB4E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E1EE09-EF3D-46AE-8905-ECC731080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990E8E-76EF-4399-A3BE-095752EF9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E34960-8664-49DF-88CC-C875E8CD7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736C17-62B9-466E-83E5-634E6B30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C672E0-825F-4025-B8A6-FE78FE7D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4731FC-B292-4D2E-B4FF-1B84143E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4985B5-5952-4D36-9396-46005467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812E-4036-4DA8-AF42-D81784A4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0AE2A4-9C07-406E-A386-20D8BDD3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CAE4DB-BDDB-4CF5-8132-A0F12F59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005CFF-A459-40FA-BFA3-0FB61E93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9D8BB9-3E3A-4596-A63E-954FF9C5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047678-E7B0-4CC8-A908-E37A30BB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6FFFD0-EA9A-49AB-88E8-3F2D09366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6EFB20-1874-462C-BF68-0F918939B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10A995-425E-4A4E-8B31-A2A31ED26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9745DA-53A1-458D-B667-75172E72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72C885-3BF8-497E-B34A-6CEAC39E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3C71-C9CB-43DB-8BB7-166612C6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FC4692-E41D-4DE5-A884-9780E8FC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B15CD0-4A30-435E-8BC9-1D599659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E3D079-02F6-439A-ABF8-D8527965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379039-69D4-4CF0-8318-418104DA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B586BC-B87A-4605-974B-8E31E100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DC1551-D2BD-4D71-83D9-585CEAD3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DDCA5F-BAAC-42BB-BD7F-AD6CB2A6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7BBAA8-562B-4A21-9408-F90B3C2C3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9274D6-D4DF-440C-A528-B2BCE4519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170266-AB48-48DD-9883-5D39F7EC9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EEFC-14CB-45B3-97F5-F5F5FAF1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2D0FD9-088F-4148-AC60-DB67477E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70369A-D41C-4350-B1B1-2399F6A2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BC94B2-2ED1-4ABB-A038-FA346894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999641-2D5F-484C-B7F8-C1894617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B9B2DE-CEF9-4A30-B042-5827BD7C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776B3B-8567-4D65-AA55-7184E130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161BC3-C3D9-428A-87B5-6B88B812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26B74C-4668-4C1F-B8E2-E5715386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DB0D4E-8155-420C-A82A-F18C0BA4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0FC0B9-ACE3-47E8-A174-8095E0013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025D-1B85-4DAC-ADC0-8141B606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61F117-B919-422B-8F03-1EDF1D4A5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15BCDD-751D-42FC-9E9A-CCB49B7F9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A5F159-6003-4A4C-854F-658D11C9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D317C9-D896-4885-B6A8-697F3AC5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80AF2C-16FF-485B-90D9-5DC0657F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52DAF7-68F8-4E06-909F-8BD6C802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2AE664-B3CD-4A39-9E0D-297C091F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E764BC-B971-49A6-9018-8C4A0870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4159F6-36F7-480B-AE9F-FD2CBBFE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409A12-09D6-4473-B384-CEC6CF2A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B2DB-EA8D-43AA-95F8-D8AA3E65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E534F7-8C55-4298-8FBF-3F8E8CCA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FB35E6-1D28-4709-AA40-2318B23A3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55DD7F-A311-43EE-B842-632D49F07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D4D4BF-B4E0-4B2D-9F47-1FBF5F349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CC5C13-5F35-4BEC-AE0E-BA296D2A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A2042F-FD5F-484E-BEDF-384C4166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9F15BC-3764-4C59-9973-893FE1BF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C7A328-843D-4222-8666-06EC7366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53A850-281F-4D37-B787-7C752E08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7DBFA1-0B8D-4124-B486-412BA68C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7348-9EB0-40D8-944B-40F56C79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A771-44D4-4D34-992A-1114EDF8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A82A08-1815-40C8-A1ED-1D733D79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6E97E3-D417-453A-8214-E698AFE7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7F7AAF-436D-4519-B420-7AF7B8D5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386158-1F12-4A60-B256-ECBD0F50B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340383-8165-4A49-B126-E59FF38AD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393C81-46BB-4344-A9DC-0058C1C9D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555CE6-F84A-42AB-A06C-22E4DE03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063A75-B7CD-4325-8372-7E1E782A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9E6126-F61F-4801-91AB-1EEFD33A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83337E-A59B-4443-B4B0-6C34E395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712C-B94E-43A5-BEFA-297BD926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20894E-52B5-4583-837A-448B8B7C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09349F-1D04-400E-B703-E51194CD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268902-6D1B-4E50-A587-BCC6FEF9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18BF8A-B583-4B12-8165-59048424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C21228-B7FB-44C7-82D7-60E8A520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3ECEC2-400C-44A5-97C7-E548AAF1F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D4B944-DD19-48C0-9776-C72C51EC6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ECF13B-9EF0-4E3D-ABDC-7946CF409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7CC147-9EC0-4C80-B02F-D824E3E0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327482-D81D-4C5B-A5D2-3D94A535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1C0C-778D-481E-9E04-EA20A238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62C7FE-176E-4534-B590-E69DEDA6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4D4944-D8C6-40A1-94BF-C78C3AD1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EA62B4-6AA0-4687-99E4-EB1BDA6A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03C5E3-2F0C-43EB-9D7E-04B1972F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295F63-EE48-4393-813B-755376E6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F72661-C198-4584-BE77-9CB5AD53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40DAF8-55AD-409F-BCD7-4ACFC4AA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FD1C49-CBAA-423F-B071-4F446C2AB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D8E8FF-A08C-4FF7-9065-F57AF1790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0D0554-87A1-42E1-BCAA-E12E33A6F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2A63-A215-4810-8369-99C6BC1B5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661856-AB6D-4980-AAF3-DDE0A23E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B5D905-8413-4E1D-BD6A-3FA53C5C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EA2DF9-A61E-49EF-9FD6-F1A98ADD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05F586-D394-4952-B174-2759C261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274F24-9FA4-4137-A32D-4A611547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2A893D-6F5F-45F0-9F40-3FFD2846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7E5E21-6407-4546-A79E-E3B81387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F4AA84-4B85-49A5-A2E5-C523A8CE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66EBCD-3F14-47B5-8DBD-92DEE4B7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219C22-624E-4959-B273-5EEB44355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5D93-D346-4828-9B3A-A104BA412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88667A-3D18-43A8-B266-E3C7BE676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4F87C3-7FD5-4685-B41A-006C1ACD1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283938-1EEE-4C73-ABE3-B223A752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B2AFCB-6021-4C64-A0AF-1C89E21B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BD82E9-4DC0-4C99-91B2-BCC8649F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36621A-A96E-41BB-AEE0-B336ED68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D838B9-CBE0-4C7B-8643-95ABCB3E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03E384-9445-4CA2-A6A2-5EFF0F2C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8EF161-44F8-4B4C-BD02-583293BC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82F697-5C34-4B80-8D6E-F57121C8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EDAFD-DF5E-4ADE-872E-EB1C84DF7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29EB10-84BB-4303-BAF9-16C1AA7B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C8C143-E814-4EE4-8183-97AC93025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085C95-3093-4A87-952F-9D594DBFE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B62F42-E42E-4148-A58C-433BDCD61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310A70-80A0-4697-B6C8-40F002DD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2A6836-0918-4C6E-A4B0-EDE76A61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D4B5AA-6A8C-443E-8071-640F36B7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E574D3-CD1A-4E4C-B695-8F759E04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518C95-89DD-49E8-AE72-390A2FD7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014F82-82B9-4647-9310-C86F0062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C19B6-8346-4C4D-9BD7-4B0FF104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AC9FC1-5B6A-4E2A-9728-90E8F196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1D05BD-2C1A-467D-9157-E123899E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95FFF9-90A8-447B-A9AF-164AC5C1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14DDE3-444E-4D47-997E-70033A1F4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25D4E1-9792-472E-90DE-A6A537760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2394ED-E466-4DF8-B102-B91EE7449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3F2C01-68E2-4F2E-811C-1974D0EF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84E873-46B5-497A-979F-1F9DCBCA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C7F7CA-840B-4F16-9134-AD5C7C9D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BEFA04-882D-4838-BADE-767E842A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97FC3-8B03-40CA-9550-5B515208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EDAD8A-A569-4183-94FC-BAE0424B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A81D4B-CEA4-4449-82FD-3DA030C3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716825-A458-4464-9227-0CB4EDA1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028AE8-E487-43D1-B1F9-BDA8936C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F285A8-58A2-4EEC-A449-59995C71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180751-A1F8-4058-875F-BA2C8D561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D345CC-714A-4467-B475-22C7BC179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9B0414-1B7D-401F-8BBE-8CBF6543D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12E798-7E51-40D2-9587-BD993D93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C70E2B-EAEE-4383-A47D-DB430894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6AFAE-9525-4CAF-B7DA-3B150553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8FDBEDC-E88A-4768-B6E2-359B0126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BAF809-9193-4116-BDB3-53E1C6F0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AAF3E1-F409-43F8-B6BD-750A5795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7BFEBE-AE8E-4DDA-A69E-1DCC7851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51922D-EA10-4BD3-9548-F26D3BAA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AEB72D-C55A-43E0-98A9-29EA0CAB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3CB1A4-9FD9-470D-88F1-B589D118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AB8246-E961-41DE-8953-515FDE494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1EBA2F-B93C-4607-A34F-D7BEF883C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55C24-36A5-4B2C-BD1F-EC51D52F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54BE-9F02-47A3-967F-813775BF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4989D-9155-46C2-81D2-99EC55C7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9FB69-4579-4466-A38A-CE790029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3A7F6-ECCA-4A60-8CAA-3F9484BB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8C7D3-204A-4DFD-A86C-306B28A1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BCB77-93EF-49AB-A553-C1A41629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E80D2-A2D4-4A40-84D5-085A701AB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CE695-CF9E-4CBE-9B55-A8F9A5406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8F661-2F94-4576-91A4-E77D39C5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A8D4B-A99C-43FC-98A9-4E7A279F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31F73-E328-49A5-BBB5-1237B691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F32C-701B-4AF2-A246-764EF629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B2015-9037-43A6-AA75-35D5FF7B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5462C-D0D7-42B2-AE7C-8A6319CD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61BA4-FE44-4879-8BE5-022D86FB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AC421-3CE3-483C-AAFD-0675760C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9E212-DDEF-4D12-B7BF-965A51CB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A1A21-0ED4-439F-ABF0-8183576F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E41E2-4493-477E-8CF2-C98335B7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05BA4-5BFA-4466-829C-B4AF4F472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D95DB-8C22-40A2-ABD6-4CACA6B54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E727D-30BF-4EA5-AD1E-12CA3916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9909-CEB0-436A-A18D-0B1898CE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8DB6F-7345-4EEF-939B-6F1B805A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C97E0-8988-4572-8400-B9AE75B2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EFA24-A1A4-4D43-976D-23ECEBCA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D0E76-8D37-49FF-805A-02B66691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137AE-2925-421D-9E53-22AAF65D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CEEBA-260A-43A2-8D25-6BCAC9B6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4841B-EFB9-406D-8E4D-E4576224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2EA14-603E-4186-B960-05B84E4E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57419-F1AE-4088-A490-0CE07F8E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29C3F-53C4-4149-A0EF-06DF0CCC2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66AB-8D33-4712-AD71-1E1229DF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156D7-5B6B-48C2-9BEA-C8BE54A0E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DF57B-70C1-4858-A544-09ECA5F75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50209-E0A3-478E-8F65-8C09E29C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8D5B3-0635-42C1-8481-F159CE9A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3F8B6-AB58-4A3C-BF96-62322C58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E6A9E-24FB-443B-B154-8A3522D9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54B14-C39D-499D-8176-0E52044E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A8153-E177-42F0-94D1-09312727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FF192-F3AD-431D-A8D3-86199516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F0710-D45E-4067-9F01-DF7776E8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07B6-8024-4A91-97D4-FB656C3B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D2E3E-B826-4152-A3F5-B4D1C181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A1AB6-516C-4F94-9E45-17ACFAA2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B7F43-13B8-446F-82F5-E8C4C56C9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D9397-EF48-4D95-B2C4-DAB3A45BC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1D4C8-ED69-4520-AA47-868F07EA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49D19-F59D-4E4E-95F2-845B8179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0F810-CA93-403A-8B8B-D46120A9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CAE2B-E536-49C4-914D-D7133E8F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9DF78-0519-453F-A8C9-BF6BE174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70775-35BF-4D94-B5F3-CD41BC2C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01EA-AE6B-4CFC-9064-5ED346F5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41BF8-FDC3-4623-BEBC-2F6AF08D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232C8-A0B6-4846-A36F-606C8065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4945A-A683-4DE9-A57D-F5198432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2A04E-B8D8-4144-9C4D-79E8B8D5B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94A43-5745-4311-A4DF-444E36C0F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216C6-5D24-4AEA-AECA-0A4A4C0F5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E98D0-787C-4CFA-BEF1-67D5E3DA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64E91-3BE0-4C45-9CBD-D455C538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4A3B5-5B24-44C2-A8D7-1296A027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69AB9-C728-44CE-A495-98CF5BA6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9D02-ADAF-46C3-90CA-CFF34810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886A0-79FA-4B4E-B1BD-1DA70549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AB3E4-D184-4841-89C0-D2ABB126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DA6E3-D7D2-446B-B187-E1F155E4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EB01D-8AC0-4F6E-96E1-CEBD8B5D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0EFCE-E3FA-4DAF-B571-B6D54A87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20173-83F9-4E21-BEDC-7E9074416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32842-58A2-412B-954D-26767D3F3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2CB09-3D22-49F4-99F8-01076D69E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B45446-FB33-43FE-88B8-15906C28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F24EB7-926C-4D22-A98D-10C65C05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08AD-8AE6-4DE2-9782-18C366F2D887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9DB8-99A4-4532-860C-8D84D3E5F7CD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4862-09F0-4742-8E31-86EAAEDD88E0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B53F-C3C4-4764-AE33-CDE586488CD1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EB06-0523-4D4D-AF4D-6B3CA47BFCAB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AB60-B714-49F9-8EDB-D414C2E5DCB8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4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FC28-353A-4E57-B334-41E9AE49AF45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09A5-2E8E-416D-BACD-7462D0C77A64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D051-2197-4941-8A7D-331D6D1D6D40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2019-E096-4DBE-8340-9B692A246F96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64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4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26DF-B359-4125-A578-F006D305553A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4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4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AA4E-D680-4CE8-B26C-D7086F464D2D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68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dt" idx="4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0554-F53D-4880-A231-6E0CF323B930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4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sldNum" idx="4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5FA9-696E-4561-A12A-470E5EBDDB65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73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4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FB8C-D729-4435-9CA7-06BFC2EEE4BA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4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4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87CC-ADE9-46F8-8CCC-345E0EC5EE09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77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4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736A-E16A-4143-A728-C6ED4FAB5545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5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95BB-7CB3-4600-A661-BCF04FA934AF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82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5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A1C2-E4DE-40A3-953F-7A5AE577FD21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5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5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1671-E9E5-4EB9-A0A2-DA58F3B4181E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86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8919-048C-4598-B812-9E9BD872BE31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5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04E9-ABB0-44CB-B079-066C69123344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5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84A0-DCC3-46F0-A294-E961C287BDDC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6634-4223-4BAA-B13C-D606E474BC88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6F42-7CFF-462D-98DF-B3E7F2275272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5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6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8292-AAE4-4697-A955-ECFEBE5C38EE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54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dt" idx="6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442E-0237-4E38-BCCF-895C87AA1C30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ftr" idx="6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 type="sldNum" idx="6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1C5A-614B-46DB-AF33-B6FCEAA2C38D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2B8F-A52A-4B9F-870B-9773356DACD5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9659-087A-4111-BE2D-701945A58A91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04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 type="dt" idx="6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A42E-EEAA-4EE7-82BE-0F52A384137B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 type="ftr" idx="6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 type="sldNum" idx="6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978F-1CE0-45E1-8C30-6E3887A08856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08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 type="dt" idx="7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EAAD-406E-4E07-8068-DFFA1F3B3D22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 type="ftr" idx="7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 type="sldNum" idx="7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09F4-436C-4C54-9CCF-C5109660B68A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F881-D604-4E2D-8ECD-F3966368BC13}" type="datetime">
              <a:rPr b="0" lang="ro-RO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934A-2CE6-47BE-AF31-F3835EC9B314}" type="slidenum"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1E3F-83ED-41BB-92B2-E14CF17BDB48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9D67-0260-4C17-9EDD-955C83CD2FDD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6830-5FA3-42F4-B38B-1347979F5D00}" type="datetime">
              <a:rPr b="0" lang="ro-RO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1FCB-D4C0-4F2C-9622-7061C59EA53B}" type="slidenum"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FED0-FF05-4400-B3EF-21DC6AACADAF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11C8-C059-4290-8E02-3DCD75FCCEDF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94C0-609F-47D4-AE8B-CAC224AAD305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0471-152C-437F-BD1A-245C9D51A6FF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6FC6-C6CD-4AAA-BCFC-849C20BC1A2F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19CE-E7BA-4ABB-B019-0F601B2B3CE7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012C-A469-48B4-8CC3-8DC6A5EAA83C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805F-9C46-45D2-93DB-9C0C1961B1D6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88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Title 1" descr=""/>
          <p:cNvPicPr/>
          <p:nvPr/>
        </p:nvPicPr>
        <p:blipFill>
          <a:blip r:embed="rId1"/>
          <a:stretch/>
        </p:blipFill>
        <p:spPr>
          <a:xfrm>
            <a:off x="480960" y="-49320"/>
            <a:ext cx="8255160" cy="2243160"/>
          </a:xfrm>
          <a:prstGeom prst="rect">
            <a:avLst/>
          </a:prstGeom>
          <a:ln w="0">
            <a:noFill/>
          </a:ln>
        </p:spPr>
      </p:pic>
      <p:sp>
        <p:nvSpPr>
          <p:cNvPr id="1131" name="PlaceHolder 1"/>
          <p:cNvSpPr>
            <a:spLocks noGrp="1"/>
          </p:cNvSpPr>
          <p:nvPr>
            <p:ph type="subTitle"/>
          </p:nvPr>
        </p:nvSpPr>
        <p:spPr>
          <a:xfrm>
            <a:off x="285480" y="1571400"/>
            <a:ext cx="8643960" cy="47862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0" rIns="1836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600" spc="-1" strike="noStrike">
                <a:solidFill>
                  <a:srgbClr val="00293a"/>
                </a:solidFill>
                <a:latin typeface="Constantia"/>
              </a:rPr>
              <a:t>Obiectiv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enumerarea elementelor care stau la baza dimensionării şi orientării căilor de circulaţi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descrierea completă a tuturor elementelor care stau la baza dimensionării şi orientării căilor de circulaţi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prezentarea tuturor tipurilor de fluxuri de circulaţie a clienţilor în sala de vânzar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stabilirea corectă a fluxului mărfurilor şi ambalajelor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B211-0412-4996-BB78-373F9982AF3F}" type="datetime">
              <a:rPr b="0" lang="ro-RO" sz="1400" spc="-1" strike="noStrike">
                <a:solidFill>
                  <a:srgbClr val="000000"/>
                </a:solidFill>
                <a:latin typeface="Constant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967C-5D74-411F-A4C4-6F03052A8D0F}" type="slidenum">
              <a:rPr b="0" lang="ro-RO" sz="16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88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603360" y="-517680"/>
            <a:ext cx="7711920" cy="2102040"/>
          </a:xfrm>
          <a:prstGeom prst="rect">
            <a:avLst/>
          </a:prstGeom>
          <a:ln w="0">
            <a:noFill/>
          </a:ln>
        </p:spPr>
      </p:pic>
      <p:pic>
        <p:nvPicPr>
          <p:cNvPr id="1135" name="Content Placeholder 2" descr=""/>
          <p:cNvPicPr/>
          <p:nvPr/>
        </p:nvPicPr>
        <p:blipFill>
          <a:blip r:embed="rId2"/>
          <a:stretch/>
        </p:blipFill>
        <p:spPr>
          <a:xfrm>
            <a:off x="689040" y="414360"/>
            <a:ext cx="8540640" cy="9345600"/>
          </a:xfrm>
          <a:prstGeom prst="rect">
            <a:avLst/>
          </a:prstGeom>
          <a:ln w="0">
            <a:noFill/>
          </a:ln>
        </p:spPr>
      </p:pic>
      <p:sp>
        <p:nvSpPr>
          <p:cNvPr id="1136" name="Date Placeholder 3"/>
          <p:cNvSpPr/>
          <p:nvPr/>
        </p:nvSpPr>
        <p:spPr>
          <a:xfrm>
            <a:off x="4572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401D-4C40-4264-A9E2-3EE406E0F144}" type="datetime">
              <a:rPr b="0" lang="ro-RO" sz="1600" spc="-1" strike="noStrike">
                <a:solidFill>
                  <a:srgbClr val="03231b"/>
                </a:solidFill>
                <a:latin typeface="Constantia"/>
              </a:rPr>
              <a:t>30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Slide Number Placeholder 4"/>
          <p:cNvSpPr/>
          <p:nvPr/>
        </p:nvSpPr>
        <p:spPr>
          <a:xfrm>
            <a:off x="8001000" y="635796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B705-4613-4724-B0E7-7488FDDDF3EA}" type="slidenum">
              <a:rPr b="0" lang="ro-RO" sz="1600" spc="-1" strike="noStrike">
                <a:solidFill>
                  <a:srgbClr val="03271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8" name="Picture 2" descr=""/>
          <p:cNvPicPr/>
          <p:nvPr/>
        </p:nvPicPr>
        <p:blipFill>
          <a:blip r:embed="rId3"/>
          <a:stretch/>
        </p:blipFill>
        <p:spPr>
          <a:xfrm>
            <a:off x="6072120" y="3786120"/>
            <a:ext cx="287172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f2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786C-9437-4E6E-81E6-0F44B4F41C58}" type="datetime">
              <a:rPr b="0" lang="ro-RO" sz="1600" spc="-1" strike="noStrike">
                <a:solidFill>
                  <a:srgbClr val="1f250d"/>
                </a:solidFill>
                <a:latin typeface="Constantia"/>
              </a:rPr>
              <a:t>30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AE7A-6929-4D9E-B6BC-00FCE0398DF0}" type="slidenum">
              <a:rPr b="0" lang="ro-RO" sz="1600" spc="-1" strike="noStrike">
                <a:solidFill>
                  <a:srgbClr val="1d220c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Footer Placeholder 5"/>
          <p:cNvSpPr/>
          <p:nvPr/>
        </p:nvSpPr>
        <p:spPr>
          <a:xfrm>
            <a:off x="242892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213840" y="142560"/>
            <a:ext cx="8643960" cy="61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I.Mărimea magazinului şi particularităţile lui constructive</a:t>
            </a:r>
            <a:r>
              <a:rPr b="1" i="1" lang="ro-RO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293a"/>
                </a:solidFill>
                <a:latin typeface="Constantia"/>
              </a:rPr>
              <a:t>Sfaturi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intrarea în magazin să fie orientată spre strad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deschiderea uşilor să se facă în sensul fluxului clienţilor (spre stânga) la magazinele cu autoservire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este de preferat ca pentru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uşa de ieşire să existe o uşă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distinctă.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5"/>
          <a:stretch/>
        </p:blipFill>
        <p:spPr>
          <a:xfrm>
            <a:off x="4929120" y="3071880"/>
            <a:ext cx="37148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9f44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BECC-C317-4D0D-B0CC-65DD34237456}" type="datetime">
              <a:rPr b="0" lang="ro-RO" sz="1600" spc="-1" strike="noStrike">
                <a:solidFill>
                  <a:srgbClr val="02232c"/>
                </a:solidFill>
                <a:latin typeface="Constantia"/>
              </a:rPr>
              <a:t>30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82F7-BB24-4DDE-B5EF-824AB464BC44}" type="slidenum">
              <a:rPr b="0" lang="ro-RO" sz="1600" spc="-1" strike="noStrike">
                <a:solidFill>
                  <a:srgbClr val="01202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285840" y="357120"/>
            <a:ext cx="857232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II. Dispunerea mobilierului comercial în sala de vânzare, în legătură directă cu formele de vânzare practicate în magazi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	</a:t>
            </a:r>
            <a:r>
              <a:rPr b="0" lang="ro-RO" sz="2800" spc="-1" strike="noStrike">
                <a:solidFill>
                  <a:srgbClr val="00364c"/>
                </a:solidFill>
                <a:latin typeface="Constantia"/>
              </a:rPr>
              <a:t>În magazanele cu autoservire, gondolele pot fi orientate în diferite moduri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64c"/>
                </a:solidFill>
                <a:latin typeface="Constantia"/>
              </a:rPr>
              <a:t>a) în lungul axei longitudinale a sălii de vânza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Gondole (mobilier de expune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a produselor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    </a:t>
            </a: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- case de marca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47" name="Picture 3" descr=""/>
          <p:cNvPicPr/>
          <p:nvPr/>
        </p:nvPicPr>
        <p:blipFill>
          <a:blip r:embed="rId1"/>
          <a:stretch/>
        </p:blipFill>
        <p:spPr>
          <a:xfrm>
            <a:off x="5000760" y="3143160"/>
            <a:ext cx="3936960" cy="2714760"/>
          </a:xfrm>
          <a:prstGeom prst="rect">
            <a:avLst/>
          </a:prstGeom>
          <a:ln w="0">
            <a:noFill/>
          </a:ln>
        </p:spPr>
      </p:pic>
      <p:sp>
        <p:nvSpPr>
          <p:cNvPr id="1148" name="Rectangle 6"/>
          <p:cNvSpPr/>
          <p:nvPr/>
        </p:nvSpPr>
        <p:spPr>
          <a:xfrm>
            <a:off x="1214280" y="3357720"/>
            <a:ext cx="3143520" cy="142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7"/>
          <p:cNvSpPr/>
          <p:nvPr/>
        </p:nvSpPr>
        <p:spPr>
          <a:xfrm>
            <a:off x="1214280" y="371484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8"/>
          <p:cNvSpPr/>
          <p:nvPr/>
        </p:nvSpPr>
        <p:spPr>
          <a:xfrm>
            <a:off x="1214280" y="407196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9"/>
          <p:cNvSpPr/>
          <p:nvPr/>
        </p:nvSpPr>
        <p:spPr>
          <a:xfrm>
            <a:off x="1214280" y="442908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10"/>
          <p:cNvSpPr/>
          <p:nvPr/>
        </p:nvSpPr>
        <p:spPr>
          <a:xfrm>
            <a:off x="1214280" y="478620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Straight Connector 12"/>
          <p:cNvSpPr/>
          <p:nvPr/>
        </p:nvSpPr>
        <p:spPr>
          <a:xfrm>
            <a:off x="500040" y="3357720"/>
            <a:ext cx="435780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traight Connector 14"/>
          <p:cNvSpPr/>
          <p:nvPr/>
        </p:nvSpPr>
        <p:spPr>
          <a:xfrm>
            <a:off x="4857840" y="3357720"/>
            <a:ext cx="0" cy="15714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Straight Connector 16"/>
          <p:cNvSpPr/>
          <p:nvPr/>
        </p:nvSpPr>
        <p:spPr>
          <a:xfrm>
            <a:off x="500040" y="4929120"/>
            <a:ext cx="435780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Straight Connector 20"/>
          <p:cNvSpPr/>
          <p:nvPr/>
        </p:nvSpPr>
        <p:spPr>
          <a:xfrm>
            <a:off x="500040" y="3357720"/>
            <a:ext cx="0" cy="100008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traight Connector 21"/>
          <p:cNvSpPr/>
          <p:nvPr/>
        </p:nvSpPr>
        <p:spPr>
          <a:xfrm>
            <a:off x="500040" y="4714920"/>
            <a:ext cx="0" cy="2858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8" name="Straight Arrow Connector 30"/>
          <p:cNvCxnSpPr/>
          <p:nvPr/>
        </p:nvCxnSpPr>
        <p:spPr>
          <a:xfrm>
            <a:off x="428760" y="457200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59" name="Rectangle 34"/>
          <p:cNvSpPr/>
          <p:nvPr/>
        </p:nvSpPr>
        <p:spPr>
          <a:xfrm flipV="1" rot="5400000">
            <a:off x="3977640" y="4047840"/>
            <a:ext cx="1571400" cy="189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0" name="Straight Arrow Connector 35"/>
          <p:cNvCxnSpPr/>
          <p:nvPr/>
        </p:nvCxnSpPr>
        <p:spPr>
          <a:xfrm flipV="1">
            <a:off x="4500720" y="3642840"/>
            <a:ext cx="10080" cy="3470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1" name="Straight Arrow Connector 36"/>
          <p:cNvCxnSpPr/>
          <p:nvPr/>
        </p:nvCxnSpPr>
        <p:spPr>
          <a:xfrm flipV="1">
            <a:off x="4500720" y="4357440"/>
            <a:ext cx="2160" cy="357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2" name="Straight Arrow Connector 37"/>
          <p:cNvCxnSpPr/>
          <p:nvPr/>
        </p:nvCxnSpPr>
        <p:spPr>
          <a:xfrm>
            <a:off x="1356840" y="4714920"/>
            <a:ext cx="30726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3" name="Straight Arrow Connector 40"/>
          <p:cNvCxnSpPr/>
          <p:nvPr/>
        </p:nvCxnSpPr>
        <p:spPr>
          <a:xfrm>
            <a:off x="1356840" y="4000680"/>
            <a:ext cx="30726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4" name="Straight Arrow Connector 41"/>
          <p:cNvCxnSpPr/>
          <p:nvPr/>
        </p:nvCxnSpPr>
        <p:spPr>
          <a:xfrm flipH="1" flipV="1">
            <a:off x="1213920" y="4357440"/>
            <a:ext cx="31442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5" name="Straight Arrow Connector 44"/>
          <p:cNvCxnSpPr/>
          <p:nvPr/>
        </p:nvCxnSpPr>
        <p:spPr>
          <a:xfrm flipH="1" flipV="1">
            <a:off x="1213920" y="3642480"/>
            <a:ext cx="3144240" cy="25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6" name="Straight Arrow Connector 47"/>
          <p:cNvCxnSpPr/>
          <p:nvPr/>
        </p:nvCxnSpPr>
        <p:spPr>
          <a:xfrm flipV="1">
            <a:off x="1071720" y="3999960"/>
            <a:ext cx="10080" cy="3466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67" name="Rectangle 48"/>
          <p:cNvSpPr/>
          <p:nvPr/>
        </p:nvSpPr>
        <p:spPr>
          <a:xfrm>
            <a:off x="785880" y="350028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49"/>
          <p:cNvSpPr/>
          <p:nvPr/>
        </p:nvSpPr>
        <p:spPr>
          <a:xfrm>
            <a:off x="785880" y="378612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50"/>
          <p:cNvSpPr/>
          <p:nvPr/>
        </p:nvSpPr>
        <p:spPr>
          <a:xfrm>
            <a:off x="785880" y="414324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51"/>
          <p:cNvSpPr/>
          <p:nvPr/>
        </p:nvSpPr>
        <p:spPr>
          <a:xfrm>
            <a:off x="428760" y="600084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1" name="Straight Arrow Connector 52"/>
          <p:cNvCxnSpPr/>
          <p:nvPr/>
        </p:nvCxnSpPr>
        <p:spPr>
          <a:xfrm flipH="1" flipV="1">
            <a:off x="785520" y="3428640"/>
            <a:ext cx="348480" cy="720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2" name="Straight Arrow Connector 54"/>
          <p:cNvCxnSpPr/>
          <p:nvPr/>
        </p:nvCxnSpPr>
        <p:spPr>
          <a:xfrm>
            <a:off x="642960" y="3499920"/>
            <a:ext cx="10080" cy="358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3" name="Straight Arrow Connector 56"/>
          <p:cNvCxnSpPr/>
          <p:nvPr/>
        </p:nvCxnSpPr>
        <p:spPr>
          <a:xfrm flipH="1">
            <a:off x="641160" y="3930120"/>
            <a:ext cx="2160" cy="358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4" name="Straight Arrow Connector 59"/>
          <p:cNvCxnSpPr/>
          <p:nvPr/>
        </p:nvCxnSpPr>
        <p:spPr>
          <a:xfrm flipH="1">
            <a:off x="285120" y="4428000"/>
            <a:ext cx="338760" cy="104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a573">
            <a:alpha val="9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Date Placeholder 3"/>
          <p:cNvSpPr/>
          <p:nvPr/>
        </p:nvSpPr>
        <p:spPr>
          <a:xfrm>
            <a:off x="285840" y="6356520"/>
            <a:ext cx="1071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7E0B-9756-4AA3-A15E-CEB0CCDDAE5D}" type="datetime">
              <a:rPr b="0" lang="ro-RO" sz="1600" spc="-1" strike="noStrike">
                <a:solidFill>
                  <a:srgbClr val="002c3e"/>
                </a:solidFill>
                <a:latin typeface="Constantia"/>
              </a:rPr>
              <a:t>30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ED1A-DF06-4A0F-A99D-511B0376FF9F}" type="slidenum">
              <a:rPr b="0" lang="ro-RO" sz="1600" spc="-1" strike="noStrike">
                <a:solidFill>
                  <a:srgbClr val="002c3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214200" y="285840"/>
            <a:ext cx="8715600" cy="60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c3e"/>
                </a:solidFill>
                <a:latin typeface="Constantia"/>
              </a:rPr>
              <a:t>b) </a:t>
            </a: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Perpendicular pe axa longitudinală  a sălii de vânzare – fluxul clienţilor este orientat astfel încât punctul de plecare să corespundă cu punctul de sosire. Numărul rândurilor de gondole dispuse pe mijlocul suprafeţei de vânzare trebuie să fie imp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În magazinele cu vânzare clasic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mobilierul poate fi dispus de-a lungu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pereţilor  şi în mijlocul sălilor de vânza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78" name="Picture 2" descr=""/>
          <p:cNvPicPr/>
          <p:nvPr/>
        </p:nvPicPr>
        <p:blipFill>
          <a:blip r:embed="rId1"/>
          <a:stretch/>
        </p:blipFill>
        <p:spPr>
          <a:xfrm>
            <a:off x="5786280" y="4357800"/>
            <a:ext cx="3262320" cy="2136600"/>
          </a:xfrm>
          <a:prstGeom prst="rect">
            <a:avLst/>
          </a:prstGeom>
          <a:ln w="0">
            <a:noFill/>
          </a:ln>
        </p:spPr>
      </p:pic>
      <p:sp>
        <p:nvSpPr>
          <p:cNvPr id="1179" name="Straight Connector 7"/>
          <p:cNvSpPr/>
          <p:nvPr/>
        </p:nvSpPr>
        <p:spPr>
          <a:xfrm>
            <a:off x="857160" y="1928880"/>
            <a:ext cx="485784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Straight Connector 8"/>
          <p:cNvSpPr/>
          <p:nvPr/>
        </p:nvSpPr>
        <p:spPr>
          <a:xfrm flipV="1">
            <a:off x="857160" y="1928880"/>
            <a:ext cx="0" cy="22860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Straight Connector 9"/>
          <p:cNvSpPr/>
          <p:nvPr/>
        </p:nvSpPr>
        <p:spPr>
          <a:xfrm>
            <a:off x="5715000" y="1928880"/>
            <a:ext cx="0" cy="25002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17"/>
          <p:cNvSpPr/>
          <p:nvPr/>
        </p:nvSpPr>
        <p:spPr>
          <a:xfrm>
            <a:off x="1214280" y="1928880"/>
            <a:ext cx="40719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18"/>
          <p:cNvSpPr/>
          <p:nvPr/>
        </p:nvSpPr>
        <p:spPr>
          <a:xfrm flipV="1">
            <a:off x="857160" y="1928160"/>
            <a:ext cx="214560" cy="2500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19"/>
          <p:cNvSpPr/>
          <p:nvPr/>
        </p:nvSpPr>
        <p:spPr>
          <a:xfrm rot="5400000">
            <a:off x="4566960" y="2862360"/>
            <a:ext cx="2071800" cy="2048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20"/>
          <p:cNvSpPr/>
          <p:nvPr/>
        </p:nvSpPr>
        <p:spPr>
          <a:xfrm rot="5400000">
            <a:off x="425052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21"/>
          <p:cNvSpPr/>
          <p:nvPr/>
        </p:nvSpPr>
        <p:spPr>
          <a:xfrm rot="5400000">
            <a:off x="189252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22"/>
          <p:cNvSpPr/>
          <p:nvPr/>
        </p:nvSpPr>
        <p:spPr>
          <a:xfrm rot="5400000">
            <a:off x="253548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23"/>
          <p:cNvSpPr/>
          <p:nvPr/>
        </p:nvSpPr>
        <p:spPr>
          <a:xfrm rot="5400000">
            <a:off x="310752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24"/>
          <p:cNvSpPr/>
          <p:nvPr/>
        </p:nvSpPr>
        <p:spPr>
          <a:xfrm rot="5400000">
            <a:off x="367848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25"/>
          <p:cNvSpPr/>
          <p:nvPr/>
        </p:nvSpPr>
        <p:spPr>
          <a:xfrm rot="5400000">
            <a:off x="74952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26"/>
          <p:cNvSpPr/>
          <p:nvPr/>
        </p:nvSpPr>
        <p:spPr>
          <a:xfrm rot="5400000">
            <a:off x="132120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Straight Connector 30"/>
          <p:cNvSpPr/>
          <p:nvPr/>
        </p:nvSpPr>
        <p:spPr>
          <a:xfrm>
            <a:off x="857160" y="4429080"/>
            <a:ext cx="392904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Straight Connector 34"/>
          <p:cNvSpPr/>
          <p:nvPr/>
        </p:nvSpPr>
        <p:spPr>
          <a:xfrm>
            <a:off x="5143680" y="4429080"/>
            <a:ext cx="57132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36"/>
          <p:cNvSpPr/>
          <p:nvPr/>
        </p:nvSpPr>
        <p:spPr>
          <a:xfrm>
            <a:off x="17146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37"/>
          <p:cNvSpPr/>
          <p:nvPr/>
        </p:nvSpPr>
        <p:spPr>
          <a:xfrm>
            <a:off x="228600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38"/>
          <p:cNvSpPr/>
          <p:nvPr/>
        </p:nvSpPr>
        <p:spPr>
          <a:xfrm>
            <a:off x="28576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39"/>
          <p:cNvSpPr/>
          <p:nvPr/>
        </p:nvSpPr>
        <p:spPr>
          <a:xfrm>
            <a:off x="3500280" y="4143240"/>
            <a:ext cx="21456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40"/>
          <p:cNvSpPr/>
          <p:nvPr/>
        </p:nvSpPr>
        <p:spPr>
          <a:xfrm>
            <a:off x="42148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9" name="Straight Arrow Connector 43"/>
          <p:cNvCxnSpPr/>
          <p:nvPr/>
        </p:nvCxnSpPr>
        <p:spPr>
          <a:xfrm flipV="1">
            <a:off x="5072040" y="4144680"/>
            <a:ext cx="216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0" name="Straight Arrow Connector 44"/>
          <p:cNvCxnSpPr/>
          <p:nvPr/>
        </p:nvCxnSpPr>
        <p:spPr>
          <a:xfrm>
            <a:off x="4856760" y="4143240"/>
            <a:ext cx="11880" cy="511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1" name="Straight Arrow Connector 46"/>
          <p:cNvCxnSpPr/>
          <p:nvPr/>
        </p:nvCxnSpPr>
        <p:spPr>
          <a:xfrm flipV="1">
            <a:off x="5072040" y="3928320"/>
            <a:ext cx="286560" cy="214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2" name="Straight Arrow Connector 48"/>
          <p:cNvCxnSpPr/>
          <p:nvPr/>
        </p:nvCxnSpPr>
        <p:spPr>
          <a:xfrm flipV="1">
            <a:off x="5357880" y="2285640"/>
            <a:ext cx="2160" cy="1573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3" name="Straight Arrow Connector 50"/>
          <p:cNvCxnSpPr/>
          <p:nvPr/>
        </p:nvCxnSpPr>
        <p:spPr>
          <a:xfrm flipH="1" flipV="1">
            <a:off x="428580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4" name="Straight Arrow Connector 52"/>
          <p:cNvCxnSpPr/>
          <p:nvPr/>
        </p:nvCxnSpPr>
        <p:spPr>
          <a:xfrm flipH="1" flipV="1">
            <a:off x="3714480" y="221436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5" name="Straight Arrow Connector 53"/>
          <p:cNvCxnSpPr/>
          <p:nvPr/>
        </p:nvCxnSpPr>
        <p:spPr>
          <a:xfrm flipH="1" flipV="1">
            <a:off x="314280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6" name="Straight Arrow Connector 54"/>
          <p:cNvCxnSpPr/>
          <p:nvPr/>
        </p:nvCxnSpPr>
        <p:spPr>
          <a:xfrm flipH="1" flipV="1">
            <a:off x="2785680" y="221436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7" name="Straight Arrow Connector 55"/>
          <p:cNvCxnSpPr/>
          <p:nvPr/>
        </p:nvCxnSpPr>
        <p:spPr>
          <a:xfrm flipH="1" flipV="1">
            <a:off x="2499480" y="3928680"/>
            <a:ext cx="3582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8" name="Straight Arrow Connector 56"/>
          <p:cNvCxnSpPr/>
          <p:nvPr/>
        </p:nvCxnSpPr>
        <p:spPr>
          <a:xfrm flipH="1" flipV="1">
            <a:off x="192852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9" name="Straight Arrow Connector 57"/>
          <p:cNvCxnSpPr/>
          <p:nvPr/>
        </p:nvCxnSpPr>
        <p:spPr>
          <a:xfrm flipH="1" flipV="1">
            <a:off x="371448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0" name="Straight Arrow Connector 58"/>
          <p:cNvCxnSpPr/>
          <p:nvPr/>
        </p:nvCxnSpPr>
        <p:spPr>
          <a:xfrm flipH="1" flipV="1">
            <a:off x="4785480" y="2214360"/>
            <a:ext cx="3582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1" name="Straight Arrow Connector 59"/>
          <p:cNvCxnSpPr/>
          <p:nvPr/>
        </p:nvCxnSpPr>
        <p:spPr>
          <a:xfrm flipV="1">
            <a:off x="4214880" y="2285640"/>
            <a:ext cx="216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2" name="Straight Arrow Connector 60"/>
          <p:cNvCxnSpPr/>
          <p:nvPr/>
        </p:nvCxnSpPr>
        <p:spPr>
          <a:xfrm flipV="1">
            <a:off x="2999160" y="2356920"/>
            <a:ext cx="252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3" name="Straight Arrow Connector 61"/>
          <p:cNvCxnSpPr/>
          <p:nvPr/>
        </p:nvCxnSpPr>
        <p:spPr>
          <a:xfrm flipV="1">
            <a:off x="1856160" y="2285640"/>
            <a:ext cx="252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4" name="Straight Arrow Connector 62"/>
          <p:cNvCxnSpPr/>
          <p:nvPr/>
        </p:nvCxnSpPr>
        <p:spPr>
          <a:xfrm>
            <a:off x="4785120" y="2285640"/>
            <a:ext cx="2520" cy="1500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5" name="Straight Arrow Connector 65"/>
          <p:cNvCxnSpPr/>
          <p:nvPr/>
        </p:nvCxnSpPr>
        <p:spPr>
          <a:xfrm>
            <a:off x="3642120" y="2357280"/>
            <a:ext cx="2520" cy="1501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6" name="Straight Arrow Connector 66"/>
          <p:cNvCxnSpPr/>
          <p:nvPr/>
        </p:nvCxnSpPr>
        <p:spPr>
          <a:xfrm>
            <a:off x="2428920" y="2357280"/>
            <a:ext cx="2160" cy="1501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7" name="Straight Arrow Connector 67"/>
          <p:cNvCxnSpPr/>
          <p:nvPr/>
        </p:nvCxnSpPr>
        <p:spPr>
          <a:xfrm>
            <a:off x="1213200" y="2285640"/>
            <a:ext cx="2520" cy="1500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8" name="Straight Arrow Connector 69"/>
          <p:cNvCxnSpPr/>
          <p:nvPr/>
        </p:nvCxnSpPr>
        <p:spPr>
          <a:xfrm flipH="1" flipV="1">
            <a:off x="1285200" y="2214360"/>
            <a:ext cx="42948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9" name="Straight Arrow Connector 71"/>
          <p:cNvCxnSpPr/>
          <p:nvPr/>
        </p:nvCxnSpPr>
        <p:spPr>
          <a:xfrm>
            <a:off x="1213200" y="3857400"/>
            <a:ext cx="10440" cy="3690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20" name="Straight Arrow Connector 72"/>
          <p:cNvCxnSpPr/>
          <p:nvPr/>
        </p:nvCxnSpPr>
        <p:spPr>
          <a:xfrm>
            <a:off x="1214280" y="4357800"/>
            <a:ext cx="350136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64296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2c3e"/>
                </a:solidFill>
                <a:latin typeface="Calibri"/>
              </a:rPr>
              <a:t>III. Comportamentul spaţial al clienţilor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2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3ED2-5078-4F85-9AF7-89A1A973543F}" type="datetime">
              <a:rPr b="0" lang="ro-RO" sz="1600" spc="-1" strike="noStrike">
                <a:solidFill>
                  <a:srgbClr val="002c3e"/>
                </a:solidFill>
                <a:latin typeface="Constantia"/>
              </a:rPr>
              <a:t>30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CC65-1DE9-4190-9DB4-89FF18A146E2}" type="slidenum">
              <a:rPr b="0" lang="ro-RO" sz="1600" spc="-1" strike="noStrike">
                <a:solidFill>
                  <a:srgbClr val="002c3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Spaţiile pentru circulaţia clienţilor sunt următoare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a) căi principale de circulaţie – determină direcţia fluxului cumpărători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b) culoare pentru efectuarea cumpărăturilo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c) spaţii de staţionare – în faţa lifturilor, scărilor rulante, caselor de marca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a1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itle 1" descr=""/>
          <p:cNvPicPr/>
          <p:nvPr/>
        </p:nvPicPr>
        <p:blipFill>
          <a:blip r:embed="rId1"/>
          <a:stretch/>
        </p:blipFill>
        <p:spPr>
          <a:xfrm>
            <a:off x="646200" y="-365040"/>
            <a:ext cx="7626240" cy="1650960"/>
          </a:xfrm>
          <a:prstGeom prst="rect">
            <a:avLst/>
          </a:prstGeom>
          <a:ln w="0">
            <a:noFill/>
          </a:ln>
        </p:spPr>
      </p:pic>
      <p:sp>
        <p:nvSpPr>
          <p:cNvPr id="122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B499-0E95-44FF-B499-05C2E48C12C5}" type="datetime">
              <a:rPr b="0" lang="ro-RO" sz="1600" spc="-1" strike="noStrike">
                <a:solidFill>
                  <a:srgbClr val="00364c"/>
                </a:solidFill>
                <a:latin typeface="Constantia"/>
              </a:rPr>
              <a:t>30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7F7E-DB4B-4B98-A2FD-9ED56E38E474}" type="slidenum">
              <a:rPr b="0" lang="ro-RO" sz="1600" spc="-1" strike="noStrike">
                <a:solidFill>
                  <a:srgbClr val="00364c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Brush Script MT"/>
              </a:rPr>
              <a:t>Fluxul mărfurilor şi ambalajelor într-un depozi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9" name="Rectangle 10"/>
          <p:cNvSpPr/>
          <p:nvPr/>
        </p:nvSpPr>
        <p:spPr>
          <a:xfrm>
            <a:off x="3571920" y="214308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Rectangle 11"/>
          <p:cNvSpPr/>
          <p:nvPr/>
        </p:nvSpPr>
        <p:spPr>
          <a:xfrm>
            <a:off x="4500720" y="2143080"/>
            <a:ext cx="194436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PRIMI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Rectangle 12"/>
          <p:cNvSpPr/>
          <p:nvPr/>
        </p:nvSpPr>
        <p:spPr>
          <a:xfrm>
            <a:off x="3571920" y="300024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13"/>
          <p:cNvSpPr/>
          <p:nvPr/>
        </p:nvSpPr>
        <p:spPr>
          <a:xfrm>
            <a:off x="3571920" y="392904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14"/>
          <p:cNvSpPr/>
          <p:nvPr/>
        </p:nvSpPr>
        <p:spPr>
          <a:xfrm>
            <a:off x="4500720" y="3000240"/>
            <a:ext cx="1944360" cy="482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DESCĂRCA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5"/>
          <p:cNvSpPr/>
          <p:nvPr/>
        </p:nvSpPr>
        <p:spPr>
          <a:xfrm>
            <a:off x="4500720" y="3929040"/>
            <a:ext cx="1944360" cy="428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DEPOZIT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16"/>
          <p:cNvSpPr/>
          <p:nvPr/>
        </p:nvSpPr>
        <p:spPr>
          <a:xfrm>
            <a:off x="3571920" y="478620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7"/>
          <p:cNvSpPr/>
          <p:nvPr/>
        </p:nvSpPr>
        <p:spPr>
          <a:xfrm>
            <a:off x="4500720" y="4786200"/>
            <a:ext cx="1944360" cy="428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TRANSPORT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8"/>
          <p:cNvSpPr/>
          <p:nvPr/>
        </p:nvSpPr>
        <p:spPr>
          <a:xfrm>
            <a:off x="3571920" y="5643720"/>
            <a:ext cx="503280" cy="428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9"/>
          <p:cNvSpPr/>
          <p:nvPr/>
        </p:nvSpPr>
        <p:spPr>
          <a:xfrm>
            <a:off x="4429080" y="5643720"/>
            <a:ext cx="1944720" cy="428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VÂNZ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9" name="Straight Arrow Connector 20"/>
          <p:cNvCxnSpPr>
            <a:stCxn id="1230" idx="2"/>
            <a:endCxn id="1233" idx="0"/>
          </p:cNvCxnSpPr>
          <p:nvPr/>
        </p:nvCxnSpPr>
        <p:spPr>
          <a:xfrm flipH="1">
            <a:off x="5471280" y="2574720"/>
            <a:ext cx="252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0" name="Straight Arrow Connector 21"/>
          <p:cNvCxnSpPr/>
          <p:nvPr/>
        </p:nvCxnSpPr>
        <p:spPr>
          <a:xfrm>
            <a:off x="5357520" y="3500280"/>
            <a:ext cx="10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1" name="Straight Arrow Connector 22"/>
          <p:cNvCxnSpPr/>
          <p:nvPr/>
        </p:nvCxnSpPr>
        <p:spPr>
          <a:xfrm>
            <a:off x="5357520" y="4357800"/>
            <a:ext cx="1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2" name="Straight Arrow Connector 23"/>
          <p:cNvCxnSpPr/>
          <p:nvPr/>
        </p:nvCxnSpPr>
        <p:spPr>
          <a:xfrm>
            <a:off x="5357520" y="521460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afcf"/>
            </a:gs>
            <a:gs pos="100000">
              <a:srgbClr val="ffe5d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 txBox="1"/>
          <p:nvPr/>
        </p:nvSpPr>
        <p:spPr>
          <a:xfrm>
            <a:off x="285840" y="499680"/>
            <a:ext cx="8501040" cy="5506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comic"/>
              </a:rPr>
              <a:t>Activitate de învat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Reprezentaţi grafic un spaţiu comercial, având la bază cunoştinţele asimilate pe parcursul capitolului, experienţele proprii şi respectând următoarele cerinţ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magazinul este cu autoservire şi cu un singur nivel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e aplică implantarea în detaliu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gondolele sunt orientate în lungul axei longi-tudinale a sălii de vânzar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Evidenţiaţi fluxul clienţilo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Date Placeholder 2"/>
          <p:cNvSpPr/>
          <p:nvPr/>
        </p:nvSpPr>
        <p:spPr>
          <a:xfrm>
            <a:off x="428760" y="6286680"/>
            <a:ext cx="121428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06BE-2585-4425-A3CA-6F2457741FB8}" type="datetime">
              <a:rPr b="1" i="1" lang="ro-RO" sz="12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Slide Number Placeholder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7CB8-8864-4E39-B09B-5C0C3EE5ED52}" type="slidenum">
              <a:rPr b="1" i="1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03T16:59:54Z</dcterms:created>
  <dc:creator>cristina maria</dc:creator>
  <dc:description/>
  <dc:language>en-US</dc:language>
  <cp:lastModifiedBy>cristina maria</cp:lastModifiedBy>
  <dcterms:modified xsi:type="dcterms:W3CDTF">2020-05-04T15:08:49Z</dcterms:modified>
  <cp:revision>16</cp:revision>
  <dc:subject/>
  <dc:title>Slide 1</dc:title>
</cp:coreProperties>
</file>