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E886-6BAA-40A7-8401-652C8D92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AD84-3853-4BF7-B178-5EACA268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07FDF2-036B-4049-AD88-C34240B6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00DDEB-6D7A-4AD3-803E-7D1904009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3E8B9-E4AD-43EF-823B-90EFFEBB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A859C-DFBE-42DF-9DB0-4E3A465A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7DDDD3-34C8-4979-8FB4-9AA03E1E0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10E24-DF41-46BF-A196-FF405ED4F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48B5A-5779-4341-8F44-AEF8CBF0E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A33DE-D098-475F-98D5-630F3DD28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6D4D31-215A-4D36-8278-EEC98B1D0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73295-C0C1-4A63-B3EF-513B76EE7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7142-1280-4EE5-9547-1750A1BB74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F6FB36-2747-43FF-A5BC-822E06F9D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E9323-E47B-431E-BAB6-5B2F0AEA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38825E-E49F-4A5E-A165-B2AF7B2FC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32AAE9-162E-41EE-8370-DA582D172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49481A-9A01-40AC-B67B-CEB5C26FF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068D5B-F674-49F8-806D-1F805CFD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E89764-3D78-4841-AE3A-600311DAB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B4B96-9817-4167-B439-8AEA18D9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402574-DD79-45BE-99B3-D7EE002FF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C56A9-F8BF-4C0B-B20B-B710AA7D9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7A46-8CFA-42AC-BE30-A32E0DBFF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C8744-2860-4456-A0DB-11CBCC57D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9056B1-A2B8-4E2D-82CC-E39F56FD7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7922FA-9BD2-41B6-A6E8-2C112DE5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A12BB-CC8B-462D-A19B-B4715604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1B105A-E2D1-4A99-B736-03134977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C85401-801D-4739-BD39-527845014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8737C3-63AE-431C-9DF8-CF25FED2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BBD0DE-64A3-4824-9BA3-A6A5DB660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B99125-6F00-4E87-82B4-B06E4E8D8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D9FF2E-5040-4B45-ACE4-D7259FF63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61DAA-D1C0-46C3-B790-3DCC0791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1D828B-381D-4CD5-B8C6-F294D41C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B4D20-A7A3-4A25-AE7D-A9FCA2E59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2E30DE-9809-4B17-91CE-B6E8B45450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60C8E5-CD87-464C-8DC9-DE3F5B714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D4BD6A-9AC9-46C2-BBCD-A0D839C49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FD8C8F-2794-442E-B348-8B57E8903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009A92-F9DF-4456-902C-0018457F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8550B-DA41-43EC-852D-A8248CBA2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60A406-1560-47F4-92D3-7CE02DAA1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CAE9F-CAA0-408A-9CFB-0CA92CC03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FAD9F-9E54-46AD-8AD9-3453941F0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798601-5228-4062-BA29-06BC6799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4009C-6EFC-474B-9DED-9F8E571C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D72A9-A131-40DA-81A1-0CE87AD8E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34AB58-6330-4F25-8B61-B7544C54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E1048-3EC4-4960-9697-7F23FAFD4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3B133-4A81-4CA4-95A0-CE8E0DFF8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143B38-3CD9-4D5D-9F10-6754FB729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04938D-7DD2-4C0B-BA83-2EFD300C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BD9E0A-AA2A-4A29-B767-4A3098746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41E79E-DFCC-41D2-A7D2-B22392F19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B1CB1-348B-48F0-A616-E1DA02CE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07351-ECFC-4183-9F4D-C7B18AE9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E9BB78-12C8-499F-97DE-9716AE0AB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276DEB-05CF-48F4-A50E-2D9429B93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F8DA35-96E4-4C2F-97D5-47BA0F2A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07603-724B-486C-ACA8-63B310246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8435A9-5607-4BB7-8018-42326AF12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CEC0B-3A28-4B39-800F-56256D663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576B7-99FF-45B9-A42C-4F1DABA1D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2C091F-E81E-4FCA-9645-08CBCA012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D17C60-2DFD-48DC-B009-C39B5245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7C1EA-E137-4612-A720-CBD4D4565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704789-BF52-4B41-96BD-1164C4BEB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C7C212-E6A2-4CE2-9F47-8AFCFA5F1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8B4C0B-496A-40EB-93D5-960D2D03A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DA03B1-4316-4601-A1D1-3A271192E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EF1800-5A66-4738-9AF5-7C5B60F5F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A951F5-C603-4CE3-A5EE-05CABCE1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8B544A-C832-4B4F-B957-299E16EC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7A923C-EDF1-40E3-96EC-2E2B26FF4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E42524-4F35-4953-8F5E-F74C17028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826875-47A6-45F0-A686-E011B336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51BF-1F02-45DB-82DE-4C4D18C26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DF8AD0-ED89-42DD-8585-EF1953433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A4E29C9-5056-4E63-BF9B-E2C43DB3E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290D9A-C256-443D-876C-6C0E9E791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DA5E0B-9390-4ED2-96E4-CCF6D6120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64FAA5-B3FF-49ED-8533-65FB65E3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B622CB-20CE-4D93-912C-D04E50FE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6B268D-6775-4B50-84A9-D853C040B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E29596-C642-4871-AD9D-D62B53C59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EF25EF-E564-4B90-9B0F-C77DF0DB4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C9530A-CB41-4084-84A9-F9F7F0ACC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15F3D-034A-4F79-A734-C13CD3E1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B21AB-09C7-4928-A244-DD7F1F035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90C7DA-26E7-464F-8616-E1C71C2F4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F4FD5-FEC8-4EB1-8355-B94BA0D22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D4BCA0-AD0D-40B1-B2FF-A379F11D6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C23AEB-EC14-4BCD-8D90-B846BC831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BADF89-7E89-4722-B5FC-88965BC8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219547-F043-499C-BB19-75D3A62E5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269BED-4AD4-4B20-9811-F7B4109C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E9213-9113-42EE-840C-B7745C90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A15EB8-87AA-4885-A897-8CCF4667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E200-84DA-4D26-BABA-4DFE1AC7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8DB30F-99DD-434B-B1C0-F60E97DDE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6C9D8B-A329-4EB2-AE96-33E47BE2F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EB3B22-D8F4-4653-B872-8AA66F8E9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C30704-487E-48E0-A7F3-AE7B7670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F6A0D8-5FB4-4BFA-BF81-F539F7F1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FC71AB-D333-4C0E-A467-79A00ED3A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0AD2655-646A-4132-B741-890A582D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DED766-718B-4FF0-ADF4-3A632E69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218D378-94FE-4FE5-AD54-5BE3AD02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1E6E08-ECEE-409B-8E6D-C87368AC3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201-B2CC-47A8-A24E-06C0F0619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E5362-FD99-4DD5-897D-ABAB226B2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CCE8A1-6A3D-4B2B-B836-4493CF91B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2811F3-726D-4DAC-B021-FE43DC59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25C4BE-E737-4530-AD01-51EED582D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71505C-C9A3-424F-A6E3-C6259F58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E7D432-A932-4D2C-8574-6B5307BE5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7BD15E-4F51-43DC-B721-F1CF8E5B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03DF1D-15E5-4473-B576-1D57B7D2E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04D42C-D89C-42CF-9B00-172C0BA8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C71E2E-C55A-4A72-9957-551501901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7A0008-12CF-4B33-81E1-D4018AAA0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18B62-3584-40C4-B37A-C79C50CDD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CE9157A-E94E-4C44-8BBE-71A827EEB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78F694-8954-498C-9FF5-E5C38F92A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658B3D-FE1B-419C-9A63-FDB19AD73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DE6D4E-BCD4-4AF2-837E-391B6F265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B2D80F-9A94-48DC-91DD-9E2AE52AA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303260F-834D-4AF0-9FF3-69557054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D24D5D-2427-4C02-A93C-740CE5AB6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5CB913C-3223-44E6-BB3A-B65FDABD2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51951B0-6866-43C3-BB80-101B5A4B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96BDA3C-C972-405C-90F0-5CD8F7AD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4FB8-199B-4B06-BC24-A01129183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46C98C-109E-4326-B741-E6FD34249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0D145F-A104-466A-AAB7-5B19169CA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245CD7-0D8D-42DE-9C4B-36DEBF75B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06AA9A-0FC0-4F98-9E13-CCDC10AB0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2B3F97-1BF8-41FE-8572-3BE4CEFC8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47DC85-14E9-46AA-8524-E02EA417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32EAF4-F6D1-4550-99AF-AD6D9AAA4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B0D613-5AE1-419C-B303-F1C0F88A5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BF55F0-C9F7-4F85-BCC1-A5967B2F7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B492FD-C8EE-4362-99C9-3830CF9DD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B758-E598-44D4-8140-D8EF3A173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E6C101-488A-490D-B771-2BAD4782A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23C11F-321E-4EDA-812F-B15EC418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303040-16F3-4BDB-A60A-29F24C2E3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627218-D386-41E6-9E29-E088280A3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0F43BB-AC8F-4A8F-9242-5E6EC8D53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14A102-07AF-4940-A83F-CCA793F2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6EFA3F-2254-4A6F-9442-6A6407FA0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40040B-E896-406C-B0BE-E2304584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F9305B-9A03-4C7D-81A1-00AE27C4D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0EEC78-02CF-41C5-B0D6-88C551E16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D793F-D118-4290-A5D9-2D0E7A44D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FF3BC4-82A3-4D7B-BFFA-67F9F31CD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696523-9C9B-4786-A6E2-FA9103F44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E6A09E-3B54-419E-8380-7C82CCCF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0FA609-620D-48A1-A47C-B8E8DD4FD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0BEB48-630A-4322-AD3E-C5AF625B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07F22E-0CCA-4133-A0A6-A2E3AD69A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A91BBC-B98E-4D2E-81F1-AA6C08A1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958030-FDDE-41DC-B33B-5718EC8A3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AF6759-D0B1-4237-B48B-13A32B93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FD60752-CF5F-4A30-A68B-54FF2F5B2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3576E-C2C3-44F3-B288-7D825D7E3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29ADAC-4616-4565-80B5-D40D291D2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DF597A-5150-40AF-85A0-0EB48B091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0AC90F-1BE0-4BDB-8B4C-04545E220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5EB069-1090-41FA-9F17-5B6EE74BE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5BC1DE-8BC1-4E12-82C9-B14063363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48C05D-E9A4-4F82-9D4D-89347703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41C8763-9781-4CCF-9F3E-D8E0C187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A57CB37-66D3-44D4-90A7-F59711C5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E43863F-CC08-4ABF-8C1C-025475005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1BCF44-7782-46A4-A2E4-2FFCABB8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12DD4-8546-4AD0-A340-9DD7E81C2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D7604E-4C6B-4428-B6A0-EBFBCDCF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3A4C4D-0FCE-4B3F-8009-E88B56F8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B66B4D-448F-429A-8CA6-D46FECD3C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B9D384B-DF9B-4E14-919D-ECD813E3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8B3C94B-8D7E-49AB-AE5C-94EAD119A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471482-AE4C-47C8-B470-B693591B1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20432C-30CC-4DB9-A825-01E7D0B0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1D4B22-7B43-43F3-9CED-341ABBF71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5C364F-1FFC-4C72-8B69-129083CD5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EA38C1-C734-4FCF-9B42-5E29C889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C2E2B8-0038-4F08-96F3-796AB804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4FC6C4-65E1-4D51-AAF2-13FD910CC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58DCB9-1C15-49CE-87FF-96334210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176C1FC-53D1-4E43-BBDC-C4A662D2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6B49C8F-1E34-4FC3-833F-4DBC9ED5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D34B5AA-A1D8-4135-87B9-BAD07F61A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59360A-3666-4676-B1A7-737561A27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C538BE1-F2CB-47EB-B360-0A4EECE08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579A307-220E-4617-A72E-1E5E8BA32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2E6C0E0-223B-4B83-9847-F4F719EBA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5CEFD9-3DC9-4587-9B03-AED2FF30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8A396F-C765-4FBE-AF0B-C7814FC4C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9CE3594-51E6-4788-84EB-7249C5693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CDF429-5F43-4E26-BFE0-71A3FBA5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46E8C90-9AF8-4707-A183-862B0D39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53F2A9-35D5-4A6B-AC56-ED52525CC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31378E-13C3-4579-880F-8D8E3E71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F032B0-A06F-408E-BC19-17136F87E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98B0D8-DE56-431C-A551-2B2215AA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B52EF8-4F7E-42D4-8590-1A66BB34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231A20C-C94C-4400-B2A4-E388285C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21BD5A-7B5E-4509-BD8B-DD446520A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A316-487E-494B-AA01-EF3B32602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33772-E68D-4BD1-9157-E58FEA055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547D3-7F9D-4248-B8F6-A905D503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8C5EC1-2DFF-4E72-8DCB-0337B9DC7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4A490D-D849-4C5A-A0F4-5786D63FF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8869F1-C6AE-4E80-A786-338AD37E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E7523-C1FB-4F3C-B469-FBC5A3940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19AF0-D6ED-41E0-88BD-5AA85BED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59D9F-6035-4328-8AAC-1F06852F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BF49A-0CD4-4804-A5F2-2ABCB85B6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00653-E8DE-4050-A406-D7B0BACA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BCD-E8E5-40B4-864C-79E91E12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1EC5D-C4C2-4895-A31E-CD42FCA96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BC7CE-0451-45F1-9FBA-637285D00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17FDA-D51D-4CCE-AE3A-F9AF4D665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0CBFE-538A-43BC-8E43-EA9936F9A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E54488-811B-4956-80F7-E2175E1B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2BC6E-8207-4C28-B811-2B3A9A254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895C2-4716-4F32-A352-3031B045D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0F3E3-7B10-437B-B496-464548FC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01B6A-1F77-4196-AC59-67F68195F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38D71A-E825-47A2-AD4D-38C7FC848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9E72-28AC-4808-8CF4-FAEE4B574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921975-AF03-4B5E-B454-6413F361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F53595-4A50-4ACB-ABD1-B0266497A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0BD11-D96A-4883-BE7B-9445306B1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B1DA5B-5636-40BA-9A48-4890E28E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14043-48EC-443F-925C-E6443C96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A8A57-1CCD-4B47-9E39-BC93363F6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07EBA-604D-44D1-8EBE-F6E75183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F60B0-A183-4183-A9BF-C09EC014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9DBDE-879F-49F0-9376-84E1D1EC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2E4E4F-129C-40FE-BD19-72B2675B6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C9F-116E-42EE-99A6-A3E77BBE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F09CC-D486-4D2E-883A-DBBA1ECFC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0DB5F7-D87A-4F03-A529-130B28079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63EA6-F27C-4523-8C0B-F5759AEC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DA9E79-70E6-4878-AF71-7CA5BE92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168DF-A233-49E3-9458-06FCA80E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990432-D94F-4A04-BD43-AF3993D0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19AA4-DF5B-458E-B6F8-6CCE6333B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0A550-4A2E-4642-829A-CAABFEE4F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C3799-DD17-40F0-8CC3-5101DEE9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EDDB88-8BEB-4783-8D09-1DAA4B894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5671-D95B-4D4A-A474-36B65A768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154F5-D599-4238-BBBF-65F7A8454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DDF8B-D27B-4323-8858-715CC2D7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B6CD6F-6FCD-466A-BEA0-67D27B7FD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1E52E-0673-40B7-88FD-24A51E1F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B30BBD-0B87-47FA-B8D8-C6E2AC31C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A35062-14C5-4220-9E80-3A2D7537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EC643C-1AF7-478E-A1A4-8806A447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E8CCAD-6060-4272-ACFB-06998724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6AE67A-504A-44D8-98E4-41B361AF2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2F175-90F3-401D-999B-1F646DC6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8255-1046-4C1A-A42A-A4FC59810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9DEFA1-3058-46A5-90DF-6424BF395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F52051-4B5F-43D0-9A6D-DBD01D87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BF67BD-C375-4E38-9A7B-A6F53B6EA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A5AB1-9B90-46A5-BFA1-92252E636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CB42D-18F4-432F-AE7F-DF6FD0374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95309-D743-4822-90AE-2BDCD349E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B4BA2C-1734-42D8-8E88-1FF27C48C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FCDEE-A2EB-4CD0-9BC0-8BD7C1113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91DF6-B78B-4F1D-A889-8984FC50B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E241D9-BC00-41C3-B211-35229233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8D44-8CB8-42DD-AC2A-8BDA92182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0CA5F-0610-4D3D-AC36-3BAD88EE7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D253B-B75A-4D7E-9FB1-678D36F6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241B27-2716-4E64-9775-4A40703DD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4B0A97-A37E-41F3-9DE2-B56E58281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9F481B-5CEE-43BF-A8ED-291C27466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FA3493-BAB1-4E65-82CD-A7C80793D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87697-41EC-4E6A-A5DD-3306B7C2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F00934-B0B0-4975-94B4-851130482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0F111-93B6-41FB-91AE-35368F69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75081E-435A-4B74-AA33-7A10B206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6B8C2-AEA2-44A9-88E1-456B9C3E0342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769B-38A2-4974-A579-3845A6A75FCB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D3E7-D212-446B-AE1E-C1BDEA82B7C4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C900-B0BD-45A1-9EA7-2B0225A54935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6AF8D-911B-49CD-B2A8-5388ED307C3E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495E-2A64-4E44-98E8-5A338D71F06A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19BBE-9FC1-4FD4-B618-F9C330EB1640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226B4-BF14-419B-91CE-B8723D603DBC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E36D7-CDC2-4DFA-A62D-DE60B8F2F865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3C43-323E-44D9-BCAC-371C22FD2D2B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64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95B0D-F0AD-42E3-81C1-A8E814BD4702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BD1D-2E7D-4771-A6B7-B0A27F3CCFD1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6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E08A-DB58-43D2-82F6-AE41CF4E0198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F58EE-F899-4DD5-9212-8969D7A53A7D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7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2F6EC-0172-4ECC-8D79-E36F103DEA3C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7342-B0BF-4C42-89A4-AEE94734EF83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77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05188-E5F5-44F6-A1F7-40B00AC6B4AD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53A8-2A84-49AF-A8B6-A6D632FC1759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9763-3DD4-4856-973E-CE0AB1EAC0B0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F3EC2-4F15-44E8-8C4E-94501EA70B42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FBB87-64BF-47A9-BDB4-EFF60B1F5251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BB200-62BA-4A0F-8845-463391BAD47D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D355-F30D-410F-A588-FCB1BBF27FF8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48F8-FE60-42BB-9C58-46EA9FD33481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7D072-925A-49FC-8CFF-472BA16B16A9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8E83B-24B8-46DC-8529-BE834F692E99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5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99A5-271F-4E28-A0CF-9C0206C2D73B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DB7D-DC41-42B0-8070-17C5CBE0A4B9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1004F-2A05-4FA6-B8DE-188936F910B5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5F81-8581-405D-90F6-6B39F5E9F6A4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4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95B5A-1EF7-431B-8BF1-63BDB517F3C9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735F1-A188-49A1-85A4-987CDB264A31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7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0710-C0F7-42BA-A008-54905663996C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7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7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CE98-C9EB-4200-BE58-F323F2EEB728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7235-B6DE-494B-B85A-03E469A6B530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17BE-B461-408D-9894-5A9F64EB86DD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CEA74-8727-4A90-9404-8B5F20E87DA4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A6BBB-BF87-43F3-A042-48F9C96C276C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0E8E1-6BED-4C70-96E3-0F6B55FEED42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18F75-DBEA-4AF6-B99C-12A0B6F00853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557DE-9433-40FB-9295-314C60F41D2A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7CAA-95A2-4ED5-B0B6-8F0155233F03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416FC-4F23-47AD-97B4-F04C4EB7C49B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C088A-FC51-43AE-891F-AC1647F948D7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B14A4-5B6F-488D-9511-F43889E275F0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E5DD4-ED79-4D5B-99CD-2A854A971A10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4000-3E0A-4BF1-86A5-8E3F55DF40A0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D96C-F575-4162-91BF-43E9698861C5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Title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255160" cy="224316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285480" y="1571400"/>
            <a:ext cx="8643960" cy="47862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00293a"/>
                </a:solidFill>
                <a:latin typeface="Constantia"/>
              </a:rPr>
              <a:t>Obiecti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enumerarea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descrierea completă a tuturor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prezentarea tuturor tipurilor de fluxuri de circulaţie a clienţilor în sala de vânzar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tabilirea corectă a fluxului mărfurilor şi ambalajel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332C-FA20-4495-911E-EE10617AD1FB}" type="datetime">
              <a:rPr b="0" lang="ro-RO" sz="1400" spc="-1" strike="noStrike">
                <a:solidFill>
                  <a:srgbClr val="000000"/>
                </a:solidFill>
                <a:latin typeface="Constant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4525-C018-499D-BEEB-E814F8E82C35}" type="slidenum">
              <a:rPr b="0" lang="ro-RO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603360" y="-517680"/>
            <a:ext cx="7711920" cy="2102040"/>
          </a:xfrm>
          <a:prstGeom prst="rect">
            <a:avLst/>
          </a:prstGeom>
          <a:ln w="0">
            <a:noFill/>
          </a:ln>
        </p:spPr>
      </p:pic>
      <p:pic>
        <p:nvPicPr>
          <p:cNvPr id="1135" name="Content Placeholder 2" descr=""/>
          <p:cNvPicPr/>
          <p:nvPr/>
        </p:nvPicPr>
        <p:blipFill>
          <a:blip r:embed="rId2"/>
          <a:stretch/>
        </p:blipFill>
        <p:spPr>
          <a:xfrm>
            <a:off x="689040" y="414360"/>
            <a:ext cx="8540640" cy="9345600"/>
          </a:xfrm>
          <a:prstGeom prst="rect">
            <a:avLst/>
          </a:prstGeom>
          <a:ln w="0">
            <a:noFill/>
          </a:ln>
        </p:spPr>
      </p:pic>
      <p:sp>
        <p:nvSpPr>
          <p:cNvPr id="1136" name="Date Placeholder 3"/>
          <p:cNvSpPr/>
          <p:nvPr/>
        </p:nvSpPr>
        <p:spPr>
          <a:xfrm>
            <a:off x="4572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2F84-C3ED-48DD-9BB6-0E9126EFB477}" type="datetime">
              <a:rPr b="0" lang="ro-RO" sz="1600" spc="-1" strike="noStrike">
                <a:solidFill>
                  <a:srgbClr val="03231b"/>
                </a:solidFill>
                <a:latin typeface="Constantia"/>
              </a:rPr>
              <a:t>28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4"/>
          <p:cNvSpPr/>
          <p:nvPr/>
        </p:nvSpPr>
        <p:spPr>
          <a:xfrm>
            <a:off x="8001000" y="63579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BBA7-A0CB-47AC-B23A-641F6C08CB03}" type="slidenum">
              <a:rPr b="0" lang="ro-RO" sz="1600" spc="-1" strike="noStrike">
                <a:solidFill>
                  <a:srgbClr val="03271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3"/>
          <a:stretch/>
        </p:blipFill>
        <p:spPr>
          <a:xfrm>
            <a:off x="6072120" y="3786120"/>
            <a:ext cx="2871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2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42E8-73EE-44B5-B2D7-61B5354E3C7A}" type="datetime">
              <a:rPr b="0" lang="ro-RO" sz="1600" spc="-1" strike="noStrike">
                <a:solidFill>
                  <a:srgbClr val="1f250d"/>
                </a:solidFill>
                <a:latin typeface="Constantia"/>
              </a:rPr>
              <a:t>28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84ED-3F45-41CD-9ACA-E419DC79D0C7}" type="slidenum">
              <a:rPr b="0" lang="ro-RO" sz="1600" spc="-1" strike="noStrike">
                <a:solidFill>
                  <a:srgbClr val="1d220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ooter Placeholder 5"/>
          <p:cNvSpPr/>
          <p:nvPr/>
        </p:nvSpPr>
        <p:spPr>
          <a:xfrm>
            <a:off x="242892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13840" y="142560"/>
            <a:ext cx="864396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.Mărimea magazinului şi particularităţile lui constructive</a:t>
            </a:r>
            <a:r>
              <a:rPr b="1" i="1" lang="ro-RO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93a"/>
                </a:solidFill>
                <a:latin typeface="Constantia"/>
              </a:rPr>
              <a:t>Sfat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intrarea în magazin să fie orientată spre strad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eschiderea uşilor să se facă în sensul fluxului clienţilor (spre stânga) la magazinele cu autoservire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este de preferat ca pentr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uşa de ieşire să existe o uş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istinctă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5"/>
          <a:stretch/>
        </p:blipFill>
        <p:spPr>
          <a:xfrm>
            <a:off x="4929120" y="3071880"/>
            <a:ext cx="3714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9f44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52B19-55CF-45E2-BE90-9C020F5A79F4}" type="datetime">
              <a:rPr b="0" lang="ro-RO" sz="1600" spc="-1" strike="noStrike">
                <a:solidFill>
                  <a:srgbClr val="02232c"/>
                </a:solidFill>
                <a:latin typeface="Constantia"/>
              </a:rPr>
              <a:t>28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C784-DA9D-48D1-BDBF-36C1C90242D2}" type="slidenum">
              <a:rPr b="0" lang="ro-RO" sz="1600" spc="-1" strike="noStrike">
                <a:solidFill>
                  <a:srgbClr val="01202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85840" y="357120"/>
            <a:ext cx="85723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I. Dispunerea mobilierului comercial în sala de vânzare, în legătură directă cu formele de vânzare practicate în magaz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	</a:t>
            </a: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În magazanele cu autoservire, gondolele pot fi orientate în diferite mod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a) în lungul axei longitudinale a sălii de vânz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Gondole (mobilier de expun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a produsel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    </a:t>
            </a: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- case de marc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tretch/>
        </p:blipFill>
        <p:spPr>
          <a:xfrm>
            <a:off x="5000760" y="3143160"/>
            <a:ext cx="3936960" cy="271476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6"/>
          <p:cNvSpPr/>
          <p:nvPr/>
        </p:nvSpPr>
        <p:spPr>
          <a:xfrm>
            <a:off x="1214280" y="3357720"/>
            <a:ext cx="3143520" cy="142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1214280" y="371484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1214280" y="407196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"/>
          <p:cNvSpPr/>
          <p:nvPr/>
        </p:nvSpPr>
        <p:spPr>
          <a:xfrm>
            <a:off x="1214280" y="442908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1214280" y="478620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traight Connector 12"/>
          <p:cNvSpPr/>
          <p:nvPr/>
        </p:nvSpPr>
        <p:spPr>
          <a:xfrm>
            <a:off x="500040" y="33577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traight Connector 14"/>
          <p:cNvSpPr/>
          <p:nvPr/>
        </p:nvSpPr>
        <p:spPr>
          <a:xfrm>
            <a:off x="4857840" y="3357720"/>
            <a:ext cx="0" cy="15714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traight Connector 16"/>
          <p:cNvSpPr/>
          <p:nvPr/>
        </p:nvSpPr>
        <p:spPr>
          <a:xfrm>
            <a:off x="500040" y="49291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traight Connector 20"/>
          <p:cNvSpPr/>
          <p:nvPr/>
        </p:nvSpPr>
        <p:spPr>
          <a:xfrm>
            <a:off x="500040" y="3357720"/>
            <a:ext cx="0" cy="100008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traight Connector 21"/>
          <p:cNvSpPr/>
          <p:nvPr/>
        </p:nvSpPr>
        <p:spPr>
          <a:xfrm>
            <a:off x="500040" y="4714920"/>
            <a:ext cx="0" cy="2858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8" name="Straight Arrow Connector 30"/>
          <p:cNvCxnSpPr/>
          <p:nvPr/>
        </p:nvCxnSpPr>
        <p:spPr>
          <a:xfrm>
            <a:off x="428760" y="457200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9" name="Rectangle 34"/>
          <p:cNvSpPr/>
          <p:nvPr/>
        </p:nvSpPr>
        <p:spPr>
          <a:xfrm flipV="1" rot="5400000">
            <a:off x="3977640" y="4047840"/>
            <a:ext cx="1571400" cy="189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0" name="Straight Arrow Connector 35"/>
          <p:cNvCxnSpPr/>
          <p:nvPr/>
        </p:nvCxnSpPr>
        <p:spPr>
          <a:xfrm flipV="1">
            <a:off x="4500720" y="3642840"/>
            <a:ext cx="10080" cy="347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1" name="Straight Arrow Connector 36"/>
          <p:cNvCxnSpPr/>
          <p:nvPr/>
        </p:nvCxnSpPr>
        <p:spPr>
          <a:xfrm flipV="1">
            <a:off x="4500720" y="4357440"/>
            <a:ext cx="2160" cy="357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2" name="Straight Arrow Connector 37"/>
          <p:cNvCxnSpPr/>
          <p:nvPr/>
        </p:nvCxnSpPr>
        <p:spPr>
          <a:xfrm>
            <a:off x="1356840" y="471492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3" name="Straight Arrow Connector 40"/>
          <p:cNvCxnSpPr/>
          <p:nvPr/>
        </p:nvCxnSpPr>
        <p:spPr>
          <a:xfrm>
            <a:off x="1356840" y="400068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4" name="Straight Arrow Connector 41"/>
          <p:cNvCxnSpPr/>
          <p:nvPr/>
        </p:nvCxnSpPr>
        <p:spPr>
          <a:xfrm flipH="1" flipV="1">
            <a:off x="1213920" y="4357440"/>
            <a:ext cx="31442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5" name="Straight Arrow Connector 44"/>
          <p:cNvCxnSpPr/>
          <p:nvPr/>
        </p:nvCxnSpPr>
        <p:spPr>
          <a:xfrm flipH="1" flipV="1">
            <a:off x="1213920" y="3642480"/>
            <a:ext cx="31442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6" name="Straight Arrow Connector 47"/>
          <p:cNvCxnSpPr/>
          <p:nvPr/>
        </p:nvCxnSpPr>
        <p:spPr>
          <a:xfrm flipV="1">
            <a:off x="1071720" y="3999960"/>
            <a:ext cx="10080" cy="3466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7" name="Rectangle 48"/>
          <p:cNvSpPr/>
          <p:nvPr/>
        </p:nvSpPr>
        <p:spPr>
          <a:xfrm>
            <a:off x="785880" y="350028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49"/>
          <p:cNvSpPr/>
          <p:nvPr/>
        </p:nvSpPr>
        <p:spPr>
          <a:xfrm>
            <a:off x="785880" y="378612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50"/>
          <p:cNvSpPr/>
          <p:nvPr/>
        </p:nvSpPr>
        <p:spPr>
          <a:xfrm>
            <a:off x="785880" y="41432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51"/>
          <p:cNvSpPr/>
          <p:nvPr/>
        </p:nvSpPr>
        <p:spPr>
          <a:xfrm>
            <a:off x="428760" y="60008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Straight Arrow Connector 52"/>
          <p:cNvCxnSpPr/>
          <p:nvPr/>
        </p:nvCxnSpPr>
        <p:spPr>
          <a:xfrm flipH="1" flipV="1">
            <a:off x="785520" y="3428640"/>
            <a:ext cx="348480" cy="72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2" name="Straight Arrow Connector 54"/>
          <p:cNvCxnSpPr/>
          <p:nvPr/>
        </p:nvCxnSpPr>
        <p:spPr>
          <a:xfrm>
            <a:off x="642960" y="3499920"/>
            <a:ext cx="1008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3" name="Straight Arrow Connector 56"/>
          <p:cNvCxnSpPr/>
          <p:nvPr/>
        </p:nvCxnSpPr>
        <p:spPr>
          <a:xfrm flipH="1">
            <a:off x="641160" y="3930120"/>
            <a:ext cx="216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4" name="Straight Arrow Connector 59"/>
          <p:cNvCxnSpPr/>
          <p:nvPr/>
        </p:nvCxnSpPr>
        <p:spPr>
          <a:xfrm flipH="1">
            <a:off x="285120" y="4428000"/>
            <a:ext cx="338760" cy="10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a573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285840" y="6356520"/>
            <a:ext cx="1071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2E2C6-A6A0-4582-9A72-7510E44FA12F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28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8A1D-AC44-4AA4-8C31-E0F114258DE3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214200" y="285840"/>
            <a:ext cx="8715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c3e"/>
                </a:solidFill>
                <a:latin typeface="Constantia"/>
              </a:rPr>
              <a:t>b) </a:t>
            </a: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pendicular pe axa longitudinală  a sălii de vânzare – fluxul clienţilor este orientat astfel încât punctul de plecare să corespundă cu punctul de sosire. Numărul rândurilor de gondole dispuse pe mijlocul suprafeţei de vânzare trebuie să fie imp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În magazinele cu vânzare clasic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mobilierul poate fi dispus de-a lungu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eţilor  şi în mijlocul sălilor de vânz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8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262320" cy="2136600"/>
          </a:xfrm>
          <a:prstGeom prst="rect">
            <a:avLst/>
          </a:prstGeom>
          <a:ln w="0">
            <a:noFill/>
          </a:ln>
        </p:spPr>
      </p:pic>
      <p:sp>
        <p:nvSpPr>
          <p:cNvPr id="1179" name="Straight Connector 7"/>
          <p:cNvSpPr/>
          <p:nvPr/>
        </p:nvSpPr>
        <p:spPr>
          <a:xfrm>
            <a:off x="857160" y="1928880"/>
            <a:ext cx="48578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traight Connector 8"/>
          <p:cNvSpPr/>
          <p:nvPr/>
        </p:nvSpPr>
        <p:spPr>
          <a:xfrm flipV="1">
            <a:off x="857160" y="1928880"/>
            <a:ext cx="0" cy="22860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traight Connector 9"/>
          <p:cNvSpPr/>
          <p:nvPr/>
        </p:nvSpPr>
        <p:spPr>
          <a:xfrm>
            <a:off x="5715000" y="1928880"/>
            <a:ext cx="0" cy="25002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1214280" y="1928880"/>
            <a:ext cx="40719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 flipV="1">
            <a:off x="857160" y="1928160"/>
            <a:ext cx="214560" cy="2500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 rot="5400000">
            <a:off x="4566960" y="2862360"/>
            <a:ext cx="2071800" cy="204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0"/>
          <p:cNvSpPr/>
          <p:nvPr/>
        </p:nvSpPr>
        <p:spPr>
          <a:xfrm rot="5400000">
            <a:off x="4250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1"/>
          <p:cNvSpPr/>
          <p:nvPr/>
        </p:nvSpPr>
        <p:spPr>
          <a:xfrm rot="5400000">
            <a:off x="1892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2"/>
          <p:cNvSpPr/>
          <p:nvPr/>
        </p:nvSpPr>
        <p:spPr>
          <a:xfrm rot="5400000">
            <a:off x="2535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3"/>
          <p:cNvSpPr/>
          <p:nvPr/>
        </p:nvSpPr>
        <p:spPr>
          <a:xfrm rot="5400000">
            <a:off x="3107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4"/>
          <p:cNvSpPr/>
          <p:nvPr/>
        </p:nvSpPr>
        <p:spPr>
          <a:xfrm rot="5400000">
            <a:off x="3678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25"/>
          <p:cNvSpPr/>
          <p:nvPr/>
        </p:nvSpPr>
        <p:spPr>
          <a:xfrm rot="5400000">
            <a:off x="749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6"/>
          <p:cNvSpPr/>
          <p:nvPr/>
        </p:nvSpPr>
        <p:spPr>
          <a:xfrm rot="5400000">
            <a:off x="132120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30"/>
          <p:cNvSpPr/>
          <p:nvPr/>
        </p:nvSpPr>
        <p:spPr>
          <a:xfrm>
            <a:off x="857160" y="4429080"/>
            <a:ext cx="39290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traight Connector 34"/>
          <p:cNvSpPr/>
          <p:nvPr/>
        </p:nvSpPr>
        <p:spPr>
          <a:xfrm>
            <a:off x="5143680" y="4429080"/>
            <a:ext cx="57132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6"/>
          <p:cNvSpPr/>
          <p:nvPr/>
        </p:nvSpPr>
        <p:spPr>
          <a:xfrm>
            <a:off x="1714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7"/>
          <p:cNvSpPr/>
          <p:nvPr/>
        </p:nvSpPr>
        <p:spPr>
          <a:xfrm>
            <a:off x="228600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8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9"/>
          <p:cNvSpPr/>
          <p:nvPr/>
        </p:nvSpPr>
        <p:spPr>
          <a:xfrm>
            <a:off x="3500280" y="4143240"/>
            <a:ext cx="21456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40"/>
          <p:cNvSpPr/>
          <p:nvPr/>
        </p:nvSpPr>
        <p:spPr>
          <a:xfrm>
            <a:off x="42148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9" name="Straight Arrow Connector 43"/>
          <p:cNvCxnSpPr/>
          <p:nvPr/>
        </p:nvCxnSpPr>
        <p:spPr>
          <a:xfrm flipV="1">
            <a:off x="5072040" y="4144680"/>
            <a:ext cx="216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0" name="Straight Arrow Connector 44"/>
          <p:cNvCxnSpPr/>
          <p:nvPr/>
        </p:nvCxnSpPr>
        <p:spPr>
          <a:xfrm>
            <a:off x="4856760" y="4143240"/>
            <a:ext cx="11880" cy="511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1" name="Straight Arrow Connector 46"/>
          <p:cNvCxnSpPr/>
          <p:nvPr/>
        </p:nvCxnSpPr>
        <p:spPr>
          <a:xfrm flipV="1">
            <a:off x="5072040" y="3928320"/>
            <a:ext cx="2865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2" name="Straight Arrow Connector 48"/>
          <p:cNvCxnSpPr/>
          <p:nvPr/>
        </p:nvCxnSpPr>
        <p:spPr>
          <a:xfrm flipV="1">
            <a:off x="5357880" y="2285640"/>
            <a:ext cx="2160" cy="1573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3" name="Straight Arrow Connector 50"/>
          <p:cNvCxnSpPr/>
          <p:nvPr/>
        </p:nvCxnSpPr>
        <p:spPr>
          <a:xfrm flipH="1" flipV="1">
            <a:off x="4285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4" name="Straight Arrow Connector 52"/>
          <p:cNvCxnSpPr/>
          <p:nvPr/>
        </p:nvCxnSpPr>
        <p:spPr>
          <a:xfrm flipH="1" flipV="1">
            <a:off x="37144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5" name="Straight Arrow Connector 53"/>
          <p:cNvCxnSpPr/>
          <p:nvPr/>
        </p:nvCxnSpPr>
        <p:spPr>
          <a:xfrm flipH="1" flipV="1">
            <a:off x="3142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6" name="Straight Arrow Connector 54"/>
          <p:cNvCxnSpPr/>
          <p:nvPr/>
        </p:nvCxnSpPr>
        <p:spPr>
          <a:xfrm flipH="1" flipV="1">
            <a:off x="27856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7" name="Straight Arrow Connector 55"/>
          <p:cNvCxnSpPr/>
          <p:nvPr/>
        </p:nvCxnSpPr>
        <p:spPr>
          <a:xfrm flipH="1" flipV="1">
            <a:off x="2499480" y="392868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8" name="Straight Arrow Connector 56"/>
          <p:cNvCxnSpPr/>
          <p:nvPr/>
        </p:nvCxnSpPr>
        <p:spPr>
          <a:xfrm flipH="1" flipV="1">
            <a:off x="192852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9" name="Straight Arrow Connector 57"/>
          <p:cNvCxnSpPr/>
          <p:nvPr/>
        </p:nvCxnSpPr>
        <p:spPr>
          <a:xfrm flipH="1" flipV="1">
            <a:off x="371448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0" name="Straight Arrow Connector 58"/>
          <p:cNvCxnSpPr/>
          <p:nvPr/>
        </p:nvCxnSpPr>
        <p:spPr>
          <a:xfrm flipH="1" flipV="1">
            <a:off x="4785480" y="221436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1" name="Straight Arrow Connector 59"/>
          <p:cNvCxnSpPr/>
          <p:nvPr/>
        </p:nvCxnSpPr>
        <p:spPr>
          <a:xfrm flipV="1">
            <a:off x="4214880" y="2285640"/>
            <a:ext cx="216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2" name="Straight Arrow Connector 60"/>
          <p:cNvCxnSpPr/>
          <p:nvPr/>
        </p:nvCxnSpPr>
        <p:spPr>
          <a:xfrm flipV="1">
            <a:off x="2999160" y="235692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3" name="Straight Arrow Connector 61"/>
          <p:cNvCxnSpPr/>
          <p:nvPr/>
        </p:nvCxnSpPr>
        <p:spPr>
          <a:xfrm flipV="1">
            <a:off x="1856160" y="228564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4" name="Straight Arrow Connector 62"/>
          <p:cNvCxnSpPr/>
          <p:nvPr/>
        </p:nvCxnSpPr>
        <p:spPr>
          <a:xfrm>
            <a:off x="478512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5" name="Straight Arrow Connector 65"/>
          <p:cNvCxnSpPr/>
          <p:nvPr/>
        </p:nvCxnSpPr>
        <p:spPr>
          <a:xfrm>
            <a:off x="3642120" y="2357280"/>
            <a:ext cx="252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6" name="Straight Arrow Connector 66"/>
          <p:cNvCxnSpPr/>
          <p:nvPr/>
        </p:nvCxnSpPr>
        <p:spPr>
          <a:xfrm>
            <a:off x="2428920" y="2357280"/>
            <a:ext cx="216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7" name="Straight Arrow Connector 67"/>
          <p:cNvCxnSpPr/>
          <p:nvPr/>
        </p:nvCxnSpPr>
        <p:spPr>
          <a:xfrm>
            <a:off x="121320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8" name="Straight Arrow Connector 69"/>
          <p:cNvCxnSpPr/>
          <p:nvPr/>
        </p:nvCxnSpPr>
        <p:spPr>
          <a:xfrm flipH="1" flipV="1">
            <a:off x="1285200" y="221436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9" name="Straight Arrow Connector 71"/>
          <p:cNvCxnSpPr/>
          <p:nvPr/>
        </p:nvCxnSpPr>
        <p:spPr>
          <a:xfrm>
            <a:off x="1213200" y="3857400"/>
            <a:ext cx="10440" cy="369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0" name="Straight Arrow Connector 72"/>
          <p:cNvCxnSpPr/>
          <p:nvPr/>
        </p:nvCxnSpPr>
        <p:spPr>
          <a:xfrm>
            <a:off x="1214280" y="4357800"/>
            <a:ext cx="35013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429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c3e"/>
                </a:solidFill>
                <a:latin typeface="Calibri"/>
              </a:rPr>
              <a:t>III. Comportamentul spaţial al clienţilor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2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31809-2A4D-443C-B038-E50C89FAEAC5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28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FDFA1-41FB-4C5B-9F45-5670B9305D16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paţiile pentru circulaţia clienţilor sunt următoare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a) căi principale de circulaţie – determină direcţia fluxului cumpărăto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b) culoare pentru efectuarea cumpărăturilo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c) spaţii de staţionare – în faţa lifturilor, scărilor rulante, caselor de marc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1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itle 1" descr=""/>
          <p:cNvPicPr/>
          <p:nvPr/>
        </p:nvPicPr>
        <p:blipFill>
          <a:blip r:embed="rId1"/>
          <a:stretch/>
        </p:blipFill>
        <p:spPr>
          <a:xfrm>
            <a:off x="646200" y="-365040"/>
            <a:ext cx="7626240" cy="1650960"/>
          </a:xfrm>
          <a:prstGeom prst="rect">
            <a:avLst/>
          </a:prstGeom>
          <a:ln w="0">
            <a:noFill/>
          </a:ln>
        </p:spPr>
      </p:pic>
      <p:sp>
        <p:nvSpPr>
          <p:cNvPr id="1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BC866-6508-4EA4-8799-B25A5703EC71}" type="datetime">
              <a:rPr b="0" lang="ro-RO" sz="1600" spc="-1" strike="noStrike">
                <a:solidFill>
                  <a:srgbClr val="00364c"/>
                </a:solidFill>
                <a:latin typeface="Constantia"/>
              </a:rPr>
              <a:t>28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A50A-DDFD-4673-9C8D-D963D3B53F9B}" type="slidenum">
              <a:rPr b="0" lang="ro-RO" sz="1600" spc="-1" strike="noStrike">
                <a:solidFill>
                  <a:srgbClr val="00364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rush Script MT"/>
              </a:rPr>
              <a:t>Fluxul mărfurilor şi ambalajelor într-un depozi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3571920" y="214308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1"/>
          <p:cNvSpPr/>
          <p:nvPr/>
        </p:nvSpPr>
        <p:spPr>
          <a:xfrm>
            <a:off x="4500720" y="2143080"/>
            <a:ext cx="194436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PRIM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2"/>
          <p:cNvSpPr/>
          <p:nvPr/>
        </p:nvSpPr>
        <p:spPr>
          <a:xfrm>
            <a:off x="3571920" y="30002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3"/>
          <p:cNvSpPr/>
          <p:nvPr/>
        </p:nvSpPr>
        <p:spPr>
          <a:xfrm>
            <a:off x="3571920" y="39290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4500720" y="3000240"/>
            <a:ext cx="1944360" cy="482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SCĂRC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4500720" y="392904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POZI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3571920" y="478620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7"/>
          <p:cNvSpPr/>
          <p:nvPr/>
        </p:nvSpPr>
        <p:spPr>
          <a:xfrm>
            <a:off x="4500720" y="478620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TRANSPORT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8"/>
          <p:cNvSpPr/>
          <p:nvPr/>
        </p:nvSpPr>
        <p:spPr>
          <a:xfrm>
            <a:off x="3571920" y="5643720"/>
            <a:ext cx="50328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9"/>
          <p:cNvSpPr/>
          <p:nvPr/>
        </p:nvSpPr>
        <p:spPr>
          <a:xfrm>
            <a:off x="4429080" y="5643720"/>
            <a:ext cx="194472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VÂNZ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Straight Arrow Connector 20"/>
          <p:cNvCxnSpPr>
            <a:stCxn id="1230" idx="2"/>
            <a:endCxn id="1233" idx="0"/>
          </p:cNvCxnSpPr>
          <p:nvPr/>
        </p:nvCxnSpPr>
        <p:spPr>
          <a:xfrm flipH="1">
            <a:off x="5471280" y="2574720"/>
            <a:ext cx="252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0" name="Straight Arrow Connector 21"/>
          <p:cNvCxnSpPr/>
          <p:nvPr/>
        </p:nvCxnSpPr>
        <p:spPr>
          <a:xfrm>
            <a:off x="5357520" y="350028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Straight Arrow Connector 22"/>
          <p:cNvCxnSpPr/>
          <p:nvPr/>
        </p:nvCxnSpPr>
        <p:spPr>
          <a:xfrm>
            <a:off x="5357520" y="43578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Straight Arrow Connector 23"/>
          <p:cNvCxnSpPr/>
          <p:nvPr/>
        </p:nvCxnSpPr>
        <p:spPr>
          <a:xfrm>
            <a:off x="5357520" y="52146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afcf"/>
            </a:gs>
            <a:gs pos="100000">
              <a:srgbClr val="ffe5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285840" y="499680"/>
            <a:ext cx="8501040" cy="55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omic"/>
              </a:rPr>
              <a:t>Activitate de învat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eprezentaţi grafic un spaţiu comercial, având la bază cunoştinţele asimilate pe parcursul capitolului, experienţele proprii şi respectând următoarele cerinţ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magazinul este cu autoservire şi cu un singur nivel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e aplică implantarea în detaliu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gondolele sunt orientate în lungul axei longi-tudinale a sălii de vânza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videnţiaţi fluxul clienţil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Date Placeholder 2"/>
          <p:cNvSpPr/>
          <p:nvPr/>
        </p:nvSpPr>
        <p:spPr>
          <a:xfrm>
            <a:off x="428760" y="6286680"/>
            <a:ext cx="1214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AC023-2D50-4CAA-A64B-FA7C39C826D5}" type="datetime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8CDD0-5752-49B6-9207-AA1F4A7FA8DA}" type="slidenum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3T16:59:54Z</dcterms:created>
  <dc:creator>cristina maria</dc:creator>
  <dc:description/>
  <dc:language>en-US</dc:language>
  <cp:lastModifiedBy>cristina maria</cp:lastModifiedBy>
  <dcterms:modified xsi:type="dcterms:W3CDTF">2020-05-04T15:08:49Z</dcterms:modified>
  <cp:revision>16</cp:revision>
  <dc:subject/>
  <dc:title>Slide 1</dc:title>
</cp:coreProperties>
</file>