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79B0-6044-40E8-B96E-6C093BC79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B6CC-5256-4B3C-8DE0-E85BAA7A1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289083-E3E9-4E3D-9BF8-91C92BD33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40A09B-F5BD-441C-A90D-0726DBCEF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EC9143-9241-49DB-8E1F-188D5B474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4BEA23-FD6E-498D-9D73-E9D5BC2CE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5F9B90-9CC5-40C2-9202-1C1C7B96D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74FA1B-D7E7-4BDD-81EC-0E58C410B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9CA3B7-F3CC-4BD6-97B0-9EB64141B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66BFF1-8E4B-4BF2-94C2-D6F0B1500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37B63E-5E18-47AF-BF59-5A2893404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75E257-EBC7-4421-AEE5-927203418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EBB1-02B5-411C-909A-686F89424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3AFC1C-E311-4A8F-8C2A-1ACF91428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FA49D4-A6B3-4387-84BE-ADD85929F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CDF895-E641-4A09-831D-1E0DF3244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809901-7695-4100-AA25-A21C1AE18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C608E1-A81E-4F0A-A818-2A7CEC721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6B5B1C-927E-4F6E-B482-328F7603D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D89C26-A976-4773-B6F3-E609C2BC3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1B457E-8F7E-471E-BCB1-20189273C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978C41-286E-41C9-8EA4-F3921F281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9EC5D5-9C14-4041-8985-F45B52309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75DE-2EEF-41FD-8477-D6547BC7A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0F9883-FE36-4EEF-A71C-FCBB63116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D1A761-8FBF-4471-A5E9-67A7FD96F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A4272D-8743-48B0-9757-5AB1DAC5C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69839C-1B89-44DE-A235-1AAB278CC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E7A853-5F3D-483B-94EB-083752995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DD7FA4-6D36-41E7-886F-B87F6A5A7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CD7E07-D23D-4688-8B4C-BC6B4DD7F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0157F7-C9DB-40B5-BE4B-3B47956C1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76D018-413B-44C5-A62B-8142CE3B6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5A7FFF-B032-4E50-9DF2-85433D185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EF7C6-DE9C-4F3B-A0FE-19C71AFEC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28A7B8-9DB2-4A3A-BFB1-F0EFAE328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C1365F-310D-40C1-8018-ACB0BFD26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56576B-8CC5-4524-A1CD-F404199AA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9EACDA-29FA-4715-99B4-E1A8FCDE1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B0AA9A-5231-4D9A-8555-616B121FE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F5CAE1-E3D7-46EE-9645-9CE214C88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95B0F7-5DD0-41F6-9EEA-27ECF38E4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B8828C-F70F-4782-AEFC-A2C4255B7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BAF44F-3B22-409E-AC9E-290C190B2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9E95A1-6569-4905-9976-BDFE0EDA0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3826C-A90B-4000-BD6D-4E041388E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457198-AFCE-429E-B85F-EBAC92C87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3C4DF4-1A0E-40E6-978E-8BC5CF370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E446A7-FD55-450F-AF7A-51AA83604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0C2337-3C1F-4051-89B6-DC48941A7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52E7E4-880C-4824-AAB2-6EE1AF7EC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16500B-524B-4F5A-8FE2-1A5F7752F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B1315E-111D-412A-9370-9DD0D2964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27E971-9EC2-438E-85C3-E43C7379B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A93E30-B806-4640-A921-A4B4682C6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8D0D1A-9974-47E7-BF12-2AEEEE90B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9EAED-52CA-4CF8-B584-EDF351BA0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F1F9A6-230D-4E68-AA1B-C6131CECA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A65D50-75CA-4E96-B427-7696EE300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3AEA8A-F3C5-4C75-BDAD-D7646A0AB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970058-C49B-4795-9D57-D5E99D702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9D70CA-2354-4624-B53C-F3B00535B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AD91BB-529B-482B-8403-0F2FE4E0D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BCCD76-4E56-43C8-B60E-0C7BC13F0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15078A-4407-4BB6-8264-559B09322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46CB20-4C91-4838-BC20-5F7AA8978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387C0A-57D3-4DE0-8A07-4D7C8DDB3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E510D-2719-4290-9EAF-23073AC66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8F17BA-3FAA-44DB-B063-4018D3FC2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4EE1AB-6C88-4655-9EE1-DCE18112D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D8DCAA-8FED-42DA-8A1C-7C7ED833B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424378-F095-472F-9D46-58DC18070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D9BCB0-34B3-4723-9E1F-89DBBBB81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EE2068-C622-41D8-9C5A-74F1B5347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1C7C14-907C-42C8-BC33-68916FDAE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AA8E10-37CF-42E1-9CDA-420CD3200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124C1E-FFF7-4054-A53C-73D2B4521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77D58B-ECA3-470C-AD4B-DF5B49F18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2660C-FB6A-426A-9213-CFB7735D0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CD674C-590D-49E3-8D8E-1058F46DB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9261EE-B27C-44F8-8093-361E947EB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F372A3-15C1-445D-BC02-79878C4D0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06BD35-9643-4A1A-8287-250E05E54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C06F08-2295-41F7-A384-7D6BB2DDF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3DA627-3EE9-4873-8FC2-437053382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3CD6E7-166E-49EE-ADB5-CEFA41E8E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747D4C-21DC-44EF-83C2-2C01EE389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896D42-54CE-46D7-B29F-C3F09411C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9345AD-0669-4443-96B3-AE8BA2706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5B3EA-2A97-410B-A5FB-D603A8EE4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07D635-00EE-4B8D-AE2D-689C1A20A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BE3988-9F5C-46D7-804B-030A3E169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2E6F4F-F794-42B1-8BB6-2BF1C7779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408EB9-8A3F-4D0C-A3A3-520FAA891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C30E0C-B566-4F8C-B9A2-68BAF1970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A9983A-3B6C-42A1-822E-CF3305A21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F757DD-B3E4-48AC-BD7E-06A4AA1F3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6665C8-F2A1-48E8-BDEB-60D03EBD2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C6AD70-9D64-4FE0-8EC3-0BCB24E6E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E7E6B5-97C6-4108-A25C-959E8CD4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81166-D06B-4474-94DB-1A4E7E3E3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BF0E8D-BEB6-4CB8-A7D9-0A0BF135C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328C6C-9BB7-4941-B9CC-AC597906D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1CF3DA-FACC-4EAA-B657-C8EBDD5FD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143FED-9933-4300-89AD-B93F9D794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343B09-F046-4606-B1D9-DF228F8E1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CFCECB-9506-4475-BA49-59557C671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FEF28C-7274-415D-9044-46223FF9C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94C43C-B577-497C-B74F-CEA3F5C9F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8AAAB0-2D09-4775-91CF-39D6E6A8A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2CA8AE-03A2-4E8F-B845-7981CAD82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E4DC-6A90-4829-B383-76F85FE4B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A88FE-3CDA-45DA-BA56-8F1A4DAC5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11177A-7437-42C4-9EFC-4D6B0562C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4177B0-BA5D-4C66-B6BA-B1266B45E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74F6EB-B2A5-402C-B57A-08AF6AD54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D1D8A5-6796-4329-AA90-850D910B4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C63F12-0348-4981-BD39-3D3B89203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C1CCE9-3DA6-4F9D-B3B7-2C9006A6C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C1BBFA-7EFD-42C5-942A-FE801E0E1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C059FC-AF5C-4C54-86F2-A18F501F4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BE015C-6041-4C5C-A63A-3169A07D5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AEC7A6-34F8-4B83-8EAA-2F03504C8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DEB6D-B9B3-45A4-9D09-37378059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FBF1EE-D864-4D4F-A15E-85E3F11A1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A35AED-B276-401E-A75A-028A52652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7A940D-0048-4BF0-90AC-F1C03E58F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5007AA-1558-449D-B7E5-B7A3C0864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E48467-D625-47E2-8A95-0796B2324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FEF886-61EB-43E4-AD3A-FDC6BD1B3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F3D87C-0822-47D6-BD76-F6E450DF5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0A6A59-2718-474A-A321-3C5C35B5D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741BFA-5B15-4DF1-8C62-E8C061511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EE72CA-7FCB-43B8-94D5-BC904F9C1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E46AD-6BA9-41FB-8CBF-A940551E7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99E666-7792-4739-B5F0-49407D0E3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32E6FB-CF72-4FF7-8596-117ADB219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CB00C4-6FB6-4AFE-AE07-788E86F72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DAD5C7-C78A-4EF8-B5B0-8AC74A3D0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557F8D-A744-4D60-BC1C-8D61C6B2C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41F5CB-E634-4475-B408-66B50E9DA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12E7D5-ABC2-4991-8772-F79737EA4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8EB3F0B-AD08-43B6-8798-CCD944253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6DCFE9-571F-411E-8C5B-393315633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DF0F77-D13E-484D-B65F-FF5452D66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B0C04-BF0C-4DEB-BA73-05FC06866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D221E6-255F-4C8A-8EE6-B99B4E6B5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20D223-2BEA-411E-A2A5-0CCE15062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873C1F3-9DC5-4CA3-8D7E-3B2E03273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7FD41F-DBDB-4EE8-9705-BE1A3D212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4F8220-95D3-4CF7-B4E7-0BB4BC3BD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E73220-6710-4154-8048-4636B5B5A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2E7F9B-7E4D-4824-BB52-EF235940F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91601F-3577-4BB4-B5EF-ED1946591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797C3B-8715-44F8-A247-C6FA9DDCD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F4396B-C8E2-43E0-AB73-AED0F2B3B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201C8-A3CB-489F-94D8-ECAEBCD65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0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1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D01D59-5286-4798-8E3C-D79149973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626D3F-76FB-4E52-A1F8-1E9905DCA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CB2C0CC-D5D6-4E00-B653-B67B6E07D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0D2D36F-FA1B-4CB4-97C7-13378EE91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E4209D-63F9-4E8D-993C-49F1B7EE6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13416E5-C83C-4A32-99B6-BB4A89171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EAF0FD-4836-43DD-8623-2E5FBA823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14C022-ADE0-4FF2-ADE9-DE2EC81FB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0B40C66-B1C3-420D-8B44-4CF16BBA6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DD8C7B-8E3A-4EE7-AA3C-F7B66A721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F569E-9A7E-414C-A356-4C008A923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23DEE1-A27B-454B-BCEB-1598FEB60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659C224-D56C-45AB-83EF-64601D056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75D6A1-8616-4D0F-A4CF-C967C9B24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BF511A5-8A05-4549-8330-1649381D9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25629D5-BF60-44CC-8E79-20841B01A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4AA3BE2-930B-4F81-9F3B-3C15BCEC7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FFBDE5D-6539-4BDE-B950-B5F72017F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5B95480-46E7-4A84-823F-50B853CA9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19B0A45-DE4E-4333-99BB-F03DD4AED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88CE06B-1AD8-478D-8939-AE4027801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C4C2E-77ED-4FDA-92C3-A073D73E9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73E8C4A-AE7F-4534-B68B-80F7E8A04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4A242E7-A0D5-446E-9796-8B6F5E18C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F28E81E-0DD0-4146-9E67-FF199AB66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50EEF41-26CB-4E72-8A57-EB0F4AFC0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6A1E059-FD5B-4E71-BFF2-17936EFFC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D6F0944-65BC-4A58-AC7C-3311138AC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ED910D7-56AC-40D6-95EA-C3A592BE9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7005A8B-AC41-4513-9AD0-A1988DE4F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4F3CB25-6948-4C7F-AB7D-A734F5A8B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3D05803-A609-4A4E-A620-9913C14EF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FA375-2FB1-4A72-A80C-A7894F124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0D5342E-C71D-4DEC-8FD2-3E8D13520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149ACAC-5CB2-45C5-A845-54E178BBA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7811765-C1BA-4F68-9823-95CD9C024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A86683D-B4E8-4417-ABB6-7DCA2A505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762637D-939A-4B7E-8C90-D4E291755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AB4AA4E-B34C-4B48-8C17-881C8B10B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227829A-63D7-4E3C-8E86-86EC22B09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DA2B5FA-ED3D-42C9-AA9B-AB6FBFA71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85C4E9F-30F0-4550-A2D2-1B246693B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E82119D-725D-4C3E-9C1C-5FC5885B7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365B2-CC8C-49AD-95F2-DBF3895FC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A95E3EB-CC11-43FE-ADC0-824AF7D02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BCD87D5-34D3-45F9-8F90-316F65F23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805D8E0-704E-47CC-9280-1634E33D8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31365FE-D3FE-4185-B7F6-EE75A2447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2944179-59D0-48CD-8133-3138FE04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07AE0A6-D936-405B-99E7-B5B473F76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879DD53-72A2-4C3C-BE1C-8747ACAF0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A16715D-B0EC-45F4-ADB2-BE2FEF7EA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0AABAF8-F104-4108-B69A-48D0F6CF6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AC2FA-9274-43C4-AB92-A63C6A11C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0551-AE87-43CF-ADA0-5F484C537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81200-4C2C-4D37-928B-AD7BEA97B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04AB2-8BBE-4CF5-8D67-1B3469118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0DBAA-53BF-4CC9-AEF1-2CB235068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1C830-D294-4C3E-A885-90B6EF116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532C3-A053-4062-A0AA-DD473FB81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D4CC3-10E5-455D-8789-DF8C0468C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B6214-BD77-46C6-A861-9F0BE6E67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B3BC8-F549-4606-8FAD-5CCF66789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9381B4-E69B-42DD-8DAB-63E0225CB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D00CA-141D-418D-B0BE-AB1A60F33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0880-8EFF-4D3D-905E-639338F57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7641A-6C43-40A9-9AFB-4A565952F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E51EB-AC15-468C-BBF3-3D17F9ECC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168FC-910D-43CC-ABC8-296CB0759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38F23-2F3A-41FE-9C72-26E442F55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4E9E1-4DDB-4918-9268-C0D3CBB6D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08CC2-8EC3-42E6-BD9F-CBF1D510B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8C980-0A43-4E78-A9E4-678561B21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DB7EA3-65EC-448A-855E-A943AF4D6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0C095-6B4F-4316-8130-F1496DA8C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471866-6EED-4EC9-9282-2A0818A86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5FEB-1208-4F41-B464-A02E8E473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311152-E6AA-4FDB-9187-C9CE17B79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529F2B-B737-4AD1-A805-1F7701034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A472D6-BD69-4F1B-A1ED-F215C5227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0859CD-13E6-4594-987A-6A6E67310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00E2B8-9B4B-44AC-9A1B-A5AD52CA1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22975-F167-478C-A26F-ECDF80CCD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B37156-28A8-4C7C-A60F-D88FC81E4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1CDBE4-0D59-48FE-8843-60E2FA54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79C392-FE34-4A20-AA3C-316EF5552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9F0DFF-0C3C-4797-8C61-047D4274B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4917-933F-4A3D-BEBE-94936EF13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359E7C-6CF9-436A-93B2-B0F892A66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0B3294-519E-4152-9BE0-B78F565F1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D7258D-1010-4EBF-B542-74F817DCE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E1C09A-0B8E-407B-80A4-583D1AEE3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B30838-222D-4DC4-91EB-55456DA3F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DAF1E5-17AF-4C47-968B-538476B42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A46843-78B1-4CEC-AB82-3036A5E0E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7AAC01-E50A-4EB2-8517-2E343A971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F5F688-2841-4BDB-AC94-75CB46729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357852-B832-4C5B-8F1C-7EAA45F1A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F157-2D51-4878-B7E5-1AF5DFC13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D8E056-F8BC-4AE6-AFCF-7BCA1D8BA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D31941-D711-4D1B-A93C-58D8057ED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3FC578-81DD-44A7-A5AB-7011598F3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B43588-2881-487F-AAB9-514C96BEC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FC1A8A-59BE-4BC0-80F0-C44E56F72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BA7D66-1DF9-41FF-80B2-57604FE9A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6C61EB-3422-4E15-A587-0AA5F25D1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E22052-0928-4381-82D6-44B85C9C9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0CF4AD-A366-4B2A-85FD-7E2F095E2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68D741-557E-4F56-8438-663B7A7F7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6A59-5DAB-4752-B97E-CD1B10A2C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06AB1F-002C-4818-8A85-14CB4DD42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D059DC-EF4C-4808-B04E-F3D2155C3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01A1DC-08CF-473D-ACD0-84F147342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BD23E4-C2FE-4F4D-BEC6-0578D9732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393245-EB38-4A48-863D-6EA9C4716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6E457D-2590-4F51-98C8-09DF045A6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811ABB-5A5C-4718-ABD1-A0FA0A005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56E743-C57F-4E17-8428-1B7C01D70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A9502B-EC7C-4928-9DF5-ED92B7159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1F547C-BE6A-4073-87B3-403C4C75B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DF8A-EF32-40C5-9F0A-CC91169D6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7592B0-B3F2-43EF-8646-87C796658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FA2468-6781-4392-A95C-6770A5978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3FF4A1-B44A-4B2B-A1F3-27E755E8B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62FCFD-4B8C-4936-812D-95D2B8AE3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0591C0-0BE7-478B-87DA-DAB98C252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1189EB-3659-4C10-BBE4-1E453D95A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89D374-C4A0-490F-BA88-6D927468C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5A8E92-49AC-4CAE-AF61-E3F4A6C3F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A74BA2-FB57-4A88-97C0-D52863AB1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09938E-C479-4F57-8CD8-06B32CEA7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0A998-262C-4AC0-80F2-C1DD49201BFC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92C7A-6FA5-4C76-B69C-0914BA9010BD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4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552CD-5844-4F8E-AEC8-72FFC118EF5F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70EDD-6D70-4BB2-B930-57025A440F76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BE3A8-F844-430C-982E-6D49518DDAAC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EB284-FE63-4E12-9757-35E8455A363B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4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F0829-BC4B-499C-A1FC-F6904C88555D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2E944-9D78-4FC7-8BEB-BA1FF6C9374B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9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9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9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DDB10-A3B1-4ECB-B8B6-55C87386A042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 type="sldNum" idx="3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96B57-0AA8-464B-A6F0-D851436986F8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1" name="Rounded Rectangle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64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 type="dt" idx="4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D878C-BF4F-4211-AFD9-6438FDAAFB83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 type="ftr" idx="4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 type="sldNum" idx="4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B1D9E-E4A8-4AC6-BA6F-FAD09D365DC5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6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687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 type="dt" idx="4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F8F58-2A08-4167-8AFC-15D091884A15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 type="ftr" idx="4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 type="sldNum" idx="4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F7977-A061-460B-8240-F8AE9B966BBB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1" name="Rounded Rectangle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73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4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98192-38F8-494A-AF58-916B6B2CB539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4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4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99492-DB05-425C-9731-CFF21B7B2974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6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777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4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5C21E-3072-4DF2-800F-E405E29E26C1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5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3C73E-7611-4C90-86BC-8DB84CF99E8F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82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 type="dt" idx="5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7DC00-C068-46A5-99C1-404DC02FBBF1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 type="ftr" idx="5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 type="sldNum" idx="5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19A0F-6596-48B1-8443-2E24D9A777BC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6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867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 type="dt" idx="55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01A13-7132-4DF3-B96F-DDE0A08E0E72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 type="ftr" idx="56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 type="sldNum" idx="57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543D1-7FD0-4922-AF3E-A466C9D3A71A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5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5654B-2FAD-4315-A8ED-6E593B25AA52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928D8-76C3-4904-8050-236BE76D1944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 type="dt" idx="58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30578-4A15-45D5-BABF-085A33801173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 type="ftr" idx="59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 type="sldNum" idx="60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34846-BF19-4C88-8835-A33B7A2B8F7D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954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5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 type="dt" idx="6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C050A-1021-455A-A1BD-049985C529C9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 type="ftr" idx="6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 type="sldNum" idx="6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5AA41-A269-4466-9E6B-5531685B5CE6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Round Single Corner Rectangle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 type="dt" idx="6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C0D30-6DA1-4503-A1CE-8E099816A721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 type="ftr" idx="6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5"/>
          <p:cNvSpPr>
            <a:spLocks noGrp="1"/>
          </p:cNvSpPr>
          <p:nvPr>
            <p:ph type="sldNum" idx="6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7134F-FDB1-4BF9-9C20-C94E22A80CEC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04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 type="dt" idx="6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63B89-8FC6-4488-BB77-F53A33AD1F08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 type="ftr" idx="6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5"/>
          <p:cNvSpPr>
            <a:spLocks noGrp="1"/>
          </p:cNvSpPr>
          <p:nvPr>
            <p:ph type="sldNum" idx="6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3C6DB-1E38-425B-BAE0-56E4587C5A87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6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087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 type="dt" idx="7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9BAC3-8517-42F6-A2B9-33DB0A5C81B5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 type="ftr" idx="7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5"/>
          <p:cNvSpPr>
            <a:spLocks noGrp="1"/>
          </p:cNvSpPr>
          <p:nvPr>
            <p:ph type="sldNum" idx="7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8D0D3-59B4-49AF-A7C9-1D706AC2D8FA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3F35B-3577-489F-8F4B-3D47A2B4D9D7}" type="datetime">
              <a:rPr b="0" lang="ro-RO" sz="1200" spc="-1" strike="noStrike">
                <a:solidFill>
                  <a:srgbClr val="d1eaee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D349D-576B-4057-917C-1F575EEF666D}" type="slidenum">
              <a:rPr b="0" lang="ro-RO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4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A4329-A6AF-4464-B3C1-F868324246C1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66F32-3C46-406B-B5B5-8815FAD9D9D6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2A887-20F3-4957-ADA5-63220ABCA40B}" type="datetime">
              <a:rPr b="0" lang="ro-RO" sz="1200" spc="-1" strike="noStrike">
                <a:solidFill>
                  <a:srgbClr val="d1eaee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8553E-82FC-4EA3-9EC4-3F24BA161923}" type="slidenum">
              <a:rPr b="0" lang="ro-RO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B02F8-C9EC-4B81-AFFF-8A70796DC489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DB954-7FC4-4BD2-8060-8E8BCE693362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B74D5-C023-482B-88B6-EF915853065E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BDD67-DEB0-42A0-8AC3-EAD115E2EAC3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4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9EE39-32C2-4C5D-9CDD-939A44ED8DA8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1530C-9C41-487F-8714-9982F96EA4F5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0BBE3-478A-4975-B0ED-601BBD2BE222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263B4-F715-4367-9F0B-3423053A545D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88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0" name="Title 1" descr=""/>
          <p:cNvPicPr/>
          <p:nvPr/>
        </p:nvPicPr>
        <p:blipFill>
          <a:blip r:embed="rId1"/>
          <a:stretch/>
        </p:blipFill>
        <p:spPr>
          <a:xfrm>
            <a:off x="480960" y="-49320"/>
            <a:ext cx="8255160" cy="2243160"/>
          </a:xfrm>
          <a:prstGeom prst="rect">
            <a:avLst/>
          </a:prstGeom>
          <a:ln w="0">
            <a:noFill/>
          </a:ln>
        </p:spPr>
      </p:pic>
      <p:sp>
        <p:nvSpPr>
          <p:cNvPr id="1131" name="PlaceHolder 1"/>
          <p:cNvSpPr>
            <a:spLocks noGrp="1"/>
          </p:cNvSpPr>
          <p:nvPr>
            <p:ph type="subTitle"/>
          </p:nvPr>
        </p:nvSpPr>
        <p:spPr>
          <a:xfrm>
            <a:off x="285480" y="1571400"/>
            <a:ext cx="8643960" cy="478620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txBody>
          <a:bodyPr lIns="0" rIns="18360" anchor="t">
            <a:noAutofit/>
          </a:bodyPr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600" spc="-1" strike="noStrike">
                <a:solidFill>
                  <a:srgbClr val="00293a"/>
                </a:solidFill>
                <a:latin typeface="Constantia"/>
              </a:rPr>
              <a:t>Obiective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enumerarea elementelor care stau la baza dimensionării şi orientării căilor de circulaţie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descrierea completă a tuturor elementelor care stau la baza dimensionării şi orientării căilor de circulaţie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prezentarea tuturor tipurilor de fluxuri de circulaţie a clienţilor în sala de vânzare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stabilirea corectă a fluxului mărfurilor şi ambalajelor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3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2391A-33A1-4E5A-8267-4FB8C2A125B1}" type="datetime">
              <a:rPr b="0" lang="ro-RO" sz="1400" spc="-1" strike="noStrike">
                <a:solidFill>
                  <a:srgbClr val="000000"/>
                </a:solidFill>
                <a:latin typeface="Constant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Slide Number Placeholder 4"/>
          <p:cNvSpPr/>
          <p:nvPr/>
        </p:nvSpPr>
        <p:spPr>
          <a:xfrm>
            <a:off x="8358120" y="6356520"/>
            <a:ext cx="328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341C7-A682-442E-885F-64081FA07CE2}" type="slidenum">
              <a:rPr b="0" lang="ro-RO" sz="16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88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603360" y="-517680"/>
            <a:ext cx="7711920" cy="2102040"/>
          </a:xfrm>
          <a:prstGeom prst="rect">
            <a:avLst/>
          </a:prstGeom>
          <a:ln w="0">
            <a:noFill/>
          </a:ln>
        </p:spPr>
      </p:pic>
      <p:pic>
        <p:nvPicPr>
          <p:cNvPr id="1135" name="Content Placeholder 2" descr=""/>
          <p:cNvPicPr/>
          <p:nvPr/>
        </p:nvPicPr>
        <p:blipFill>
          <a:blip r:embed="rId2"/>
          <a:stretch/>
        </p:blipFill>
        <p:spPr>
          <a:xfrm>
            <a:off x="689040" y="414360"/>
            <a:ext cx="8540640" cy="9345600"/>
          </a:xfrm>
          <a:prstGeom prst="rect">
            <a:avLst/>
          </a:prstGeom>
          <a:ln w="0">
            <a:noFill/>
          </a:ln>
        </p:spPr>
      </p:pic>
      <p:sp>
        <p:nvSpPr>
          <p:cNvPr id="1136" name="Date Placeholder 3"/>
          <p:cNvSpPr/>
          <p:nvPr/>
        </p:nvSpPr>
        <p:spPr>
          <a:xfrm>
            <a:off x="4572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E1522-625F-41D8-9AE1-9560D5247151}" type="datetime">
              <a:rPr b="0" lang="ro-RO" sz="1600" spc="-1" strike="noStrike">
                <a:solidFill>
                  <a:srgbClr val="03231b"/>
                </a:solidFill>
                <a:latin typeface="Constantia"/>
              </a:rPr>
              <a:t>31.07.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Slide Number Placeholder 4"/>
          <p:cNvSpPr/>
          <p:nvPr/>
        </p:nvSpPr>
        <p:spPr>
          <a:xfrm>
            <a:off x="8001000" y="635796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97779-CF32-46CD-A46E-07637EF4EF8A}" type="slidenum">
              <a:rPr b="0" lang="ro-RO" sz="1600" spc="-1" strike="noStrike">
                <a:solidFill>
                  <a:srgbClr val="03271e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8" name="Picture 2" descr=""/>
          <p:cNvPicPr/>
          <p:nvPr/>
        </p:nvPicPr>
        <p:blipFill>
          <a:blip r:embed="rId3"/>
          <a:stretch/>
        </p:blipFill>
        <p:spPr>
          <a:xfrm>
            <a:off x="6072120" y="3786120"/>
            <a:ext cx="287172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f2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Date Placeholder 3"/>
          <p:cNvSpPr/>
          <p:nvPr/>
        </p:nvSpPr>
        <p:spPr>
          <a:xfrm>
            <a:off x="457200" y="6356520"/>
            <a:ext cx="97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388E6-042E-4810-BD9E-9C8833A3B0B3}" type="datetime">
              <a:rPr b="0" lang="ro-RO" sz="1600" spc="-1" strike="noStrike">
                <a:solidFill>
                  <a:srgbClr val="1f250d"/>
                </a:solidFill>
                <a:latin typeface="Constantia"/>
              </a:rPr>
              <a:t>31.07.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Slide Number Placeholder 4"/>
          <p:cNvSpPr/>
          <p:nvPr/>
        </p:nvSpPr>
        <p:spPr>
          <a:xfrm>
            <a:off x="8358120" y="6356520"/>
            <a:ext cx="328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51C5E-E9E3-4967-ADDA-366072356020}" type="slidenum">
              <a:rPr b="0" lang="ro-RO" sz="1600" spc="-1" strike="noStrike">
                <a:solidFill>
                  <a:srgbClr val="1d220c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Footer Placeholder 5"/>
          <p:cNvSpPr/>
          <p:nvPr/>
        </p:nvSpPr>
        <p:spPr>
          <a:xfrm>
            <a:off x="242892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 txBox="1"/>
          <p:nvPr/>
        </p:nvSpPr>
        <p:spPr>
          <a:xfrm>
            <a:off x="213840" y="142560"/>
            <a:ext cx="8643960" cy="61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364c"/>
                </a:solidFill>
                <a:latin typeface="Constantia"/>
              </a:rPr>
              <a:t>I.Mărimea magazinului şi particularităţile lui constructive</a:t>
            </a:r>
            <a:r>
              <a:rPr b="1" i="1" lang="ro-RO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293a"/>
                </a:solidFill>
                <a:latin typeface="Constantia"/>
              </a:rPr>
              <a:t>Sfaturi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 </a:t>
            </a: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intrarea în magazin să fie orientată spre stradă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 </a:t>
            </a: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deschiderea uşilor să se facă în sensul fluxului clienţilor (spre stânga) la magazinele cu autoservire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 </a:t>
            </a: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este de preferat ca pentru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uşa de ieşire să existe o uşă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 </a:t>
            </a: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distinctă.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43" name="Picture 3" descr=""/>
          <p:cNvPicPr/>
          <p:nvPr/>
        </p:nvPicPr>
        <p:blipFill>
          <a:blip r:embed="rId5"/>
          <a:stretch/>
        </p:blipFill>
        <p:spPr>
          <a:xfrm>
            <a:off x="4929120" y="3071880"/>
            <a:ext cx="371484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9f44">
            <a:alpha val="8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Date Placeholder 3"/>
          <p:cNvSpPr/>
          <p:nvPr/>
        </p:nvSpPr>
        <p:spPr>
          <a:xfrm>
            <a:off x="457200" y="6356520"/>
            <a:ext cx="97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E5EAA-5ECD-4D1E-82AF-6171C9010488}" type="datetime">
              <a:rPr b="0" lang="ro-RO" sz="1600" spc="-1" strike="noStrike">
                <a:solidFill>
                  <a:srgbClr val="02232c"/>
                </a:solidFill>
                <a:latin typeface="Constantia"/>
              </a:rPr>
              <a:t>31.07.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Slide Number Placeholder 4"/>
          <p:cNvSpPr/>
          <p:nvPr/>
        </p:nvSpPr>
        <p:spPr>
          <a:xfrm>
            <a:off x="8358120" y="6356520"/>
            <a:ext cx="328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C5E5B-9FD7-438B-AA4C-FE56413D1BE5}" type="slidenum">
              <a:rPr b="0" lang="ro-RO" sz="1600" spc="-1" strike="noStrike">
                <a:solidFill>
                  <a:srgbClr val="01202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 txBox="1"/>
          <p:nvPr/>
        </p:nvSpPr>
        <p:spPr>
          <a:xfrm>
            <a:off x="285840" y="357120"/>
            <a:ext cx="8572320" cy="59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364c"/>
                </a:solidFill>
                <a:latin typeface="Constantia"/>
              </a:rPr>
              <a:t>II. Dispunerea mobilierului comercial în sala de vânzare, în legătură directă cu formele de vânzare practicate în magazi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364c"/>
                </a:solidFill>
                <a:latin typeface="Constantia"/>
              </a:rPr>
              <a:t>	</a:t>
            </a:r>
            <a:r>
              <a:rPr b="0" lang="ro-RO" sz="2800" spc="-1" strike="noStrike">
                <a:solidFill>
                  <a:srgbClr val="00364c"/>
                </a:solidFill>
                <a:latin typeface="Constantia"/>
              </a:rPr>
              <a:t>În magazanele cu autoservire, gondolele pot fi orientate în diferite moduri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64c"/>
                </a:solidFill>
                <a:latin typeface="Constantia"/>
              </a:rPr>
              <a:t>a) în lungul axei longitudinale a sălii de vânzar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64c"/>
                </a:solidFill>
                <a:latin typeface="Constantia"/>
              </a:rPr>
              <a:t>Gondole (mobilier de expuner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64c"/>
                </a:solidFill>
                <a:latin typeface="Constantia"/>
              </a:rPr>
              <a:t>a produselor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64c"/>
                </a:solidFill>
                <a:latin typeface="Constantia"/>
              </a:rPr>
              <a:t>    </a:t>
            </a:r>
            <a:r>
              <a:rPr b="0" lang="ro-RO" sz="2400" spc="-1" strike="noStrike">
                <a:solidFill>
                  <a:srgbClr val="00364c"/>
                </a:solidFill>
                <a:latin typeface="Constantia"/>
              </a:rPr>
              <a:t>- case de marca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47" name="Picture 3" descr=""/>
          <p:cNvPicPr/>
          <p:nvPr/>
        </p:nvPicPr>
        <p:blipFill>
          <a:blip r:embed="rId1"/>
          <a:stretch/>
        </p:blipFill>
        <p:spPr>
          <a:xfrm>
            <a:off x="5000760" y="3143160"/>
            <a:ext cx="3936960" cy="2714760"/>
          </a:xfrm>
          <a:prstGeom prst="rect">
            <a:avLst/>
          </a:prstGeom>
          <a:ln w="0">
            <a:noFill/>
          </a:ln>
        </p:spPr>
      </p:pic>
      <p:sp>
        <p:nvSpPr>
          <p:cNvPr id="1148" name="Rectangle 6"/>
          <p:cNvSpPr/>
          <p:nvPr/>
        </p:nvSpPr>
        <p:spPr>
          <a:xfrm>
            <a:off x="1214280" y="3357720"/>
            <a:ext cx="3143520" cy="1425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Rectangle 7"/>
          <p:cNvSpPr/>
          <p:nvPr/>
        </p:nvSpPr>
        <p:spPr>
          <a:xfrm>
            <a:off x="1214280" y="3714840"/>
            <a:ext cx="314352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Rectangle 8"/>
          <p:cNvSpPr/>
          <p:nvPr/>
        </p:nvSpPr>
        <p:spPr>
          <a:xfrm>
            <a:off x="1214280" y="4071960"/>
            <a:ext cx="314352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Rectangle 9"/>
          <p:cNvSpPr/>
          <p:nvPr/>
        </p:nvSpPr>
        <p:spPr>
          <a:xfrm>
            <a:off x="1214280" y="4429080"/>
            <a:ext cx="314352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Rectangle 10"/>
          <p:cNvSpPr/>
          <p:nvPr/>
        </p:nvSpPr>
        <p:spPr>
          <a:xfrm>
            <a:off x="1214280" y="4786200"/>
            <a:ext cx="314352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Straight Connector 12"/>
          <p:cNvSpPr/>
          <p:nvPr/>
        </p:nvSpPr>
        <p:spPr>
          <a:xfrm>
            <a:off x="500040" y="3357720"/>
            <a:ext cx="4357800" cy="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Straight Connector 14"/>
          <p:cNvSpPr/>
          <p:nvPr/>
        </p:nvSpPr>
        <p:spPr>
          <a:xfrm>
            <a:off x="4857840" y="3357720"/>
            <a:ext cx="0" cy="15714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Straight Connector 16"/>
          <p:cNvSpPr/>
          <p:nvPr/>
        </p:nvSpPr>
        <p:spPr>
          <a:xfrm>
            <a:off x="500040" y="4929120"/>
            <a:ext cx="4357800" cy="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Straight Connector 20"/>
          <p:cNvSpPr/>
          <p:nvPr/>
        </p:nvSpPr>
        <p:spPr>
          <a:xfrm>
            <a:off x="500040" y="3357720"/>
            <a:ext cx="0" cy="100008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Straight Connector 21"/>
          <p:cNvSpPr/>
          <p:nvPr/>
        </p:nvSpPr>
        <p:spPr>
          <a:xfrm>
            <a:off x="500040" y="4714920"/>
            <a:ext cx="0" cy="2858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8" name="Straight Arrow Connector 30"/>
          <p:cNvCxnSpPr/>
          <p:nvPr/>
        </p:nvCxnSpPr>
        <p:spPr>
          <a:xfrm>
            <a:off x="428760" y="4572000"/>
            <a:ext cx="3578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159" name="Rectangle 34"/>
          <p:cNvSpPr/>
          <p:nvPr/>
        </p:nvSpPr>
        <p:spPr>
          <a:xfrm flipV="1" rot="5400000">
            <a:off x="3977640" y="4047840"/>
            <a:ext cx="1571400" cy="189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0" name="Straight Arrow Connector 35"/>
          <p:cNvCxnSpPr/>
          <p:nvPr/>
        </p:nvCxnSpPr>
        <p:spPr>
          <a:xfrm flipV="1">
            <a:off x="4500720" y="3642840"/>
            <a:ext cx="10080" cy="3470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61" name="Straight Arrow Connector 36"/>
          <p:cNvCxnSpPr/>
          <p:nvPr/>
        </p:nvCxnSpPr>
        <p:spPr>
          <a:xfrm flipV="1">
            <a:off x="4500720" y="4357440"/>
            <a:ext cx="2160" cy="3578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62" name="Straight Arrow Connector 37"/>
          <p:cNvCxnSpPr/>
          <p:nvPr/>
        </p:nvCxnSpPr>
        <p:spPr>
          <a:xfrm>
            <a:off x="1356840" y="4714920"/>
            <a:ext cx="307260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63" name="Straight Arrow Connector 40"/>
          <p:cNvCxnSpPr/>
          <p:nvPr/>
        </p:nvCxnSpPr>
        <p:spPr>
          <a:xfrm>
            <a:off x="1356840" y="4000680"/>
            <a:ext cx="307260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64" name="Straight Arrow Connector 41"/>
          <p:cNvCxnSpPr/>
          <p:nvPr/>
        </p:nvCxnSpPr>
        <p:spPr>
          <a:xfrm flipH="1" flipV="1">
            <a:off x="1213920" y="4357440"/>
            <a:ext cx="31442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65" name="Straight Arrow Connector 44"/>
          <p:cNvCxnSpPr/>
          <p:nvPr/>
        </p:nvCxnSpPr>
        <p:spPr>
          <a:xfrm flipH="1" flipV="1">
            <a:off x="1213920" y="3642480"/>
            <a:ext cx="3144240" cy="25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66" name="Straight Arrow Connector 47"/>
          <p:cNvCxnSpPr/>
          <p:nvPr/>
        </p:nvCxnSpPr>
        <p:spPr>
          <a:xfrm flipV="1">
            <a:off x="1071720" y="3999960"/>
            <a:ext cx="10080" cy="3466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167" name="Rectangle 48"/>
          <p:cNvSpPr/>
          <p:nvPr/>
        </p:nvSpPr>
        <p:spPr>
          <a:xfrm>
            <a:off x="785880" y="3500280"/>
            <a:ext cx="7128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Rectangle 49"/>
          <p:cNvSpPr/>
          <p:nvPr/>
        </p:nvSpPr>
        <p:spPr>
          <a:xfrm>
            <a:off x="785880" y="3786120"/>
            <a:ext cx="7128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Rectangle 50"/>
          <p:cNvSpPr/>
          <p:nvPr/>
        </p:nvSpPr>
        <p:spPr>
          <a:xfrm>
            <a:off x="785880" y="4143240"/>
            <a:ext cx="7128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Rectangle 51"/>
          <p:cNvSpPr/>
          <p:nvPr/>
        </p:nvSpPr>
        <p:spPr>
          <a:xfrm>
            <a:off x="428760" y="6000840"/>
            <a:ext cx="7128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1" name="Straight Arrow Connector 52"/>
          <p:cNvCxnSpPr/>
          <p:nvPr/>
        </p:nvCxnSpPr>
        <p:spPr>
          <a:xfrm flipH="1" flipV="1">
            <a:off x="785520" y="3428640"/>
            <a:ext cx="348480" cy="720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72" name="Straight Arrow Connector 54"/>
          <p:cNvCxnSpPr/>
          <p:nvPr/>
        </p:nvCxnSpPr>
        <p:spPr>
          <a:xfrm>
            <a:off x="642960" y="3499920"/>
            <a:ext cx="10080" cy="3582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73" name="Straight Arrow Connector 56"/>
          <p:cNvCxnSpPr/>
          <p:nvPr/>
        </p:nvCxnSpPr>
        <p:spPr>
          <a:xfrm flipH="1">
            <a:off x="641160" y="3930120"/>
            <a:ext cx="2160" cy="3582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74" name="Straight Arrow Connector 59"/>
          <p:cNvCxnSpPr/>
          <p:nvPr/>
        </p:nvCxnSpPr>
        <p:spPr>
          <a:xfrm flipH="1">
            <a:off x="285120" y="4428000"/>
            <a:ext cx="338760" cy="104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a573">
            <a:alpha val="9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Date Placeholder 3"/>
          <p:cNvSpPr/>
          <p:nvPr/>
        </p:nvSpPr>
        <p:spPr>
          <a:xfrm>
            <a:off x="285840" y="6356520"/>
            <a:ext cx="1071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A56D0-3A38-44D3-97C1-709D410102F3}" type="datetime">
              <a:rPr b="0" lang="ro-RO" sz="1600" spc="-1" strike="noStrike">
                <a:solidFill>
                  <a:srgbClr val="002c3e"/>
                </a:solidFill>
                <a:latin typeface="Constantia"/>
              </a:rPr>
              <a:t>31.07.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1DCAE-DF1F-4A47-B03B-C33A53142137}" type="slidenum">
              <a:rPr b="0" lang="ro-RO" sz="1600" spc="-1" strike="noStrike">
                <a:solidFill>
                  <a:srgbClr val="002c3e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 txBox="1"/>
          <p:nvPr/>
        </p:nvSpPr>
        <p:spPr>
          <a:xfrm>
            <a:off x="214200" y="285840"/>
            <a:ext cx="8715600" cy="60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c3e"/>
                </a:solidFill>
                <a:latin typeface="Constantia"/>
              </a:rPr>
              <a:t>b) </a:t>
            </a:r>
            <a:r>
              <a:rPr b="0" lang="ro-RO" sz="2400" spc="-1" strike="noStrike">
                <a:solidFill>
                  <a:srgbClr val="002c3e"/>
                </a:solidFill>
                <a:latin typeface="Constantia"/>
              </a:rPr>
              <a:t>Perpendicular pe axa longitudinală  a sălii de vânzare – fluxul clienţilor este orientat astfel încât punctul de plecare să corespundă cu punctul de sosire. Numărul rândurilor de gondole dispuse pe mijlocul suprafeţei de vânzare trebuie să fie impa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2c3e"/>
                </a:solidFill>
                <a:latin typeface="Constantia"/>
              </a:rPr>
              <a:t>În magazinele cu vânzare clasică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2c3e"/>
                </a:solidFill>
                <a:latin typeface="Constantia"/>
              </a:rPr>
              <a:t>mobilierul poate fi dispus de-a lungul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2c3e"/>
                </a:solidFill>
                <a:latin typeface="Constantia"/>
              </a:rPr>
              <a:t>pereţilor  şi în mijlocul sălilor de vânzar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78" name="Picture 2" descr=""/>
          <p:cNvPicPr/>
          <p:nvPr/>
        </p:nvPicPr>
        <p:blipFill>
          <a:blip r:embed="rId1"/>
          <a:stretch/>
        </p:blipFill>
        <p:spPr>
          <a:xfrm>
            <a:off x="5786280" y="4357800"/>
            <a:ext cx="3262320" cy="2136600"/>
          </a:xfrm>
          <a:prstGeom prst="rect">
            <a:avLst/>
          </a:prstGeom>
          <a:ln w="0">
            <a:noFill/>
          </a:ln>
        </p:spPr>
      </p:pic>
      <p:sp>
        <p:nvSpPr>
          <p:cNvPr id="1179" name="Straight Connector 7"/>
          <p:cNvSpPr/>
          <p:nvPr/>
        </p:nvSpPr>
        <p:spPr>
          <a:xfrm>
            <a:off x="857160" y="1928880"/>
            <a:ext cx="4857840" cy="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Straight Connector 8"/>
          <p:cNvSpPr/>
          <p:nvPr/>
        </p:nvSpPr>
        <p:spPr>
          <a:xfrm flipV="1">
            <a:off x="857160" y="1928880"/>
            <a:ext cx="0" cy="22860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Straight Connector 9"/>
          <p:cNvSpPr/>
          <p:nvPr/>
        </p:nvSpPr>
        <p:spPr>
          <a:xfrm>
            <a:off x="5715000" y="1928880"/>
            <a:ext cx="0" cy="25002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Rectangle 17"/>
          <p:cNvSpPr/>
          <p:nvPr/>
        </p:nvSpPr>
        <p:spPr>
          <a:xfrm>
            <a:off x="1214280" y="1928880"/>
            <a:ext cx="4071960" cy="214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Rectangle 18"/>
          <p:cNvSpPr/>
          <p:nvPr/>
        </p:nvSpPr>
        <p:spPr>
          <a:xfrm flipV="1">
            <a:off x="857160" y="1928160"/>
            <a:ext cx="214560" cy="2500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Rectangle 19"/>
          <p:cNvSpPr/>
          <p:nvPr/>
        </p:nvSpPr>
        <p:spPr>
          <a:xfrm rot="5400000">
            <a:off x="4566960" y="2862360"/>
            <a:ext cx="2071800" cy="2048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Rectangle 20"/>
          <p:cNvSpPr/>
          <p:nvPr/>
        </p:nvSpPr>
        <p:spPr>
          <a:xfrm rot="5400000">
            <a:off x="4250520" y="2964600"/>
            <a:ext cx="1571760" cy="2145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Rectangle 21"/>
          <p:cNvSpPr/>
          <p:nvPr/>
        </p:nvSpPr>
        <p:spPr>
          <a:xfrm rot="5400000">
            <a:off x="1892520" y="2964600"/>
            <a:ext cx="1571760" cy="214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Rectangle 22"/>
          <p:cNvSpPr/>
          <p:nvPr/>
        </p:nvSpPr>
        <p:spPr>
          <a:xfrm rot="5400000">
            <a:off x="2535480" y="2964600"/>
            <a:ext cx="1571760" cy="214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Rectangle 23"/>
          <p:cNvSpPr/>
          <p:nvPr/>
        </p:nvSpPr>
        <p:spPr>
          <a:xfrm rot="5400000">
            <a:off x="3107520" y="2964600"/>
            <a:ext cx="1571760" cy="2145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Rectangle 24"/>
          <p:cNvSpPr/>
          <p:nvPr/>
        </p:nvSpPr>
        <p:spPr>
          <a:xfrm rot="5400000">
            <a:off x="3678480" y="2964600"/>
            <a:ext cx="1571760" cy="214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Rectangle 25"/>
          <p:cNvSpPr/>
          <p:nvPr/>
        </p:nvSpPr>
        <p:spPr>
          <a:xfrm rot="5400000">
            <a:off x="749520" y="2964600"/>
            <a:ext cx="1571760" cy="214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Rectangle 26"/>
          <p:cNvSpPr/>
          <p:nvPr/>
        </p:nvSpPr>
        <p:spPr>
          <a:xfrm rot="5400000">
            <a:off x="1321200" y="2964600"/>
            <a:ext cx="1571760" cy="2145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Straight Connector 30"/>
          <p:cNvSpPr/>
          <p:nvPr/>
        </p:nvSpPr>
        <p:spPr>
          <a:xfrm>
            <a:off x="857160" y="4429080"/>
            <a:ext cx="3929040" cy="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Straight Connector 34"/>
          <p:cNvSpPr/>
          <p:nvPr/>
        </p:nvSpPr>
        <p:spPr>
          <a:xfrm>
            <a:off x="5143680" y="4429080"/>
            <a:ext cx="571320" cy="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Rectangle 36"/>
          <p:cNvSpPr/>
          <p:nvPr/>
        </p:nvSpPr>
        <p:spPr>
          <a:xfrm>
            <a:off x="1714680" y="4143240"/>
            <a:ext cx="214200" cy="716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Rectangle 37"/>
          <p:cNvSpPr/>
          <p:nvPr/>
        </p:nvSpPr>
        <p:spPr>
          <a:xfrm>
            <a:off x="2286000" y="4143240"/>
            <a:ext cx="214200" cy="716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Rectangle 38"/>
          <p:cNvSpPr/>
          <p:nvPr/>
        </p:nvSpPr>
        <p:spPr>
          <a:xfrm>
            <a:off x="2857680" y="4143240"/>
            <a:ext cx="214200" cy="716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Rectangle 39"/>
          <p:cNvSpPr/>
          <p:nvPr/>
        </p:nvSpPr>
        <p:spPr>
          <a:xfrm>
            <a:off x="3500280" y="4143240"/>
            <a:ext cx="214560" cy="716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Rectangle 40"/>
          <p:cNvSpPr/>
          <p:nvPr/>
        </p:nvSpPr>
        <p:spPr>
          <a:xfrm>
            <a:off x="4214880" y="4143240"/>
            <a:ext cx="214200" cy="716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9" name="Straight Arrow Connector 43"/>
          <p:cNvCxnSpPr/>
          <p:nvPr/>
        </p:nvCxnSpPr>
        <p:spPr>
          <a:xfrm flipV="1">
            <a:off x="5072040" y="4144680"/>
            <a:ext cx="2160" cy="4291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0" name="Straight Arrow Connector 44"/>
          <p:cNvCxnSpPr/>
          <p:nvPr/>
        </p:nvCxnSpPr>
        <p:spPr>
          <a:xfrm>
            <a:off x="4856760" y="4143240"/>
            <a:ext cx="11880" cy="5119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1" name="Straight Arrow Connector 46"/>
          <p:cNvCxnSpPr/>
          <p:nvPr/>
        </p:nvCxnSpPr>
        <p:spPr>
          <a:xfrm flipV="1">
            <a:off x="5072040" y="3928320"/>
            <a:ext cx="286560" cy="2149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2" name="Straight Arrow Connector 48"/>
          <p:cNvCxnSpPr/>
          <p:nvPr/>
        </p:nvCxnSpPr>
        <p:spPr>
          <a:xfrm flipV="1">
            <a:off x="5357880" y="2285640"/>
            <a:ext cx="2160" cy="15739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3" name="Straight Arrow Connector 50"/>
          <p:cNvCxnSpPr/>
          <p:nvPr/>
        </p:nvCxnSpPr>
        <p:spPr>
          <a:xfrm flipH="1" flipV="1">
            <a:off x="4285800" y="3928680"/>
            <a:ext cx="3578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4" name="Straight Arrow Connector 52"/>
          <p:cNvCxnSpPr/>
          <p:nvPr/>
        </p:nvCxnSpPr>
        <p:spPr>
          <a:xfrm flipH="1" flipV="1">
            <a:off x="3714480" y="2214360"/>
            <a:ext cx="3578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5" name="Straight Arrow Connector 53"/>
          <p:cNvCxnSpPr/>
          <p:nvPr/>
        </p:nvCxnSpPr>
        <p:spPr>
          <a:xfrm flipH="1" flipV="1">
            <a:off x="3142800" y="3928680"/>
            <a:ext cx="3578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6" name="Straight Arrow Connector 54"/>
          <p:cNvCxnSpPr/>
          <p:nvPr/>
        </p:nvCxnSpPr>
        <p:spPr>
          <a:xfrm flipH="1" flipV="1">
            <a:off x="2785680" y="2214360"/>
            <a:ext cx="3578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7" name="Straight Arrow Connector 55"/>
          <p:cNvCxnSpPr/>
          <p:nvPr/>
        </p:nvCxnSpPr>
        <p:spPr>
          <a:xfrm flipH="1" flipV="1">
            <a:off x="2499480" y="3928680"/>
            <a:ext cx="35820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8" name="Straight Arrow Connector 56"/>
          <p:cNvCxnSpPr/>
          <p:nvPr/>
        </p:nvCxnSpPr>
        <p:spPr>
          <a:xfrm flipH="1" flipV="1">
            <a:off x="1928520" y="3928680"/>
            <a:ext cx="3578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9" name="Straight Arrow Connector 57"/>
          <p:cNvCxnSpPr/>
          <p:nvPr/>
        </p:nvCxnSpPr>
        <p:spPr>
          <a:xfrm flipH="1" flipV="1">
            <a:off x="3714480" y="3928680"/>
            <a:ext cx="3578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0" name="Straight Arrow Connector 58"/>
          <p:cNvCxnSpPr/>
          <p:nvPr/>
        </p:nvCxnSpPr>
        <p:spPr>
          <a:xfrm flipH="1" flipV="1">
            <a:off x="4785480" y="2214360"/>
            <a:ext cx="35820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1" name="Straight Arrow Connector 59"/>
          <p:cNvCxnSpPr/>
          <p:nvPr/>
        </p:nvCxnSpPr>
        <p:spPr>
          <a:xfrm flipV="1">
            <a:off x="4214880" y="2285640"/>
            <a:ext cx="2160" cy="15724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2" name="Straight Arrow Connector 60"/>
          <p:cNvCxnSpPr/>
          <p:nvPr/>
        </p:nvCxnSpPr>
        <p:spPr>
          <a:xfrm flipV="1">
            <a:off x="2999160" y="2356920"/>
            <a:ext cx="2520" cy="15724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3" name="Straight Arrow Connector 61"/>
          <p:cNvCxnSpPr/>
          <p:nvPr/>
        </p:nvCxnSpPr>
        <p:spPr>
          <a:xfrm flipV="1">
            <a:off x="1856160" y="2285640"/>
            <a:ext cx="2520" cy="15724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4" name="Straight Arrow Connector 62"/>
          <p:cNvCxnSpPr/>
          <p:nvPr/>
        </p:nvCxnSpPr>
        <p:spPr>
          <a:xfrm>
            <a:off x="4785120" y="2285640"/>
            <a:ext cx="2520" cy="15008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5" name="Straight Arrow Connector 65"/>
          <p:cNvCxnSpPr/>
          <p:nvPr/>
        </p:nvCxnSpPr>
        <p:spPr>
          <a:xfrm>
            <a:off x="3642120" y="2357280"/>
            <a:ext cx="2520" cy="15012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6" name="Straight Arrow Connector 66"/>
          <p:cNvCxnSpPr/>
          <p:nvPr/>
        </p:nvCxnSpPr>
        <p:spPr>
          <a:xfrm>
            <a:off x="2428920" y="2357280"/>
            <a:ext cx="2160" cy="15012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7" name="Straight Arrow Connector 67"/>
          <p:cNvCxnSpPr/>
          <p:nvPr/>
        </p:nvCxnSpPr>
        <p:spPr>
          <a:xfrm>
            <a:off x="1213200" y="2285640"/>
            <a:ext cx="2520" cy="15008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8" name="Straight Arrow Connector 69"/>
          <p:cNvCxnSpPr/>
          <p:nvPr/>
        </p:nvCxnSpPr>
        <p:spPr>
          <a:xfrm flipH="1" flipV="1">
            <a:off x="1285200" y="2214360"/>
            <a:ext cx="42948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9" name="Straight Arrow Connector 71"/>
          <p:cNvCxnSpPr/>
          <p:nvPr/>
        </p:nvCxnSpPr>
        <p:spPr>
          <a:xfrm>
            <a:off x="1213200" y="3857400"/>
            <a:ext cx="10440" cy="3690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20" name="Straight Arrow Connector 72"/>
          <p:cNvCxnSpPr/>
          <p:nvPr/>
        </p:nvCxnSpPr>
        <p:spPr>
          <a:xfrm>
            <a:off x="1214280" y="4357800"/>
            <a:ext cx="350136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be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64296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2c3e"/>
                </a:solidFill>
                <a:latin typeface="Calibri"/>
              </a:rPr>
              <a:t>III. Comportamentul spaţial al clienţilor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2" name="Date Placeholder 3"/>
          <p:cNvSpPr/>
          <p:nvPr/>
        </p:nvSpPr>
        <p:spPr>
          <a:xfrm>
            <a:off x="457200" y="6356520"/>
            <a:ext cx="97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371A3-EAF5-439B-8F3E-30908A5480B2}" type="datetime">
              <a:rPr b="0" lang="ro-RO" sz="1600" spc="-1" strike="noStrike">
                <a:solidFill>
                  <a:srgbClr val="002c3e"/>
                </a:solidFill>
                <a:latin typeface="Constantia"/>
              </a:rPr>
              <a:t>31.07.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9CE52-B4CD-445F-9253-B9F281BB6E62}" type="slidenum">
              <a:rPr b="0" lang="ro-RO" sz="1600" spc="-1" strike="noStrike">
                <a:solidFill>
                  <a:srgbClr val="002c3e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 txBox="1"/>
          <p:nvPr/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Spaţiile pentru circulaţia clienţilor sunt următoarel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a) căi principale de circulaţie – determină direcţia fluxului cumpărători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b) culoare pentru efectuarea cumpărăturilo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c) spaţii de staţionare – în faţa lifturilor, scărilor rulante, caselor de marca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a19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Title 1" descr=""/>
          <p:cNvPicPr/>
          <p:nvPr/>
        </p:nvPicPr>
        <p:blipFill>
          <a:blip r:embed="rId1"/>
          <a:stretch/>
        </p:blipFill>
        <p:spPr>
          <a:xfrm>
            <a:off x="646200" y="-365040"/>
            <a:ext cx="7626240" cy="1650960"/>
          </a:xfrm>
          <a:prstGeom prst="rect">
            <a:avLst/>
          </a:prstGeom>
          <a:ln w="0">
            <a:noFill/>
          </a:ln>
        </p:spPr>
      </p:pic>
      <p:sp>
        <p:nvSpPr>
          <p:cNvPr id="122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EFA51-A10D-43D5-BD8A-BC1510C5CF65}" type="datetime">
              <a:rPr b="0" lang="ro-RO" sz="1600" spc="-1" strike="noStrike">
                <a:solidFill>
                  <a:srgbClr val="00364c"/>
                </a:solidFill>
                <a:latin typeface="Constantia"/>
              </a:rPr>
              <a:t>31.07.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F48D4-A0D4-4A02-AA19-A1A1E9C4A035}" type="slidenum">
              <a:rPr b="0" lang="ro-RO" sz="1600" spc="-1" strike="noStrike">
                <a:solidFill>
                  <a:srgbClr val="00364c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 txBox="1"/>
          <p:nvPr/>
        </p:nvSpPr>
        <p:spPr>
          <a:xfrm>
            <a:off x="457200" y="12859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Brush Script MT"/>
              </a:rPr>
              <a:t>Fluxul mărfurilor şi ambalajelor într-un depozit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9" name="Rectangle 10"/>
          <p:cNvSpPr/>
          <p:nvPr/>
        </p:nvSpPr>
        <p:spPr>
          <a:xfrm>
            <a:off x="3571920" y="2143080"/>
            <a:ext cx="503280" cy="432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Rectangle 11"/>
          <p:cNvSpPr/>
          <p:nvPr/>
        </p:nvSpPr>
        <p:spPr>
          <a:xfrm>
            <a:off x="4500720" y="2143080"/>
            <a:ext cx="1944360" cy="432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PRIMI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Rectangle 12"/>
          <p:cNvSpPr/>
          <p:nvPr/>
        </p:nvSpPr>
        <p:spPr>
          <a:xfrm>
            <a:off x="3571920" y="3000240"/>
            <a:ext cx="503280" cy="432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Rectangle 13"/>
          <p:cNvSpPr/>
          <p:nvPr/>
        </p:nvSpPr>
        <p:spPr>
          <a:xfrm>
            <a:off x="3571920" y="3929040"/>
            <a:ext cx="503280" cy="432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Rectangle 14"/>
          <p:cNvSpPr/>
          <p:nvPr/>
        </p:nvSpPr>
        <p:spPr>
          <a:xfrm>
            <a:off x="4500720" y="3000240"/>
            <a:ext cx="1944360" cy="4827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DESCĂRCARE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Rectangle 15"/>
          <p:cNvSpPr/>
          <p:nvPr/>
        </p:nvSpPr>
        <p:spPr>
          <a:xfrm>
            <a:off x="4500720" y="3929040"/>
            <a:ext cx="1944360" cy="4287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DEPOZIT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Rectangle 16"/>
          <p:cNvSpPr/>
          <p:nvPr/>
        </p:nvSpPr>
        <p:spPr>
          <a:xfrm>
            <a:off x="3571920" y="4786200"/>
            <a:ext cx="503280" cy="432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Rectangle 17"/>
          <p:cNvSpPr/>
          <p:nvPr/>
        </p:nvSpPr>
        <p:spPr>
          <a:xfrm>
            <a:off x="4500720" y="4786200"/>
            <a:ext cx="1944360" cy="4287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TRANSPORT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Rectangle 18"/>
          <p:cNvSpPr/>
          <p:nvPr/>
        </p:nvSpPr>
        <p:spPr>
          <a:xfrm>
            <a:off x="3571920" y="5643720"/>
            <a:ext cx="503280" cy="4284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Rectangle 19"/>
          <p:cNvSpPr/>
          <p:nvPr/>
        </p:nvSpPr>
        <p:spPr>
          <a:xfrm>
            <a:off x="4429080" y="5643720"/>
            <a:ext cx="1944720" cy="4284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VÂNZ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9" name="Straight Arrow Connector 20"/>
          <p:cNvCxnSpPr>
            <a:stCxn id="1230" idx="2"/>
            <a:endCxn id="1233" idx="0"/>
          </p:cNvCxnSpPr>
          <p:nvPr/>
        </p:nvCxnSpPr>
        <p:spPr>
          <a:xfrm flipH="1">
            <a:off x="5471280" y="2574720"/>
            <a:ext cx="2520" cy="425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0" name="Straight Arrow Connector 21"/>
          <p:cNvCxnSpPr/>
          <p:nvPr/>
        </p:nvCxnSpPr>
        <p:spPr>
          <a:xfrm>
            <a:off x="5357520" y="3500280"/>
            <a:ext cx="1080" cy="43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1" name="Straight Arrow Connector 22"/>
          <p:cNvCxnSpPr/>
          <p:nvPr/>
        </p:nvCxnSpPr>
        <p:spPr>
          <a:xfrm>
            <a:off x="5357520" y="4357800"/>
            <a:ext cx="1080" cy="43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2" name="Straight Arrow Connector 23"/>
          <p:cNvCxnSpPr/>
          <p:nvPr/>
        </p:nvCxnSpPr>
        <p:spPr>
          <a:xfrm>
            <a:off x="5357520" y="5214600"/>
            <a:ext cx="108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afcf"/>
            </a:gs>
            <a:gs pos="100000">
              <a:srgbClr val="ffe5d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"/>
          <p:cNvSpPr txBox="1"/>
          <p:nvPr/>
        </p:nvSpPr>
        <p:spPr>
          <a:xfrm>
            <a:off x="285840" y="499680"/>
            <a:ext cx="8501040" cy="5506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0000"/>
                </a:solidFill>
                <a:latin typeface="comic"/>
              </a:rPr>
              <a:t>Activitate de învat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Reprezentaţi grafic un spaţiu comercial, având la bază cunoştinţele asimilate pe parcursul capitolului, experienţele proprii şi respectând următoarele cerinţe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magazinul este cu autoservire şi cu un singur nivel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se aplică implantarea în detaliu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gondolele sunt orientate în lungul axei longi-tudinale a sălii de vânzar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Evidenţiaţi fluxul clienţilo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4" name="Date Placeholder 2"/>
          <p:cNvSpPr/>
          <p:nvPr/>
        </p:nvSpPr>
        <p:spPr>
          <a:xfrm>
            <a:off x="428760" y="6286680"/>
            <a:ext cx="121428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0CCBF-AA40-47C9-A731-6B398E465C49}" type="datetime">
              <a:rPr b="1" i="1" lang="ro-RO" sz="1200" spc="-1" strike="noStrike">
                <a:solidFill>
                  <a:srgbClr val="000000"/>
                </a:solidFill>
                <a:latin typeface="Verdan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Slide Number Placeholder 4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478C5-167C-4A3F-A807-6E057FA8238E}" type="slidenum">
              <a:rPr b="1" i="1" lang="ro-RO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5-03T16:59:54Z</dcterms:created>
  <dc:creator>cristina maria</dc:creator>
  <dc:description/>
  <dc:language>en-US</dc:language>
  <cp:lastModifiedBy>cristina maria</cp:lastModifiedBy>
  <dcterms:modified xsi:type="dcterms:W3CDTF">2020-05-04T15:08:49Z</dcterms:modified>
  <cp:revision>16</cp:revision>
  <dc:subject/>
  <dc:title>Slide 1</dc:title>
</cp:coreProperties>
</file>